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489-4124-4CCD-BCA0-34F721DDFF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543A-94C7-4AF6-ACC2-C6D503654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4F4-B0B5-4C74-B1A1-5FF82E74A5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9B80-1A94-4DE3-ACA3-EB18185235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F3D-F9BF-4A7E-9C3F-8EF33C75E2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58C-C366-414B-97A6-3B7CA04545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A8D-50A5-4604-BAA8-C5A7214D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3E6-ECB1-4B70-8EF9-60CDC26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305-ECEF-4B57-A05D-B435DA45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19D-702F-400C-95D2-40E70748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F06-0F08-4A20-8F56-1BC0F72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214-BC74-49EA-97E2-87DE1C8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5E9-6A6F-4DDD-AB90-D30E88F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B09-5EFF-4552-ACF0-7465AA4B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29A-A002-49A1-86BA-1EDE02B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340-D03B-45BB-962D-55002A1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E4E-9674-4329-AED3-73E9B33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E94-5642-4F51-AA8F-5B8B4D0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922-1E8D-44D4-95E4-BCFD9532C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A2F-BF9F-4F3C-B669-E30544286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6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karyotic Cell – Cell orga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ell Organe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4C1-DC83-40A5-A071-B5F187ABCB6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35C-CAA2-46E6-AB7C-6ABAB2BED17B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4284720" y="1452600"/>
            <a:ext cx="453708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265-FCBB-4BE9-9D76-B0C75B2293CE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025"/>
          <p:cNvPicPr/>
          <p:nvPr/>
        </p:nvPicPr>
        <p:blipFill>
          <a:blip r:embed="rId1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61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3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membranes compartmentalize the eukaryotic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&amp; Animal Cells: Similarities and 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som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12FE-D049-4D70-916D-DFB8DFF4D7F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68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MS PGothic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MS PGothic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MS PGothic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74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  <a:ea typeface="MS PGothic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  <a:ea typeface="MS PGothic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656-876F-478A-BEAE-4B68D3FBAFD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52B-2E14-4F9D-A126-0C81416A33E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9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ed</cp:lastModifiedBy>
  <dcterms:modified xsi:type="dcterms:W3CDTF">2016-01-20T04:06:17Z</dcterms:modified>
  <cp:revision>29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