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1EC2-6DB4-491C-9019-1E854F3692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BBA-9984-4A8F-A19F-EF4FA6486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4CF-AA64-4CD0-86B3-ED3AA9F6DB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D6EB-92ED-45F5-9AEA-A7A07A0D2D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0A8D-3CCD-4EB2-8C84-9FB0134352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2E4-078C-46F2-B619-8D6AD4A52E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338-F195-4BEB-A6CB-5E416E4F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167-D244-43C5-9643-B485C4F1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62A-FEC5-444F-A4FA-A8618AEA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4EE-1E9E-4F44-8D58-46F5E7C5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AAC-7AD4-4851-A783-C16B0B5B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BCA-4615-4275-A488-6EC2BCA5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0FE-8CB1-4455-A974-A449978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798-6201-4C95-88F0-80DCC9D8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0FB-5265-4D45-A09C-79AE4AFB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654-64FD-4DE1-A5C8-ADCAE287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F35-AAE9-4FCE-8F61-BF8929F7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2E3-B9FD-4648-A840-5F94FD23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2FC-D75E-4127-8C72-C1A34393A1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5939-600C-4C32-9D32-D95E9259D8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6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karyotic Cell – Cell organ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ell Organel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50E5-6A87-4B4D-80FC-BA0C7FA6E5A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E590-458F-48D5-91F6-ABA4A50AF432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4284720" y="1452600"/>
            <a:ext cx="4537080" cy="267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D20-0AE6-43D3-A731-542E778A26E9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A025"/>
          <p:cNvPicPr/>
          <p:nvPr/>
        </p:nvPicPr>
        <p:blipFill>
          <a:blip r:embed="rId1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61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2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3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karyoti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membranes compartmentalize the eukaryotic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&amp; Animal Cells: Similarities and 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l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bosome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50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Rib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D13D-BE78-4626-8A1C-198D96D2E41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68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MS PGothic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MS PGothic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  <a:ea typeface="MS PGothic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74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  <a:ea typeface="MS PGothic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  <a:ea typeface="MS PGothic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CC30-CB37-4EC3-8294-7E28D62A146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875C-2786-4227-A995-4B2BB459467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1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9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mohamed</cp:lastModifiedBy>
  <dcterms:modified xsi:type="dcterms:W3CDTF">2016-01-20T04:06:17Z</dcterms:modified>
  <cp:revision>29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