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13F1-9985-4567-97B8-8475452D376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54CC-DB2B-4DDD-9839-FB0FC0094A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4ED12-43B5-4375-84AE-A09CF762E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6E8A-38E7-425D-8B05-D5F11D407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2AB8B-4718-4E65-9EEF-FF3FFE333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0194E-37C2-4DBD-B860-05A693941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4CF43-D555-40A8-A5E8-87D5A6FD0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B9D32-E76D-4CC9-A433-E6CAEF689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5666-5CA2-4B1F-912B-00619073C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25756-4EA4-40BE-84EE-7660B877E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0A2CF-08C4-40F4-A250-EC705D54A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033B6-E7F7-4FD1-A811-EEEA89642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16166-7053-449F-B5C3-9E1C2592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4667-C0FF-421A-A73D-E566436C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FA353-B842-4BCD-9B2A-1BD78EB89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F4174-8AE4-4852-A3C3-4A2C894E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01C32-8735-4C30-A71E-1359C0B2A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33CC4-6D29-4617-ACA0-F3C2A3616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CDEC4-55E5-48E9-B262-2ADE7F71F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1F89E0-979F-4340-BE11-03BF4A829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306974-D930-4B1F-B6CD-84F4E1C94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C0F3F9-8DCA-42C7-8D6A-F6CDD5BE2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12F03D-B963-4DE5-A6DD-4D60EF5D1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88F72F-D655-488E-9CB1-6BAF12279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297C3-4B74-4933-82B1-3196BC96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1AB4EC-BC3D-4A59-A98D-DDE7FF2CF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CAA330-B13E-40C9-A433-8B086A0C8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54A9E4-EE63-4AC0-9F14-B362F2DC3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C04EE6-DEE0-4F55-B886-B20F430EA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EDB438-FB85-4B5E-9749-26AD24948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2BFD02-F861-44F8-9009-62A089E12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06269B-8DF7-4F93-A2BA-60BE064162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3C920-43F7-4858-99CC-E65F13D88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41612-197A-4E7C-ADEE-CA35B2D69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6D2E9-99E9-4DE4-9A3E-297833F6F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AA11D-B8D9-415B-A2C2-91EDF16F4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A106D-D334-40B1-B15A-F11BB14C7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D8630-74FA-428C-8E23-B761F5B90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7E3F6-7749-4C77-9CBC-A150292AC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34FDD-1791-4BAD-9FB7-35178FCE3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A1CCA-7682-4102-8CF3-AF3C1DE05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C335B-A5C9-418B-9AEF-3D8FD08D9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2EF1AD-11CE-492B-886B-BA0E866C4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223758-A05B-4BA0-ACF4-79F54FBFC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F7F8E3-D319-420D-A72B-6C17050438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0BA62D-2FE3-4C3E-9C1C-953AA5A098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BE13-2D52-49F1-8C54-21669143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C98AA3-4AD0-4209-A25C-BF1CC4231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2C3F94-1205-44D5-A32C-33468DF46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B09723-FCF4-4969-B908-339032EFC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C8F78D-1ABC-4C80-B8C3-4B9752D68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2F6E0F-3717-444B-99BD-F0A50375C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21DB44-7F2B-49EF-9F75-53BC04157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9DCAD3-7CF9-4BE1-9E62-6E6BE7EC4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697629-97A6-4A27-8C4E-B957ED33F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6A7853-F78A-42B1-9946-F762A607C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5FCC45-FBC5-4A9D-9B50-0D69BC8B5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5CF6-337F-41CF-900D-B32FFDDF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1E7B0D-EBF6-400D-9B49-BE8294391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F76638-15AC-4DF3-9B2D-BA06A1E67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7DBF4C9-AEC5-4066-A4D3-64607B800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E864A3-BD91-431E-AF27-F2A5643F3B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DF5265-3DF0-4394-A9CF-CEB2567F0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1FD039-8C12-4B4E-8C89-EE4DD51950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A617E0-8E80-4588-B9C5-D64925055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E8168C-EF81-448C-8E1E-FB0A560C3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2CD3B9-4C41-4AA9-9BFE-51ACE469B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2301B6-06A4-4E2D-B5E9-4E1462F9D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29DC-AD98-4F9F-9BCE-9ABBA69B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1BE4456-0173-4E0B-9BBA-F0CBD0727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C9B50EC-41FF-490C-8237-2BEF55E83C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D79EC8-FCF9-453B-B122-904BBF511D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580B37-C095-43BE-970D-B478C32D7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5043F2-5AEB-4858-819A-B7E647789A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C6BAE6-C098-4E3D-8AE8-CDAEBA68CF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6FD655B-AD04-466D-9EE1-FFEE78CEDB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3D54D6-48B7-4523-9E76-76504B143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F4B979-EBF7-449E-80D5-58BA93ED7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C0747C-EF57-4B7B-A32E-F2704C82D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328B-CBCA-4CB5-B69B-C8B311F5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B4823C-9C10-4DBA-A21D-ADD822C6E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AE964D-4F88-4F0A-8967-138A56F97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64C351-7D30-4CE4-96E9-943735985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264761C-9EE3-4A8E-A3B7-7EF3A43D19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718C6B3-2C55-4D33-AFA3-6DDA23B1B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79360-B96A-4C54-846D-6A6A24504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FBE4-294B-4012-8F8D-532165A02169}"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0EF7-014F-455B-B1CB-AB778C02B69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45A7-8ED6-4E73-83D1-8BFED26D7936}"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DE46-EAA9-406A-87F5-422BB977F25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51F9-6286-46B5-A91B-06565BC36710}"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B116-F510-439C-9210-A5F7C523319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5833-B43C-41B6-91A8-62BCD8C68A80}" type="datetime">
              <a:rPr b="0" lang="ar-SA" sz="1200" spc="-1" strike="noStrike">
                <a:solidFill>
                  <a:srgbClr val="def5fa"/>
                </a:solidFill>
                <a:latin typeface="Times New Roman"/>
              </a:rPr>
              <a:t>١٤٤٨/٠٢/١٧</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60DB-3F5D-465B-BA19-A1E6BBE3C23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3F6C-5C4A-4722-948A-5299C9BFD195}"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7CEA-688E-4F5D-A29E-E99B3D8AADD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8365-220E-4007-971D-325100C26D9D}"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3391-1FEB-4417-B8A7-A584B60A7F1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D44B-A257-4BD7-9540-85E42CE7617E}" type="datetime">
              <a:rPr b="0" lang="ar-SA" sz="1200" spc="-1" strike="noStrike">
                <a:solidFill>
                  <a:srgbClr val="464646"/>
                </a:solidFill>
                <a:latin typeface="Times New Roman"/>
              </a:rPr>
              <a:t>١٤٤٨/٠٢/١٧</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9B96-CD33-417E-914E-17500ABD627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E27F-1538-409D-9CB4-29B75774C70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6CF6-0B9D-426F-A34E-E1465FBFE6A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701B-9A4B-4878-AF20-E7A9503F7EA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DBB5-6388-4667-8B93-0452E3D6E88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1116-C716-4757-B55A-5FA4DAD0BF4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E8B-E368-4E02-BF1D-C26F971C44C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FA11-594F-4DB2-B4B6-2C5661E6529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E272-B2DA-4C7F-A47A-D98CBB3F29C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DFB2-8D49-4A26-BCD7-4B89E242DE9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5E57-F198-402C-9A65-4513E0B1B27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7E8A-17F8-41E3-A642-31C3D58C122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16F7-EC73-406E-A48D-322A30A2961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4140-E3EB-481C-99F3-36ED6D6DBAC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091A-2510-4EF4-8252-AEDB4B5F671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63AF-952F-45F0-9FD5-DF22B14FB27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9892-9041-455F-BC00-CCF4D0A69DC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950A-4D24-4FBE-89A8-39BF4F4C7CD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B70B-1DB9-44B6-B468-6FE5B2D7631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2F59-80C5-4A6B-BA77-CEB41DB981E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3B2B-9FBA-4960-9108-AEFE3C36085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E9F7-190C-4FAC-BB6B-04553ACC570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941F-C326-479A-89E3-7AD902708B7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44FB-E872-4C88-B1B0-C8A9B91AB04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0653-9452-4348-8744-9C2C450F66A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E01-8F3A-46F2-A690-5A6DF826362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8706-2F57-4B2C-A9E7-20AD8B23024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C055-0D2F-4DCB-9AFA-784A497C212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6002-F78B-47C8-921E-530993B6ECF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51EC-7C06-456E-A2A1-1E5DDA19FEA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AFB0-83E6-41A1-A8CB-8DCD462704B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F49B-A007-4856-87A0-D173A5286CA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59D2-C488-495D-8C67-2B4D10DB207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