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709-4EAD-4576-970F-BA068D48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B05-78A7-4093-815B-0E85A674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148-4F96-4918-B7FC-58941005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6C4-601A-494C-850F-70CAED07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B0DC-18A8-43CD-8256-290EBFB1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A09C-500F-4384-942B-AFA0BF1B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AC2F-24DD-480F-90F9-EC17896C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7BDF-1DD1-4D5B-AC6B-29091510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8EA1-D3DF-440F-9E7D-16B9221F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655C-3E2A-435A-B3D8-BC638372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B44A-AF3A-4816-A39F-BAC40F45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EDB-485A-4412-B06F-3DBCEFDD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082A-47AE-426C-A09F-032F665F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A11E-2361-455D-BED1-10FE5004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8F6E-AB1E-4BDD-BE51-91069595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A666-1FCE-45BF-B890-2A66B6EA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A7BA-5B53-4D1D-B8D1-789AA122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947E-D3F1-4331-9500-A744A1B2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5414-4942-4827-8926-4199939B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5398-5409-4933-BA60-52A1D2C6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8DCA-C9DB-4895-901E-13CF717C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8373-AE1D-4193-BC22-72966490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C95-8E85-4548-974D-1A1E492B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2A73-5A98-4708-8EF9-DEA8399A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373B-0B55-4AFC-A7A1-29603DD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34990-62FA-41C3-BFF1-D66AFAB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2C3A-49DB-4B4D-B1EC-8772508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83C3-F532-4B5E-9F26-513C80F5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8764-E549-4AF4-B278-BB61A0D2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B309-8AC5-4F9D-8A3F-6B197FA7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9579-D05D-4E9A-8796-8B5C6648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1840-9AA3-48AE-A23E-F88B2E87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94F1-B2C4-48B8-9F38-C1AC2D2A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BE8-ED41-41CA-B5D4-A42FA83B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8463-59ED-4994-8FE8-C1E2EFC2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9721-23EF-4CCF-80B4-DB94A20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53DC-7898-4475-B1F1-ABDABB16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D332-CBA3-4271-A7AA-8F5900D5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52713-A829-467C-8F3C-F66255AC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A2847-EC03-4F2C-827B-1549E09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D6899-1D10-4733-A992-4397D579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6266-8680-492F-91E5-3FE4072B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CD60-3FB7-4B3F-88D0-F8134618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E7D-5878-40EC-91A8-0F88F445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EB7-7DB1-4FC1-AA2C-AE42990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4D0-8934-4069-A365-495DB7F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FA9-A61B-4319-95CD-1989BB14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E06-A93D-42A7-B27C-77D8BE8D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64A7-DFF6-44D3-B90C-F2C28D5A686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77BD-6406-43DE-87B0-AC66042A100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83D0-E446-4962-8E23-BE547D099C5E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8110-14D2-493C-A588-6D54BA512E7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2600" y="1904760"/>
            <a:ext cx="601992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continuity of life from one cell to another is based on the reproduction of cells via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cell divis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division process occurs as part of the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cell cycl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the life of a cell from its origin in the division of a parent cell until its own division into two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icellula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حيد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ganisms (e.g. Amoeba) divide to reproduce an entire organism, increasing the population (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sexual reproduct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ulticellula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ديد الخل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ganisms divide to develop a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fertilized cell, grow or repair the damaged cell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6" name="Group 16"/>
          <p:cNvGrpSpPr/>
          <p:nvPr/>
        </p:nvGrpSpPr>
        <p:grpSpPr>
          <a:xfrm>
            <a:off x="5984280" y="2133720"/>
            <a:ext cx="2889360" cy="2296800"/>
            <a:chOff x="5984280" y="2133720"/>
            <a:chExt cx="2889360" cy="2296800"/>
          </a:xfrm>
        </p:grpSpPr>
        <p:pic>
          <p:nvPicPr>
            <p:cNvPr id="197" name="Picture 6" descr=""/>
            <p:cNvPicPr/>
            <p:nvPr/>
          </p:nvPicPr>
          <p:blipFill>
            <a:blip r:embed="rId1"/>
            <a:srcRect l="6727" t="5642" r="5395" b="6667"/>
            <a:stretch/>
          </p:blipFill>
          <p:spPr>
            <a:xfrm>
              <a:off x="6142320" y="2133720"/>
              <a:ext cx="273132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7"/>
            <p:cNvSpPr/>
            <p:nvPr/>
          </p:nvSpPr>
          <p:spPr>
            <a:xfrm>
              <a:off x="5984280" y="4138560"/>
              <a:ext cx="1488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Fig. 12.1, Page 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4" descr=""/>
          <p:cNvPicPr/>
          <p:nvPr/>
        </p:nvPicPr>
        <p:blipFill>
          <a:blip r:embed="rId2"/>
          <a:srcRect l="9515" t="5070" r="12732" b="7322"/>
          <a:stretch/>
        </p:blipFill>
        <p:spPr>
          <a:xfrm>
            <a:off x="6188040" y="4419720"/>
            <a:ext cx="2651040" cy="21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Line 5"/>
          <p:cNvSpPr/>
          <p:nvPr/>
        </p:nvSpPr>
        <p:spPr>
          <a:xfrm>
            <a:off x="152280" y="17524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219320" y="906480"/>
            <a:ext cx="632448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  <a:ea typeface="Arial"/>
              </a:rPr>
              <a:t>6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: Cell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560" y="931680"/>
            <a:ext cx="563868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3) Ana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ntromeres divide, result in separating and moving of the two sister chromatids toward opposite poles on the spindle fibers 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the end, the two poles have equivalent collections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4) Telo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nuclei begin to form, surrounded by the nuclear membra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romatin becomes less tightly coil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akes place.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 anima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cytokinesis is first apparent by contraction between the two poles of the cell.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 plants,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ell plate grows in the approximate location of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181560" y="838080"/>
            <a:ext cx="2697480" cy="2925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6172200" y="3821040"/>
            <a:ext cx="2692440" cy="29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1"/>
          <p:cNvGrpSpPr/>
          <p:nvPr/>
        </p:nvGrpSpPr>
        <p:grpSpPr>
          <a:xfrm>
            <a:off x="23760" y="1905120"/>
            <a:ext cx="9104400" cy="3809880"/>
            <a:chOff x="23760" y="1905120"/>
            <a:chExt cx="9104400" cy="3809880"/>
          </a:xfrm>
        </p:grpSpPr>
        <p:pic>
          <p:nvPicPr>
            <p:cNvPr id="268" name="Picture 4" descr=""/>
            <p:cNvPicPr/>
            <p:nvPr/>
          </p:nvPicPr>
          <p:blipFill>
            <a:blip r:embed="rId1">
              <a:lum contrast="6000"/>
            </a:blip>
            <a:srcRect l="0" t="0" r="34232" b="4360"/>
            <a:stretch/>
          </p:blipFill>
          <p:spPr>
            <a:xfrm>
              <a:off x="23760" y="1905120"/>
              <a:ext cx="388620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"/>
            <p:cNvPicPr/>
            <p:nvPr/>
          </p:nvPicPr>
          <p:blipFill>
            <a:blip r:embed="rId2"/>
            <a:srcRect l="2973" t="0" r="0" b="4273"/>
            <a:stretch/>
          </p:blipFill>
          <p:spPr>
            <a:xfrm>
              <a:off x="3839760" y="1910880"/>
              <a:ext cx="5288400" cy="378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1981080" y="83808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Summary of the Cell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380880" y="1733400"/>
            <a:ext cx="8381880" cy="4894920"/>
            <a:chOff x="380880" y="1733400"/>
            <a:chExt cx="8381880" cy="4894920"/>
          </a:xfrm>
        </p:grpSpPr>
        <p:grpSp>
          <p:nvGrpSpPr>
            <p:cNvPr id="272" name="Group 32"/>
            <p:cNvGrpSpPr/>
            <p:nvPr/>
          </p:nvGrpSpPr>
          <p:grpSpPr>
            <a:xfrm>
              <a:off x="1436400" y="1733400"/>
              <a:ext cx="4865760" cy="990360"/>
              <a:chOff x="1436400" y="1733400"/>
              <a:chExt cx="4865760" cy="9903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3885840" y="17334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"/>
              <p:cNvSpPr/>
              <p:nvPr/>
            </p:nvSpPr>
            <p:spPr>
              <a:xfrm>
                <a:off x="1436400" y="2354040"/>
                <a:ext cx="486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9"/>
              <p:cNvSpPr/>
              <p:nvPr/>
            </p:nvSpPr>
            <p:spPr>
              <a:xfrm>
                <a:off x="1447560" y="23428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0"/>
              <p:cNvSpPr/>
              <p:nvPr/>
            </p:nvSpPr>
            <p:spPr>
              <a:xfrm>
                <a:off x="6292440" y="23428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11"/>
            <p:cNvSpPr/>
            <p:nvPr/>
          </p:nvSpPr>
          <p:spPr>
            <a:xfrm>
              <a:off x="761760" y="27079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33"/>
            <p:cNvGrpSpPr/>
            <p:nvPr/>
          </p:nvGrpSpPr>
          <p:grpSpPr>
            <a:xfrm>
              <a:off x="609480" y="3257280"/>
              <a:ext cx="1600200" cy="914400"/>
              <a:chOff x="609480" y="3257280"/>
              <a:chExt cx="1600200" cy="914400"/>
            </a:xfrm>
          </p:grpSpPr>
          <p:sp>
            <p:nvSpPr>
              <p:cNvPr id="279" name="Line 13"/>
              <p:cNvSpPr/>
              <p:nvPr/>
            </p:nvSpPr>
            <p:spPr>
              <a:xfrm>
                <a:off x="1447920" y="32572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4"/>
              <p:cNvSpPr/>
              <p:nvPr/>
            </p:nvSpPr>
            <p:spPr>
              <a:xfrm>
                <a:off x="609480" y="371448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5"/>
              <p:cNvSpPr/>
              <p:nvPr/>
            </p:nvSpPr>
            <p:spPr>
              <a:xfrm>
                <a:off x="60948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6"/>
              <p:cNvSpPr/>
              <p:nvPr/>
            </p:nvSpPr>
            <p:spPr>
              <a:xfrm>
                <a:off x="144792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7"/>
              <p:cNvSpPr/>
              <p:nvPr/>
            </p:nvSpPr>
            <p:spPr>
              <a:xfrm>
                <a:off x="2209680" y="37144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8"/>
            <p:cNvGrpSpPr/>
            <p:nvPr/>
          </p:nvGrpSpPr>
          <p:grpSpPr>
            <a:xfrm>
              <a:off x="380880" y="4217760"/>
              <a:ext cx="2209320" cy="413280"/>
              <a:chOff x="380880" y="4217760"/>
              <a:chExt cx="2209320" cy="413280"/>
            </a:xfrm>
          </p:grpSpPr>
          <p:sp>
            <p:nvSpPr>
              <p:cNvPr id="285" name="Text Box 35"/>
              <p:cNvSpPr/>
              <p:nvPr/>
            </p:nvSpPr>
            <p:spPr>
              <a:xfrm>
                <a:off x="380880" y="42177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G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1117440" y="42321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37"/>
              <p:cNvSpPr/>
              <p:nvPr/>
            </p:nvSpPr>
            <p:spPr>
              <a:xfrm>
                <a:off x="1927440" y="4232160"/>
                <a:ext cx="66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G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7"/>
            <p:cNvGrpSpPr/>
            <p:nvPr/>
          </p:nvGrpSpPr>
          <p:grpSpPr>
            <a:xfrm>
              <a:off x="2622240" y="2707920"/>
              <a:ext cx="6140520" cy="3920400"/>
              <a:chOff x="2622240" y="2707920"/>
              <a:chExt cx="6140520" cy="3920400"/>
            </a:xfrm>
          </p:grpSpPr>
          <p:grpSp>
            <p:nvGrpSpPr>
              <p:cNvPr id="289" name="Group 34"/>
              <p:cNvGrpSpPr/>
              <p:nvPr/>
            </p:nvGrpSpPr>
            <p:grpSpPr>
              <a:xfrm>
                <a:off x="3272760" y="4279680"/>
                <a:ext cx="4495680" cy="1492200"/>
                <a:chOff x="3272760" y="4279680"/>
                <a:chExt cx="4495680" cy="1492200"/>
              </a:xfrm>
            </p:grpSpPr>
            <p:sp>
              <p:nvSpPr>
                <p:cNvPr id="290" name="Line 18"/>
                <p:cNvSpPr/>
                <p:nvPr/>
              </p:nvSpPr>
              <p:spPr>
                <a:xfrm>
                  <a:off x="5482440" y="4279680"/>
                  <a:ext cx="0" cy="10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3272760" y="5314680"/>
                  <a:ext cx="4495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2"/>
                <p:cNvSpPr/>
                <p:nvPr/>
              </p:nvSpPr>
              <p:spPr>
                <a:xfrm>
                  <a:off x="3272760" y="5303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3"/>
                <p:cNvSpPr/>
                <p:nvPr/>
              </p:nvSpPr>
              <p:spPr>
                <a:xfrm>
                  <a:off x="479664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4"/>
                <p:cNvSpPr/>
                <p:nvPr/>
              </p:nvSpPr>
              <p:spPr>
                <a:xfrm>
                  <a:off x="632088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25"/>
                <p:cNvSpPr/>
                <p:nvPr/>
              </p:nvSpPr>
              <p:spPr>
                <a:xfrm>
                  <a:off x="7768440" y="5314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Text Box 27"/>
              <p:cNvSpPr/>
              <p:nvPr/>
            </p:nvSpPr>
            <p:spPr>
              <a:xfrm>
                <a:off x="2622240" y="5924520"/>
                <a:ext cx="1295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Pro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9"/>
              <p:cNvSpPr/>
              <p:nvPr/>
            </p:nvSpPr>
            <p:spPr>
              <a:xfrm>
                <a:off x="4046400" y="59245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Meta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30"/>
              <p:cNvSpPr/>
              <p:nvPr/>
            </p:nvSpPr>
            <p:spPr>
              <a:xfrm>
                <a:off x="5570280" y="59245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Ana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1"/>
              <p:cNvSpPr/>
              <p:nvPr/>
            </p:nvSpPr>
            <p:spPr>
              <a:xfrm>
                <a:off x="7094520" y="592452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Constantia"/>
                  </a:rPr>
                  <a:t>Teloph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9"/>
              <p:cNvSpPr/>
              <p:nvPr/>
            </p:nvSpPr>
            <p:spPr>
              <a:xfrm>
                <a:off x="5213160" y="2707920"/>
                <a:ext cx="22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nstantia"/>
                  </a:rPr>
                  <a:t>Mitotic phase (M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44"/>
              <p:cNvGrpSpPr/>
              <p:nvPr/>
            </p:nvGrpSpPr>
            <p:grpSpPr>
              <a:xfrm>
                <a:off x="5518080" y="3180960"/>
                <a:ext cx="2514600" cy="457200"/>
                <a:chOff x="5518080" y="3180960"/>
                <a:chExt cx="2514600" cy="457200"/>
              </a:xfrm>
            </p:grpSpPr>
            <p:sp>
              <p:nvSpPr>
                <p:cNvPr id="302" name="Line 40"/>
                <p:cNvSpPr/>
                <p:nvPr/>
              </p:nvSpPr>
              <p:spPr>
                <a:xfrm>
                  <a:off x="6356160" y="31809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1"/>
                <p:cNvSpPr/>
                <p:nvPr/>
              </p:nvSpPr>
              <p:spPr>
                <a:xfrm>
                  <a:off x="5518080" y="340956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2"/>
                <p:cNvSpPr/>
                <p:nvPr/>
              </p:nvSpPr>
              <p:spPr>
                <a:xfrm>
                  <a:off x="5518080" y="34095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3"/>
                <p:cNvSpPr/>
                <p:nvPr/>
              </p:nvSpPr>
              <p:spPr>
                <a:xfrm>
                  <a:off x="8032680" y="34095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4713120" y="3622320"/>
                <a:ext cx="4049640" cy="703800"/>
                <a:chOff x="4713120" y="3622320"/>
                <a:chExt cx="4049640" cy="703800"/>
              </a:xfrm>
            </p:grpSpPr>
            <p:sp>
              <p:nvSpPr>
                <p:cNvPr id="307" name="Text Box 12"/>
                <p:cNvSpPr/>
                <p:nvPr/>
              </p:nvSpPr>
              <p:spPr>
                <a:xfrm>
                  <a:off x="4713120" y="3622320"/>
                  <a:ext cx="1600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nstantia"/>
                      <a:ea typeface="Arial"/>
                    </a:rPr>
                    <a:t>karyokinesi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45"/>
                <p:cNvSpPr/>
                <p:nvPr/>
              </p:nvSpPr>
              <p:spPr>
                <a:xfrm>
                  <a:off x="7315200" y="3622320"/>
                  <a:ext cx="14475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nstantia"/>
                    </a:rPr>
                    <a:t>Cytokinesi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9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52280" y="25401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Division differs among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2280" y="3184560"/>
            <a:ext cx="792504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kin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vide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Liver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ivide when needed (damage repai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Nerve cell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o not divid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6fc6"/>
                </a:solidFill>
                <a:latin typeface="Arial"/>
              </a:rPr>
              <a:t>Skeletal muscl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div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6fc6"/>
                </a:solidFill>
                <a:latin typeface="Arial"/>
              </a:rPr>
              <a:t>Cardiac muscle cell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div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6fc6"/>
                </a:solidFill>
                <a:latin typeface="Arial"/>
              </a:rPr>
              <a:t>Smooth muscle ce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ave the ability to div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52280" y="127944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ell division distributes the genetic material (DNA) to two daughter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-360" y="1143000"/>
            <a:ext cx="8915400" cy="76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ell division distributes identical sets of chromosomes to daughter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cell’s genetic information (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genome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نك الـ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ج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نى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 is packaged as DN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prokaryotes, the genome is often a single long DNA molecul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eukaryotes, the genome consists of several DNA molecul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human cell must duplicate about 3 m of DNA and separate the two copies such that each daughter cell ends up with a complete genom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NA molecules are packaged into chromosom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5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uman gametes (sperm or eggs) have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23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chromosomes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half the number in a somatic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eukaryotic chromosome consists of a long,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linea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NA molecul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5960" y="990360"/>
            <a:ext cx="8915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chromosome has hundreds or thousands of gen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DNA-protein complex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hroma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is organized into a long thin fib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fter the DNA duplication, chromat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denses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hromoso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duplicated chromosome consist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w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ister chromatid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ch contai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dentical copies of the chromosome’s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arrow region where the chromosoma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rands connect i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ntrom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cess of the formation of the tw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ughter nuclei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tosis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5361120" y="1905120"/>
            <a:ext cx="3706560" cy="48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C440-BA06-43E5-83D5-F3135F29CD65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8580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cell div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7524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1- Mitosi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غير المباشر أو الميتوزي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52280" y="2286000"/>
            <a:ext cx="861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is a continuous process and occurs only in eukaryotic cells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non-sex cells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omatic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karyotic cells divide by a different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has two divisions which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kary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vision of the nucle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is followed by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vision of the cytoplas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tosis occurs in eithe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حادي المجموعة الكروموسوم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ثنائ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جموعة الكروموسوم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52280" y="49528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2- Meiosi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اختزالي أو الميوزي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52280" y="54864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occurs only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ger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ells and is restricted t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iploid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takes place solely in the testes (males) and ovaries (females) to produc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ploid sex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s 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gamet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2674080" y="2169360"/>
            <a:ext cx="442800" cy="3358440"/>
            <a:chOff x="2674080" y="2169360"/>
            <a:chExt cx="442800" cy="3358440"/>
          </a:xfrm>
        </p:grpSpPr>
        <p:sp>
          <p:nvSpPr>
            <p:cNvPr id="216" name="AutoShape 3"/>
            <p:cNvSpPr/>
            <p:nvPr/>
          </p:nvSpPr>
          <p:spPr>
            <a:xfrm rot="16485600">
              <a:off x="2057040" y="4527360"/>
              <a:ext cx="16765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11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"/>
            <p:cNvSpPr/>
            <p:nvPr/>
          </p:nvSpPr>
          <p:spPr>
            <a:xfrm rot="15949200">
              <a:off x="2057040" y="2863800"/>
              <a:ext cx="16765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65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 rot="16200000">
              <a:off x="2717640" y="3765240"/>
              <a:ext cx="457200" cy="1526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6"/>
          <p:cNvGrpSpPr/>
          <p:nvPr/>
        </p:nvGrpSpPr>
        <p:grpSpPr>
          <a:xfrm>
            <a:off x="3944160" y="2167200"/>
            <a:ext cx="493560" cy="3349800"/>
            <a:chOff x="3944160" y="2167200"/>
            <a:chExt cx="493560" cy="3349800"/>
          </a:xfrm>
        </p:grpSpPr>
        <p:sp>
          <p:nvSpPr>
            <p:cNvPr id="220" name="AutoShape 7"/>
            <p:cNvSpPr/>
            <p:nvPr/>
          </p:nvSpPr>
          <p:spPr>
            <a:xfrm rot="15807600">
              <a:off x="3352680" y="4514400"/>
              <a:ext cx="167616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79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8"/>
            <p:cNvSpPr/>
            <p:nvPr/>
          </p:nvSpPr>
          <p:spPr>
            <a:xfrm rot="16521600">
              <a:off x="3352680" y="2863440"/>
              <a:ext cx="167616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08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 rot="16200000">
              <a:off x="3898800" y="3765240"/>
              <a:ext cx="457200" cy="15264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0"/>
          <p:cNvGrpSpPr/>
          <p:nvPr/>
        </p:nvGrpSpPr>
        <p:grpSpPr>
          <a:xfrm>
            <a:off x="6483960" y="2243520"/>
            <a:ext cx="836640" cy="3360600"/>
            <a:chOff x="6483960" y="2243520"/>
            <a:chExt cx="836640" cy="3360600"/>
          </a:xfrm>
        </p:grpSpPr>
        <p:grpSp>
          <p:nvGrpSpPr>
            <p:cNvPr id="224" name="Group 11"/>
            <p:cNvGrpSpPr/>
            <p:nvPr/>
          </p:nvGrpSpPr>
          <p:grpSpPr>
            <a:xfrm>
              <a:off x="6483960" y="2245680"/>
              <a:ext cx="442800" cy="3358440"/>
              <a:chOff x="6483960" y="2245680"/>
              <a:chExt cx="442800" cy="3358440"/>
            </a:xfrm>
          </p:grpSpPr>
          <p:sp>
            <p:nvSpPr>
              <p:cNvPr id="225" name="AutoShape 12"/>
              <p:cNvSpPr/>
              <p:nvPr/>
            </p:nvSpPr>
            <p:spPr>
              <a:xfrm rot="16485600">
                <a:off x="5866920" y="460368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11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3"/>
              <p:cNvSpPr/>
              <p:nvPr/>
            </p:nvSpPr>
            <p:spPr>
              <a:xfrm rot="15949200">
                <a:off x="5866920" y="294012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65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4"/>
              <p:cNvSpPr/>
              <p:nvPr/>
            </p:nvSpPr>
            <p:spPr>
              <a:xfrm rot="16200000">
                <a:off x="6527520" y="3841560"/>
                <a:ext cx="457200" cy="15264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15"/>
            <p:cNvGrpSpPr/>
            <p:nvPr/>
          </p:nvGrpSpPr>
          <p:grpSpPr>
            <a:xfrm>
              <a:off x="6827040" y="2243520"/>
              <a:ext cx="493560" cy="3349800"/>
              <a:chOff x="6827040" y="2243520"/>
              <a:chExt cx="493560" cy="3349800"/>
            </a:xfrm>
          </p:grpSpPr>
          <p:sp>
            <p:nvSpPr>
              <p:cNvPr id="229" name="AutoShape 16"/>
              <p:cNvSpPr/>
              <p:nvPr/>
            </p:nvSpPr>
            <p:spPr>
              <a:xfrm rot="15807600">
                <a:off x="6235560" y="459072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79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 rot="16521600">
                <a:off x="6235560" y="293976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08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8"/>
              <p:cNvSpPr/>
              <p:nvPr/>
            </p:nvSpPr>
            <p:spPr>
              <a:xfrm rot="16200000">
                <a:off x="6781680" y="3841560"/>
                <a:ext cx="457200" cy="15264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9"/>
          <p:cNvGrpSpPr/>
          <p:nvPr/>
        </p:nvGrpSpPr>
        <p:grpSpPr>
          <a:xfrm>
            <a:off x="2057400" y="654120"/>
            <a:ext cx="1676520" cy="1600200"/>
            <a:chOff x="2057400" y="654120"/>
            <a:chExt cx="1676520" cy="1600200"/>
          </a:xfrm>
        </p:grpSpPr>
        <p:sp>
          <p:nvSpPr>
            <p:cNvPr id="233" name="Line 20"/>
            <p:cNvSpPr/>
            <p:nvPr/>
          </p:nvSpPr>
          <p:spPr>
            <a:xfrm>
              <a:off x="2819520" y="1644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21"/>
            <p:cNvGrpSpPr/>
            <p:nvPr/>
          </p:nvGrpSpPr>
          <p:grpSpPr>
            <a:xfrm>
              <a:off x="2057400" y="654120"/>
              <a:ext cx="1676520" cy="990360"/>
              <a:chOff x="2057400" y="654120"/>
              <a:chExt cx="1676520" cy="990360"/>
            </a:xfrm>
          </p:grpSpPr>
          <p:sp>
            <p:nvSpPr>
              <p:cNvPr id="235" name="Rectangle 22"/>
              <p:cNvSpPr/>
              <p:nvPr/>
            </p:nvSpPr>
            <p:spPr>
              <a:xfrm>
                <a:off x="2057400" y="654120"/>
                <a:ext cx="1676520" cy="99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23"/>
              <p:cNvSpPr/>
              <p:nvPr/>
            </p:nvSpPr>
            <p:spPr>
              <a:xfrm>
                <a:off x="2133720" y="6541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0000"/>
                    </a:solidFill>
                    <a:latin typeface="Constantia"/>
                  </a:rPr>
                  <a:t>Chromati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24"/>
              <p:cNvSpPr/>
              <p:nvPr/>
            </p:nvSpPr>
            <p:spPr>
              <a:xfrm>
                <a:off x="2210040" y="9745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romatin + D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25"/>
              <p:cNvSpPr/>
              <p:nvPr/>
            </p:nvSpPr>
            <p:spPr>
              <a:xfrm>
                <a:off x="3505320" y="1110960"/>
                <a:ext cx="152280" cy="4568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11880 h 456840"/>
                  <a:gd name="textAreaBottom" fmla="*/ 44496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utoShape 26"/>
              <p:cNvSpPr/>
              <p:nvPr/>
            </p:nvSpPr>
            <p:spPr>
              <a:xfrm flipH="1">
                <a:off x="2133000" y="1110960"/>
                <a:ext cx="152280" cy="4568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11880 h 456840"/>
                  <a:gd name="textAreaBottom" fmla="*/ 44496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27"/>
          <p:cNvGrpSpPr/>
          <p:nvPr/>
        </p:nvGrpSpPr>
        <p:grpSpPr>
          <a:xfrm>
            <a:off x="3352320" y="1660680"/>
            <a:ext cx="3200760" cy="745560"/>
            <a:chOff x="3352320" y="1660680"/>
            <a:chExt cx="3200760" cy="745560"/>
          </a:xfrm>
        </p:grpSpPr>
        <p:sp>
          <p:nvSpPr>
            <p:cNvPr id="241" name="Line 28"/>
            <p:cNvSpPr/>
            <p:nvPr/>
          </p:nvSpPr>
          <p:spPr>
            <a:xfrm flipH="1">
              <a:off x="3352320" y="1873080"/>
              <a:ext cx="10666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4495680" y="16606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nstantia"/>
                </a:rPr>
                <a:t>Sister chromat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0"/>
          <p:cNvSpPr/>
          <p:nvPr/>
        </p:nvSpPr>
        <p:spPr>
          <a:xfrm>
            <a:off x="2057400" y="56386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nstantia"/>
              </a:rPr>
              <a:t>Chromosome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وموسوم أو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ب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31"/>
          <p:cNvGrpSpPr/>
          <p:nvPr/>
        </p:nvGrpSpPr>
        <p:grpSpPr>
          <a:xfrm>
            <a:off x="479520" y="3610080"/>
            <a:ext cx="2340000" cy="398880"/>
            <a:chOff x="479520" y="3610080"/>
            <a:chExt cx="2340000" cy="398880"/>
          </a:xfrm>
        </p:grpSpPr>
        <p:sp>
          <p:nvSpPr>
            <p:cNvPr id="245" name="Rectangle 32"/>
            <p:cNvSpPr/>
            <p:nvPr/>
          </p:nvSpPr>
          <p:spPr>
            <a:xfrm>
              <a:off x="479520" y="3610080"/>
              <a:ext cx="162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nstantia"/>
                </a:rPr>
                <a:t>Centrom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>
              <a:off x="2057400" y="38545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4"/>
          <p:cNvGrpSpPr/>
          <p:nvPr/>
        </p:nvGrpSpPr>
        <p:grpSpPr>
          <a:xfrm>
            <a:off x="3352680" y="3352680"/>
            <a:ext cx="3124080" cy="1143000"/>
            <a:chOff x="3352680" y="3352680"/>
            <a:chExt cx="3124080" cy="1143000"/>
          </a:xfrm>
        </p:grpSpPr>
        <p:sp>
          <p:nvSpPr>
            <p:cNvPr id="248" name="Text Box 35"/>
            <p:cNvSpPr/>
            <p:nvPr/>
          </p:nvSpPr>
          <p:spPr>
            <a:xfrm>
              <a:off x="3555720" y="363204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nstantia"/>
                </a:rPr>
                <a:t>Homologous Chromos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3352680" y="3352680"/>
              <a:ext cx="3124080" cy="1143000"/>
            </a:xfrm>
            <a:prstGeom prst="hexagon">
              <a:avLst>
                <a:gd name="adj" fmla="val 68331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6812E-006 L -0.10834 -3.56812E-006 E">
                                      <p:cBhvr>
                                        <p:cTn id="2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"/>
          <p:cNvPicPr/>
          <p:nvPr/>
        </p:nvPicPr>
        <p:blipFill>
          <a:blip r:embed="rId1"/>
          <a:srcRect l="0" t="0" r="0" b="2966"/>
          <a:stretch/>
        </p:blipFill>
        <p:spPr>
          <a:xfrm>
            <a:off x="5334120" y="2027160"/>
            <a:ext cx="3733560" cy="30783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152280" y="1692360"/>
            <a:ext cx="86868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ll cycle consists of two basic s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nterph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b)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tot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M) p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hase include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Karyokine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نوو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cytokin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سيتوبلازم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terphase accounts fo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90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the cell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uring interphase the cell prepares for                                                              division by producing cytoplasmic                                                          organelles and copying its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Interph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ree subph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irst ga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 the cell g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thesi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where the DNA replication occ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G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nstantia"/>
                <a:ea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hase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econd ga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: the cell completes preparations for cell di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0000"/>
              </a:buClr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itotic phas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)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ll starts the division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b050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he resulting daughter cells may then repeat the cycle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762120" y="8380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mitotic cell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52280" y="1620360"/>
            <a:ext cx="88394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Pro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 التمهيد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Meta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ستوائ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Anaphas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فصال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و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00ff"/>
              </a:buClr>
              <a:buSzPct val="8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Telophas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طور ا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لإنتهائ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5418000" y="2236680"/>
            <a:ext cx="3345120" cy="37832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152280" y="373392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late interphase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G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, the chromosomes have been duplicated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ضاعفت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ut are loosely pa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2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entrosomes have been duplicated and begin to organize microtubules into an aster (st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60948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itotic di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04920" y="837720"/>
            <a:ext cx="624816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Prophase</a:t>
            </a:r>
            <a:r>
              <a:rPr b="1" lang="en-US" sz="2000" spc="-1" strike="noStrike">
                <a:solidFill>
                  <a:srgbClr val="00b05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stage of mitosis begins with the shorting and thickening of the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hromosomes are tightly coiled, with sister chromatids joined togeth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uclear membrane fragments and the nucleolus disappear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2) Metaphas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itotic spindle fibers begins to form and appears to push the centromere away from each other towards opposite ends (poles) of the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icrotubul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rom one pole attach to one of two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kinetochor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special regions of the centromere) while microtubules from the other pole attach to the other kinetochor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hromosomes align along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9C3D-CF7D-4A3C-AB11-8100978C90D9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6705720" y="822240"/>
            <a:ext cx="2286000" cy="19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705720" y="2803680"/>
            <a:ext cx="2286000" cy="192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3" name="Picture 7" descr=""/>
          <p:cNvPicPr/>
          <p:nvPr/>
        </p:nvPicPr>
        <p:blipFill>
          <a:blip r:embed="rId3"/>
          <a:stretch/>
        </p:blipFill>
        <p:spPr>
          <a:xfrm>
            <a:off x="6705720" y="4784760"/>
            <a:ext cx="2286000" cy="19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Mohammed Albeshr</cp:lastModifiedBy>
  <dcterms:modified xsi:type="dcterms:W3CDTF">2017-10-15T04:15:49Z</dcterms:modified>
  <cp:revision>240</cp:revision>
  <dc:subject/>
  <dc:title>Slide 1</dc:title>
</cp:coreProperties>
</file>