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4E7-EEAC-44EB-93B3-1FDA296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9D3-12F7-452A-8EC7-389A66E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CBA-E446-4346-AB30-3CEBB7EE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818-4A37-4AB5-B4F6-2F969AD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B89-9F4F-4874-A829-116A1F5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A274-0EE9-41DF-921A-BB10E07C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993D-9D2E-435F-B37D-8D48C6E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77D7-CCCB-4139-913A-EAC48A0E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E5E-8A2E-41A5-AAAE-561F7284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FD9D-EE60-49F1-BD8E-2D823E7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533-4024-4A26-8559-415C26E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689-6372-4596-86C2-D4B50A0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953-81D2-4454-BE4B-DF127A5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8B68-73B8-4205-A51F-552A039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A2E4-3000-448E-A263-4EE49CF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146E-3923-48CF-9509-2B3C806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63FF-7505-406A-B6F6-14581B3E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C174-80CF-4850-8F6A-9687DD0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A7DD-8F65-4D1F-9DEC-1FDB5363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0267-0B43-4E77-938A-A19E607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D698-EDE5-44CE-BD94-C98A5C00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BA86-8065-45CE-ACC2-42F269D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FC7-EE6E-485D-802E-0C1FA55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C0B9-410D-446A-94B1-C67398E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707C-1B15-4A79-A348-E849B8F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CE95-F34D-47E5-8B90-9E65CD08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B56B-8390-4511-974F-B41931B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AF00-44E2-4485-83DD-0F79305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DA66-4421-454F-B199-76EECBD0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7528-EE91-4B95-A790-A8375674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F131-04A9-4229-A6F8-8A73EF1D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80C3-3E82-41FF-8AD3-99E217E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A4DA-ACF3-4581-B6A7-BACD045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87E-6A5C-4FF2-9456-C5060F8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DD54-A870-4827-8DC4-4FB27876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3273-6F79-432E-9431-5282352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402E-FBAE-494E-8D04-9FF7C6BA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839B5-07E8-457D-9B62-997F93C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BB3A-16DA-4302-AE2D-4D2435A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915C-67CC-40C7-9ED1-6412CBF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2F40-A8B2-4915-B0D2-E66978E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F9F4-2FB2-4907-866C-CC44A9DE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FCD8-8D7B-4F72-AB4C-C2ABA395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DA1-57D2-4405-AF80-AE54C8A6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1C9-F619-4A45-9D9E-11153EB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5BE-C440-4909-BC39-CF669F6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3E4-9847-4A90-92A2-E9D397E6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390-73A2-4A0E-9262-83160D71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92E-A8CE-4458-84C6-E0B275AD8AD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56F-53A6-4D9F-A60F-79A1006B8E0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8629-92ED-4A45-8C20-E47E8F1EDE3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6D1F-88D6-4A93-B3F6-8B961824F97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600" y="1904760"/>
            <a:ext cx="60199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ontinuity of life from one cell to another is based on the reproduction of cells vi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ell divis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division process occurs as part of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cell cyc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he life of a cell from its origin in the division of a parent cell until its own division into tw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(e.g. Amoeba) divide to reproduce an entire organism, increasing the population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sexual reproduc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divide to develop 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fertilized cell, grow or repair the damaged cel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6" name="Group 16"/>
          <p:cNvGrpSpPr/>
          <p:nvPr/>
        </p:nvGrpSpPr>
        <p:grpSpPr>
          <a:xfrm>
            <a:off x="5984280" y="2133720"/>
            <a:ext cx="2889360" cy="2296800"/>
            <a:chOff x="5984280" y="2133720"/>
            <a:chExt cx="2889360" cy="2296800"/>
          </a:xfrm>
        </p:grpSpPr>
        <p:pic>
          <p:nvPicPr>
            <p:cNvPr id="197" name="Picture 6" descr=""/>
            <p:cNvPicPr/>
            <p:nvPr/>
          </p:nvPicPr>
          <p:blipFill>
            <a:blip r:embed="rId1"/>
            <a:srcRect l="6727" t="5642" r="5395" b="6667"/>
            <a:stretch/>
          </p:blipFill>
          <p:spPr>
            <a:xfrm>
              <a:off x="6142320" y="2133720"/>
              <a:ext cx="273132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7"/>
            <p:cNvSpPr/>
            <p:nvPr/>
          </p:nvSpPr>
          <p:spPr>
            <a:xfrm>
              <a:off x="5984280" y="413856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Fig. 12.1, Page 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4" descr=""/>
          <p:cNvPicPr/>
          <p:nvPr/>
        </p:nvPicPr>
        <p:blipFill>
          <a:blip r:embed="rId2"/>
          <a:srcRect l="9515" t="5070" r="12732" b="7322"/>
          <a:stretch/>
        </p:blipFill>
        <p:spPr>
          <a:xfrm>
            <a:off x="6188040" y="4419720"/>
            <a:ext cx="26510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219320" y="906480"/>
            <a:ext cx="6324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6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560" y="931680"/>
            <a:ext cx="563868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3) An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meres divide, result in separating and moving of the two sister chromatids toward opposite poles on the spindle fibers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end, the two poles have equivalent collection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4) Telo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nuclei begin to form, surrounded by the nuclear membra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 becomes less tightly co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akes place.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anima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cytokinesis is first apparent by contraction between the two poles of the cell.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plants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plate grows in the approximate location of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81560" y="838080"/>
            <a:ext cx="2697480" cy="292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172200" y="3821040"/>
            <a:ext cx="26924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"/>
          <p:cNvGrpSpPr/>
          <p:nvPr/>
        </p:nvGrpSpPr>
        <p:grpSpPr>
          <a:xfrm>
            <a:off x="23760" y="1905120"/>
            <a:ext cx="9104400" cy="3809880"/>
            <a:chOff x="23760" y="1905120"/>
            <a:chExt cx="9104400" cy="3809880"/>
          </a:xfrm>
        </p:grpSpPr>
        <p:pic>
          <p:nvPicPr>
            <p:cNvPr id="268" name="Picture 4" descr=""/>
            <p:cNvPicPr/>
            <p:nvPr/>
          </p:nvPicPr>
          <p:blipFill>
            <a:blip r:embed="rId1">
              <a:lum contrast="6000"/>
            </a:blip>
            <a:srcRect l="0" t="0" r="34232" b="4360"/>
            <a:stretch/>
          </p:blipFill>
          <p:spPr>
            <a:xfrm>
              <a:off x="23760" y="1905120"/>
              <a:ext cx="38862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rcRect l="2973" t="0" r="0" b="4273"/>
            <a:stretch/>
          </p:blipFill>
          <p:spPr>
            <a:xfrm>
              <a:off x="3839760" y="1910880"/>
              <a:ext cx="5288400" cy="378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1981080" y="838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ummary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80880" y="1733400"/>
            <a:ext cx="8381880" cy="4894920"/>
            <a:chOff x="380880" y="1733400"/>
            <a:chExt cx="8381880" cy="4894920"/>
          </a:xfrm>
        </p:grpSpPr>
        <p:grpSp>
          <p:nvGrpSpPr>
            <p:cNvPr id="272" name="Group 32"/>
            <p:cNvGrpSpPr/>
            <p:nvPr/>
          </p:nvGrpSpPr>
          <p:grpSpPr>
            <a:xfrm>
              <a:off x="1436400" y="1733400"/>
              <a:ext cx="4865760" cy="990360"/>
              <a:chOff x="1436400" y="1733400"/>
              <a:chExt cx="4865760" cy="9903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3885840" y="1733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"/>
              <p:cNvSpPr/>
              <p:nvPr/>
            </p:nvSpPr>
            <p:spPr>
              <a:xfrm>
                <a:off x="1436400" y="2354040"/>
                <a:ext cx="48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"/>
              <p:cNvSpPr/>
              <p:nvPr/>
            </p:nvSpPr>
            <p:spPr>
              <a:xfrm>
                <a:off x="144756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"/>
              <p:cNvSpPr/>
              <p:nvPr/>
            </p:nvSpPr>
            <p:spPr>
              <a:xfrm>
                <a:off x="629244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1"/>
            <p:cNvSpPr/>
            <p:nvPr/>
          </p:nvSpPr>
          <p:spPr>
            <a:xfrm>
              <a:off x="761760" y="27079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609480" y="3257280"/>
              <a:ext cx="1600200" cy="914400"/>
              <a:chOff x="609480" y="3257280"/>
              <a:chExt cx="1600200" cy="914400"/>
            </a:xfrm>
          </p:grpSpPr>
          <p:sp>
            <p:nvSpPr>
              <p:cNvPr id="279" name="Line 13"/>
              <p:cNvSpPr/>
              <p:nvPr/>
            </p:nvSpPr>
            <p:spPr>
              <a:xfrm>
                <a:off x="1447920" y="3257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>
                <a:off x="609480" y="37144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>
                <a:off x="6094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6"/>
              <p:cNvSpPr/>
              <p:nvPr/>
            </p:nvSpPr>
            <p:spPr>
              <a:xfrm>
                <a:off x="144792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>
                <a:off x="22096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380880" y="4217760"/>
              <a:ext cx="2209320" cy="413280"/>
              <a:chOff x="380880" y="4217760"/>
              <a:chExt cx="2209320" cy="413280"/>
            </a:xfrm>
          </p:grpSpPr>
          <p:sp>
            <p:nvSpPr>
              <p:cNvPr id="285" name="Text Box 35"/>
              <p:cNvSpPr/>
              <p:nvPr/>
            </p:nvSpPr>
            <p:spPr>
              <a:xfrm>
                <a:off x="380880" y="42177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111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7"/>
              <p:cNvSpPr/>
              <p:nvPr/>
            </p:nvSpPr>
            <p:spPr>
              <a:xfrm>
                <a:off x="192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7"/>
            <p:cNvGrpSpPr/>
            <p:nvPr/>
          </p:nvGrpSpPr>
          <p:grpSpPr>
            <a:xfrm>
              <a:off x="2622240" y="2707920"/>
              <a:ext cx="6140520" cy="3920400"/>
              <a:chOff x="2622240" y="2707920"/>
              <a:chExt cx="6140520" cy="3920400"/>
            </a:xfrm>
          </p:grpSpPr>
          <p:grpSp>
            <p:nvGrpSpPr>
              <p:cNvPr id="289" name="Group 34"/>
              <p:cNvGrpSpPr/>
              <p:nvPr/>
            </p:nvGrpSpPr>
            <p:grpSpPr>
              <a:xfrm>
                <a:off x="3272760" y="4279680"/>
                <a:ext cx="4495680" cy="1492200"/>
                <a:chOff x="3272760" y="4279680"/>
                <a:chExt cx="4495680" cy="1492200"/>
              </a:xfrm>
            </p:grpSpPr>
            <p:sp>
              <p:nvSpPr>
                <p:cNvPr id="290" name="Line 18"/>
                <p:cNvSpPr/>
                <p:nvPr/>
              </p:nvSpPr>
              <p:spPr>
                <a:xfrm>
                  <a:off x="5482440" y="4279680"/>
                  <a:ext cx="0" cy="10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3272760" y="5314680"/>
                  <a:ext cx="449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2"/>
                <p:cNvSpPr/>
                <p:nvPr/>
              </p:nvSpPr>
              <p:spPr>
                <a:xfrm>
                  <a:off x="3272760" y="5303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3"/>
                <p:cNvSpPr/>
                <p:nvPr/>
              </p:nvSpPr>
              <p:spPr>
                <a:xfrm>
                  <a:off x="47966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"/>
                <p:cNvSpPr/>
                <p:nvPr/>
              </p:nvSpPr>
              <p:spPr>
                <a:xfrm>
                  <a:off x="632088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25"/>
                <p:cNvSpPr/>
                <p:nvPr/>
              </p:nvSpPr>
              <p:spPr>
                <a:xfrm>
                  <a:off x="77684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27"/>
              <p:cNvSpPr/>
              <p:nvPr/>
            </p:nvSpPr>
            <p:spPr>
              <a:xfrm>
                <a:off x="2622240" y="592452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Pr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9"/>
              <p:cNvSpPr/>
              <p:nvPr/>
            </p:nvSpPr>
            <p:spPr>
              <a:xfrm>
                <a:off x="404640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Met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557028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An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094520" y="592452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Tel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9"/>
              <p:cNvSpPr/>
              <p:nvPr/>
            </p:nvSpPr>
            <p:spPr>
              <a:xfrm>
                <a:off x="5213160" y="2707920"/>
                <a:ext cx="22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nstantia"/>
                  </a:rPr>
                  <a:t>Mitotic phase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44"/>
              <p:cNvGrpSpPr/>
              <p:nvPr/>
            </p:nvGrpSpPr>
            <p:grpSpPr>
              <a:xfrm>
                <a:off x="5518080" y="3180960"/>
                <a:ext cx="2514600" cy="457200"/>
                <a:chOff x="5518080" y="3180960"/>
                <a:chExt cx="2514600" cy="457200"/>
              </a:xfrm>
            </p:grpSpPr>
            <p:sp>
              <p:nvSpPr>
                <p:cNvPr id="302" name="Line 40"/>
                <p:cNvSpPr/>
                <p:nvPr/>
              </p:nvSpPr>
              <p:spPr>
                <a:xfrm>
                  <a:off x="6356160" y="31809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1"/>
                <p:cNvSpPr/>
                <p:nvPr/>
              </p:nvSpPr>
              <p:spPr>
                <a:xfrm>
                  <a:off x="5518080" y="340956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2"/>
                <p:cNvSpPr/>
                <p:nvPr/>
              </p:nvSpPr>
              <p:spPr>
                <a:xfrm>
                  <a:off x="55180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3"/>
                <p:cNvSpPr/>
                <p:nvPr/>
              </p:nvSpPr>
              <p:spPr>
                <a:xfrm>
                  <a:off x="80326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4713120" y="3622320"/>
                <a:ext cx="4049640" cy="703800"/>
                <a:chOff x="4713120" y="3622320"/>
                <a:chExt cx="4049640" cy="703800"/>
              </a:xfrm>
            </p:grpSpPr>
            <p:sp>
              <p:nvSpPr>
                <p:cNvPr id="307" name="Text Box 12"/>
                <p:cNvSpPr/>
                <p:nvPr/>
              </p:nvSpPr>
              <p:spPr>
                <a:xfrm>
                  <a:off x="4713120" y="3622320"/>
                  <a:ext cx="1600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  <a:ea typeface="Arial"/>
                    </a:rPr>
                    <a:t>kary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45"/>
                <p:cNvSpPr/>
                <p:nvPr/>
              </p:nvSpPr>
              <p:spPr>
                <a:xfrm>
                  <a:off x="7315200" y="3622320"/>
                  <a:ext cx="1447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</a:rPr>
                    <a:t>Cyt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2280" y="25401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Division differs among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2280" y="3184560"/>
            <a:ext cx="79250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kin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ver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when needed (damage repai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Nerve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not divid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Skeletal muscl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div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Cardiac muscle cell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div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Smooth muscle ce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ve the ability to div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2280" y="12794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ll division distributes the genetic material (DNA) to two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360" y="1143000"/>
            <a:ext cx="8915400" cy="76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ll division distributes identical sets of chromosomes to daughter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ell’s genetic information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nome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نك ال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ن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is packaged as DN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es, the genome is often a single long DNA molecu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ukaryotes, the genome consists of several DNA molecu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human cell must duplicate about 3 m of DNA and separate the two copies such that each daughter cell ends up with a complete gen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olecules are packaged into chromosom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man gametes (sperm or eggs) hav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half the number in a somatic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chromosome consists of a long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NA molecul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5960" y="990360"/>
            <a:ext cx="8915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chromosome has hundreds or thousands of ge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DNA-protein complex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a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organized into a long thin fib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DNA duplication, chroma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s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oso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duplicated chromosome consis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ster chromati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ch contai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ere the chromosoma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ands connect i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ntrom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 of the formation of the tw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ughter nuclei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si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61120" y="1905120"/>
            <a:ext cx="3706560" cy="48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9CB7-D36F-47DE-8807-D4DB09B9708C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ell div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1- Mit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غير المباشر أو الميت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52280" y="228600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is a continuous process and occurs only in eukaryotic cell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non-sex cell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omatic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karyotic cells divide by a different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has two divisions which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nucle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follow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cytoplas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occurs in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حادي المجموعة الكروموسوم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نائ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جموعة الكروموسوم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2280" y="4952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2- Mei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اختزالي أو المي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54864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occurs only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er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ells and is restrict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takes place solely in the testes (males) and ovaries (females) to produc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 s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amet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2674080" y="2169360"/>
            <a:ext cx="442800" cy="3358440"/>
            <a:chOff x="2674080" y="2169360"/>
            <a:chExt cx="442800" cy="3358440"/>
          </a:xfrm>
        </p:grpSpPr>
        <p:sp>
          <p:nvSpPr>
            <p:cNvPr id="216" name="AutoShape 3"/>
            <p:cNvSpPr/>
            <p:nvPr/>
          </p:nvSpPr>
          <p:spPr>
            <a:xfrm rot="16485600">
              <a:off x="2057040" y="452736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1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 rot="15949200">
              <a:off x="2057040" y="286380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65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 rot="16200000">
              <a:off x="271764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3944160" y="2167200"/>
            <a:ext cx="493560" cy="3349800"/>
            <a:chOff x="3944160" y="2167200"/>
            <a:chExt cx="493560" cy="3349800"/>
          </a:xfrm>
        </p:grpSpPr>
        <p:sp>
          <p:nvSpPr>
            <p:cNvPr id="220" name="AutoShape 7"/>
            <p:cNvSpPr/>
            <p:nvPr/>
          </p:nvSpPr>
          <p:spPr>
            <a:xfrm rot="15807600">
              <a:off x="3352680" y="451440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7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"/>
            <p:cNvSpPr/>
            <p:nvPr/>
          </p:nvSpPr>
          <p:spPr>
            <a:xfrm rot="16521600">
              <a:off x="3352680" y="286344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0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 rot="16200000">
              <a:off x="389880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6483960" y="2243520"/>
            <a:ext cx="836640" cy="3360600"/>
            <a:chOff x="6483960" y="2243520"/>
            <a:chExt cx="836640" cy="3360600"/>
          </a:xfrm>
        </p:grpSpPr>
        <p:grpSp>
          <p:nvGrpSpPr>
            <p:cNvPr id="224" name="Group 11"/>
            <p:cNvGrpSpPr/>
            <p:nvPr/>
          </p:nvGrpSpPr>
          <p:grpSpPr>
            <a:xfrm>
              <a:off x="6483960" y="2245680"/>
              <a:ext cx="442800" cy="3358440"/>
              <a:chOff x="6483960" y="2245680"/>
              <a:chExt cx="442800" cy="3358440"/>
            </a:xfrm>
          </p:grpSpPr>
          <p:sp>
            <p:nvSpPr>
              <p:cNvPr id="225" name="AutoShape 12"/>
              <p:cNvSpPr/>
              <p:nvPr/>
            </p:nvSpPr>
            <p:spPr>
              <a:xfrm rot="16485600">
                <a:off x="5866920" y="460368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3"/>
              <p:cNvSpPr/>
              <p:nvPr/>
            </p:nvSpPr>
            <p:spPr>
              <a:xfrm rot="15949200">
                <a:off x="5866920" y="294012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"/>
              <p:cNvSpPr/>
              <p:nvPr/>
            </p:nvSpPr>
            <p:spPr>
              <a:xfrm rot="16200000">
                <a:off x="652752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6827040" y="2243520"/>
              <a:ext cx="493560" cy="3349800"/>
              <a:chOff x="6827040" y="2243520"/>
              <a:chExt cx="493560" cy="3349800"/>
            </a:xfrm>
          </p:grpSpPr>
          <p:sp>
            <p:nvSpPr>
              <p:cNvPr id="229" name="AutoShape 16"/>
              <p:cNvSpPr/>
              <p:nvPr/>
            </p:nvSpPr>
            <p:spPr>
              <a:xfrm rot="15807600">
                <a:off x="6235560" y="459072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 rot="16521600">
                <a:off x="6235560" y="2939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8"/>
              <p:cNvSpPr/>
              <p:nvPr/>
            </p:nvSpPr>
            <p:spPr>
              <a:xfrm rot="16200000">
                <a:off x="678168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9"/>
          <p:cNvGrpSpPr/>
          <p:nvPr/>
        </p:nvGrpSpPr>
        <p:grpSpPr>
          <a:xfrm>
            <a:off x="2057400" y="654120"/>
            <a:ext cx="1676520" cy="1600200"/>
            <a:chOff x="2057400" y="654120"/>
            <a:chExt cx="1676520" cy="1600200"/>
          </a:xfrm>
        </p:grpSpPr>
        <p:sp>
          <p:nvSpPr>
            <p:cNvPr id="233" name="Line 20"/>
            <p:cNvSpPr/>
            <p:nvPr/>
          </p:nvSpPr>
          <p:spPr>
            <a:xfrm>
              <a:off x="2819520" y="164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2057400" y="654120"/>
              <a:ext cx="1676520" cy="990360"/>
              <a:chOff x="2057400" y="654120"/>
              <a:chExt cx="1676520" cy="990360"/>
            </a:xfrm>
          </p:grpSpPr>
          <p:sp>
            <p:nvSpPr>
              <p:cNvPr id="235" name="Rectangle 22"/>
              <p:cNvSpPr/>
              <p:nvPr/>
            </p:nvSpPr>
            <p:spPr>
              <a:xfrm>
                <a:off x="2057400" y="654120"/>
                <a:ext cx="1676520" cy="99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3"/>
              <p:cNvSpPr/>
              <p:nvPr/>
            </p:nvSpPr>
            <p:spPr>
              <a:xfrm>
                <a:off x="2133720" y="6541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Constantia"/>
                  </a:rPr>
                  <a:t>Chromati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4"/>
              <p:cNvSpPr/>
              <p:nvPr/>
            </p:nvSpPr>
            <p:spPr>
              <a:xfrm>
                <a:off x="2210040" y="974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romatin + D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5"/>
              <p:cNvSpPr/>
              <p:nvPr/>
            </p:nvSpPr>
            <p:spPr>
              <a:xfrm>
                <a:off x="350532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26"/>
              <p:cNvSpPr/>
              <p:nvPr/>
            </p:nvSpPr>
            <p:spPr>
              <a:xfrm flipH="1">
                <a:off x="213300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7"/>
          <p:cNvGrpSpPr/>
          <p:nvPr/>
        </p:nvGrpSpPr>
        <p:grpSpPr>
          <a:xfrm>
            <a:off x="3352320" y="1660680"/>
            <a:ext cx="3200760" cy="745560"/>
            <a:chOff x="3352320" y="1660680"/>
            <a:chExt cx="3200760" cy="745560"/>
          </a:xfrm>
        </p:grpSpPr>
        <p:sp>
          <p:nvSpPr>
            <p:cNvPr id="241" name="Line 28"/>
            <p:cNvSpPr/>
            <p:nvPr/>
          </p:nvSpPr>
          <p:spPr>
            <a:xfrm flipH="1">
              <a:off x="3352320" y="1873080"/>
              <a:ext cx="10666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95680" y="1660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nstantia"/>
                </a:rPr>
                <a:t>Sister chromat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0"/>
          <p:cNvSpPr/>
          <p:nvPr/>
        </p:nvSpPr>
        <p:spPr>
          <a:xfrm>
            <a:off x="2057400" y="5638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Chromosome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وموسوم أو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ب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1"/>
          <p:cNvGrpSpPr/>
          <p:nvPr/>
        </p:nvGrpSpPr>
        <p:grpSpPr>
          <a:xfrm>
            <a:off x="479520" y="3610080"/>
            <a:ext cx="2340000" cy="398880"/>
            <a:chOff x="479520" y="3610080"/>
            <a:chExt cx="2340000" cy="398880"/>
          </a:xfrm>
        </p:grpSpPr>
        <p:sp>
          <p:nvSpPr>
            <p:cNvPr id="245" name="Rectangle 32"/>
            <p:cNvSpPr/>
            <p:nvPr/>
          </p:nvSpPr>
          <p:spPr>
            <a:xfrm>
              <a:off x="479520" y="3610080"/>
              <a:ext cx="162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Centrom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>
              <a:off x="2057400" y="38545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3352680" y="3352680"/>
            <a:ext cx="3124080" cy="1143000"/>
            <a:chOff x="3352680" y="3352680"/>
            <a:chExt cx="3124080" cy="1143000"/>
          </a:xfrm>
        </p:grpSpPr>
        <p:sp>
          <p:nvSpPr>
            <p:cNvPr id="248" name="Text Box 35"/>
            <p:cNvSpPr/>
            <p:nvPr/>
          </p:nvSpPr>
          <p:spPr>
            <a:xfrm>
              <a:off x="3555720" y="36320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Homologous 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3352680" y="3352680"/>
              <a:ext cx="3124080" cy="1143000"/>
            </a:xfrm>
            <a:prstGeom prst="hexagon">
              <a:avLst>
                <a:gd name="adj" fmla="val 6833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6812E-006 L -0.10834 -3.56812E-006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"/>
          <p:cNvPicPr/>
          <p:nvPr/>
        </p:nvPicPr>
        <p:blipFill>
          <a:blip r:embed="rId1"/>
          <a:srcRect l="0" t="0" r="0" b="2966"/>
          <a:stretch/>
        </p:blipFill>
        <p:spPr>
          <a:xfrm>
            <a:off x="5334120" y="2027160"/>
            <a:ext cx="3733560" cy="3078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52280" y="1692360"/>
            <a:ext cx="8686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cycle consists of two basic 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b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M)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hase include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Karyokin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نوو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سيتوبلازم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terphase accounts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cell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interphase the cell prepares for                                                              division by producing cytoplasmic                                                          organelles and copying its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ree sub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rst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 the cell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where the DNA replication oc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econd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the cell completes preparations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tic ph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)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starts the divisio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e resulting daughter cells may then repeat the cycl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762120" y="8380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mitotic cell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1620360"/>
            <a:ext cx="88394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التمهي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Met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ستو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An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فص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Telophas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طور ا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ه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5418000" y="2236680"/>
            <a:ext cx="3345120" cy="37832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152280" y="373392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ate interphase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G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, the chromosomes have been duplicat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ضاعف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ut are loosely p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somes have been duplicated and begin to organize microtubules into an aster (st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0948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it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04920" y="837720"/>
            <a:ext cx="624816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stage of mitosis begins with the shorting and thickening of the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re tightly coiled, with sister chromatids join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clear membrane fragments and the nucleolus disappear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2) Met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itotic spindle fibers begins to form and appears to push the centromere away from each other towards opposite ends (poles) of the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crotubu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om one pole attach to one 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inetochor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special regions of the centromere) while microtubules from the other pole attach to the other kinetocho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lign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B36F-8861-4CA9-A2E9-B83D3C34DADB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705720" y="82224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705720" y="2803680"/>
            <a:ext cx="2286000" cy="192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3"/>
          <a:stretch/>
        </p:blipFill>
        <p:spPr>
          <a:xfrm>
            <a:off x="6705720" y="478476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Mohammed Albeshr</cp:lastModifiedBy>
  <dcterms:modified xsi:type="dcterms:W3CDTF">2017-10-15T04:15:49Z</dcterms:modified>
  <cp:revision>240</cp:revision>
  <dc:subject/>
  <dc:title>Slide 1</dc:title>
</cp:coreProperties>
</file>