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08D-7422-4D41-B3AE-6B31454146B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4E35-D5C2-415B-BB6D-6472576297A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B3A2-055E-4B15-98F7-0EDEC08F1A0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58D8-4CAC-4B96-9633-AE1557D5C7B3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0A6-E5E1-44A8-92A2-C6648C362FB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8BBF-E58D-4202-B7C7-243D3FDC88D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C9F-588F-45C3-9EDA-0ACD15A8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8D1-F95F-47A7-AD54-87E5CF87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E70D-E0AC-4DEF-A85E-C56741EC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0FE-8275-435E-9243-2345A10D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565-985C-44AF-B43B-B18C5771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E44-F206-4FD4-A66F-3B78D4DA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977-4083-49C0-92B2-FCA0DB36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58E-751A-40AA-8C76-25167454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B1C-B7DC-4E3A-85E7-28058F0C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1FC-5816-4192-A8D5-E08505E9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D086-01AA-4F99-8E60-3CDBC924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59B0-8CAB-4DCC-B59F-B05D844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27AB-B361-4E3F-99B3-3C676B7B7B3B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The Antibody 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742080"/>
        </p:xfrm>
        <a:graphic>
          <a:graphicData uri="http://schemas.openxmlformats.org/drawingml/2006/table">
            <a:tbl>
              <a:tblPr/>
              <a:tblGrid>
                <a:gridCol w="2411280"/>
                <a:gridCol w="1876680"/>
                <a:gridCol w="2570040"/>
                <a:gridCol w="2286000"/>
              </a:tblGrid>
              <a:tr h="13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g binding si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e of 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CROSS PLAC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 macrophage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tox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 flu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glutin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7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or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retions (saliva, tears, small intestine, vaginal, prostate, nasal, breast mil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p bacteria adhering to host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s bacteria forming colonies on mucous membra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ate mast ce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T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m respon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Picture 85" descr="igg"/>
          <p:cNvPicPr/>
          <p:nvPr/>
        </p:nvPicPr>
        <p:blipFill>
          <a:blip r:embed="rId1"/>
          <a:stretch/>
        </p:blipFill>
        <p:spPr>
          <a:xfrm>
            <a:off x="611280" y="1700280"/>
            <a:ext cx="172728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IgM"/>
          <p:cNvPicPr/>
          <p:nvPr/>
        </p:nvPicPr>
        <p:blipFill>
          <a:blip r:embed="rId2"/>
          <a:stretch/>
        </p:blipFill>
        <p:spPr>
          <a:xfrm>
            <a:off x="1258920" y="270828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5" descr="IgA"/>
          <p:cNvPicPr/>
          <p:nvPr/>
        </p:nvPicPr>
        <p:blipFill>
          <a:blip r:embed="rId3"/>
          <a:stretch/>
        </p:blipFill>
        <p:spPr>
          <a:xfrm>
            <a:off x="324000" y="4149720"/>
            <a:ext cx="1965240" cy="131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7" descr="IgE"/>
          <p:cNvPicPr/>
          <p:nvPr/>
        </p:nvPicPr>
        <p:blipFill>
          <a:blip r:embed="rId4"/>
          <a:stretch/>
        </p:blipFill>
        <p:spPr>
          <a:xfrm>
            <a:off x="611280" y="5661000"/>
            <a:ext cx="13129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Antibody-Mediated Immune Respons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tibody-mediated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gen activates naïve B cells and dendritic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ïve T cell binds to APC and differentiates into effector and memory helper T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r T cells bind antigen-MHC complexes on activated B cell and secrete cytok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 cell differentiates into effector B cells, which produce antibodies targeting a specific antigen, and memory B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mmunoglobulins (Glycoprotei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vy and light chains are polypept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hains are held together by disulphide brid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ach ab has 2 identical ag binding sites – variable reg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order of amino acids in the variable region determines the shape of the binding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Antibody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1" descr="3812a"/>
          <p:cNvPicPr/>
          <p:nvPr/>
        </p:nvPicPr>
        <p:blipFill>
          <a:blip r:embed="rId2"/>
          <a:stretch/>
        </p:blipFill>
        <p:spPr>
          <a:xfrm>
            <a:off x="0" y="1484280"/>
            <a:ext cx="248112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Antibodie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d Other Antigen Recepto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gen receptors on B and T cells have the potential to recognize billions of different anti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-shaped antigen receptor (protein), made only by B cells, that binds only to the antigen that prompted its syn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s complement, facilitates phagocytosis, or neutralizes pathogens or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ve Classes of 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regions determine 5 classes of antibodies (immunoglobins IgG, IgA, IgE, IgM, and IgD), each with different fun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 cell recep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membrane-bound IgM or IgD 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Different Immunoglobuli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6" descr="IGs"/>
          <p:cNvPicPr/>
          <p:nvPr/>
        </p:nvPicPr>
        <p:blipFill>
          <a:blip r:embed="rId1"/>
          <a:stretch/>
        </p:blipFill>
        <p:spPr>
          <a:xfrm>
            <a:off x="395280" y="1628640"/>
            <a:ext cx="83534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ve Classes of Antibod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1" descr="38T4"/>
          <p:cNvPicPr/>
          <p:nvPr/>
        </p:nvPicPr>
        <p:blipFill>
          <a:blip r:embed="rId1"/>
          <a:srcRect l="0" t="4966" r="0" b="1927"/>
          <a:stretch/>
        </p:blipFill>
        <p:spPr>
          <a:xfrm>
            <a:off x="395280" y="1052640"/>
            <a:ext cx="8424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How Abs wor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labe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to identif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gens for phag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work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ntitoxin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.e. they block toxins for e.g. those causing diphtheria and tet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ttach to bacterial flagella making them less active and easier for phagocytes to engu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cause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agglutination (clumping together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of bacteria making them less likely to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2-04T05:29:33Z</dcterms:modified>
  <cp:revision>79</cp:revision>
  <dc:subject/>
  <dc:title>THE IMMUNE SYSTEM</dc:title>
</cp:coreProperties>
</file>