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F948-F335-45F3-B714-656F7822F75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745A-4933-43EE-B995-72378CCAF38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792-D672-4DC5-9144-B67D2CAD02DF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A238-72CC-4453-9624-A272F6295F2E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8DD-B5E9-4595-A227-7CD245C17CB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E650-597F-46B8-8164-253580CB6CFD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07E-1ABA-4BB8-B704-8E402088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387-D657-4DFD-A57B-21D61F95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0BF-097A-4F11-9139-7FE99BBF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371-14BB-44DD-B800-ECC203C3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2B1-F6E7-4F27-886E-7B18AD26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318-EA5D-4B73-8C1D-9D514747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CDE-BCAF-41C1-8DC6-DA56ADD4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073-2396-4EA3-BB8F-90005160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FFF-789D-464A-B922-8EB094E5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D17-D4B6-4DAF-A308-16E62E3F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0A2-11B2-40FB-92DD-233192D2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1E5-1097-45E3-8CC1-9D4BEEF7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16B2-2E1A-4C28-B66E-DE9B02947A0B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The Antibody 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742080"/>
        </p:xfrm>
        <a:graphic>
          <a:graphicData uri="http://schemas.openxmlformats.org/drawingml/2006/table">
            <a:tbl>
              <a:tblPr/>
              <a:tblGrid>
                <a:gridCol w="2411280"/>
                <a:gridCol w="1876680"/>
                <a:gridCol w="2570040"/>
                <a:gridCol w="2286000"/>
              </a:tblGrid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ag binding si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 of 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CROSS PLACE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macrophage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tox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or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retions (saliva, tears, small intestine, vaginal, prostate, nasal, breast mil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bacteria adhering to host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s bacteria forming colonies on mucous membra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ate mast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m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85" descr="igg"/>
          <p:cNvPicPr/>
          <p:nvPr/>
        </p:nvPicPr>
        <p:blipFill>
          <a:blip r:embed="rId1"/>
          <a:stretch/>
        </p:blipFill>
        <p:spPr>
          <a:xfrm>
            <a:off x="611280" y="1700280"/>
            <a:ext cx="1727280" cy="103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IgM"/>
          <p:cNvPicPr/>
          <p:nvPr/>
        </p:nvPicPr>
        <p:blipFill>
          <a:blip r:embed="rId2"/>
          <a:stretch/>
        </p:blipFill>
        <p:spPr>
          <a:xfrm>
            <a:off x="1258920" y="27082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5" descr="IgA"/>
          <p:cNvPicPr/>
          <p:nvPr/>
        </p:nvPicPr>
        <p:blipFill>
          <a:blip r:embed="rId3"/>
          <a:stretch/>
        </p:blipFill>
        <p:spPr>
          <a:xfrm>
            <a:off x="324000" y="4149720"/>
            <a:ext cx="1965240" cy="131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7" descr="IgE"/>
          <p:cNvPicPr/>
          <p:nvPr/>
        </p:nvPicPr>
        <p:blipFill>
          <a:blip r:embed="rId4"/>
          <a:stretch/>
        </p:blipFill>
        <p:spPr>
          <a:xfrm>
            <a:off x="611280" y="5661000"/>
            <a:ext cx="13129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ntibody-Mediated Immune Respon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tibody-mediated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gen activates naïve B cells and dendritic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ïve T cell binds to APC and differentiates into effector and memory helper T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er T cells bind antigen-MHC complexes on activated B cell and secrete cytok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cell differentiates into effector B cells, which produce antibodies targeting a specific antigen, and memory B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ntibo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mmunoglobulins (Glycoprotei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vy and light chains are polypep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hains are held together by disulphide brid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ab has 2 identical ag binding sites – variable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rder of amino acids in the variable region determines the shape of the binding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Antibody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1" descr="3812a"/>
          <p:cNvPicPr/>
          <p:nvPr/>
        </p:nvPicPr>
        <p:blipFill>
          <a:blip r:embed="rId2"/>
          <a:stretch/>
        </p:blipFill>
        <p:spPr>
          <a:xfrm>
            <a:off x="0" y="1484280"/>
            <a:ext cx="24811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Antibod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d Other Antigen Recepto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gen receptors on B and T cells have the potential to recognize billions of different anti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-shaped antigen receptor (protein), made only by B cells, that binds only to the antigen that prompted its syn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s complement, facilitates phagocytosis, or neutralizes pathogens or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ve Classes of Antibo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 regions determine 5 classes of antibodies (immunoglobins IgG, IgA, IgE, IgM, and IgD), each with different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 cell recep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membrane-bound IgM or IgD anti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Different Immunoglobuli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6" descr="IGs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ve Classes of Antibo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5" name="Picture1" descr="38T4"/>
          <p:cNvPicPr/>
          <p:nvPr/>
        </p:nvPicPr>
        <p:blipFill>
          <a:blip r:embed="rId1"/>
          <a:srcRect l="0" t="4966" r="0" b="1927"/>
          <a:stretch/>
        </p:blipFill>
        <p:spPr>
          <a:xfrm>
            <a:off x="395280" y="1052640"/>
            <a:ext cx="8424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How Abs 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ct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abe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o identif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gens for phag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work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ntitoxi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.e. they block toxins for e.g. those causing diphtheria and tet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ttach to bacterial flagella making them less active and easier for phagocytes to engu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caus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gglutination (clumping together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f bacteria making them less likely to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المستخدم</cp:lastModifiedBy>
  <dcterms:modified xsi:type="dcterms:W3CDTF">2017-12-04T05:29:33Z</dcterms:modified>
  <cp:revision>79</cp:revision>
  <dc:subject/>
  <dc:title>THE IMMUNE SYSTEM</dc:title>
</cp:coreProperties>
</file>