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4FA-564E-4D95-91C4-AA0A9EAD38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AC7-D2A8-428D-A3AC-4C90D41568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99B4-4B87-4FF4-89D3-DD417268B5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C1BA-0137-4997-A448-51C97EAAC8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CD2-B874-4DE7-A9DC-9C555AFA83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78D8-344E-4CBE-AC47-EAB2BED1AD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461A-B5B5-4471-97D0-0A2E19107B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F23-055C-45E5-A8C3-974034EB5D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D7D-C3E2-4FC0-8E6A-F2CCA1B073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818-E743-420D-B4BA-9E7FAC7B44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90B5-DA47-42FA-9985-C7DBB7F5EA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816-EA13-4909-A136-22E78844FF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CA6-0C9D-438E-A72A-B04CA078B6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EE9E-FFA9-4910-90C5-0C8CFBF9BB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CD1-639E-47A6-8576-8187BFCF2E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741-0DBD-4FEA-97E4-2225E98446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8D1-2383-4220-A06A-7A9C4AA9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170-F8EF-45E6-AF52-B2B5523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DF7-A529-42B5-813B-C2FF2FF4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486-4311-4A12-A628-5FE78CD9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9DE-7799-46CC-8E78-759BB61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9EA-05A1-4D93-B62B-3ACACDAC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DFA-0223-4F31-B907-DE379DF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D6A-9782-456A-8997-AE045AED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BD6-5EEB-4871-BA5F-104E2787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798-6626-41F4-A32B-0D9D0EF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431-E9E2-48FC-A7C8-CE4DEB9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13E-388C-464E-A5AB-5250557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9074-4E9C-4C59-A6E7-4BC3EDB923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6F1-D86C-4662-8C02-8F3870FE46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152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HAPTER 5 </a:t>
            </a:r>
            <a:br>
              <a:rPr sz="2400"/>
            </a:b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320" y="6400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714680" y="149868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50760" y="63360"/>
            <a:ext cx="1676520" cy="1392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9E64-8A38-4BF4-B3FB-0DF13D93B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04920" y="4874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Monosaccharides are classified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e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e group        within 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57400" y="1219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37160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C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D17-97DE-473B-A982-3F096FF2F9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533520" y="1523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ed of 2 monosaccharide molecules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1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2(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+ 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2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371600" y="120636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76320" y="79200"/>
            <a:ext cx="1371600" cy="114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"/>
          <p:cNvPicPr/>
          <p:nvPr/>
        </p:nvPicPr>
        <p:blipFill>
          <a:blip r:embed="rId2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5"/>
          <p:cNvSpPr/>
          <p:nvPr/>
        </p:nvSpPr>
        <p:spPr>
          <a:xfrm>
            <a:off x="594360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5.5a, Page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376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ahoma"/>
              </a:rPr>
              <a:t>1-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A04-8A96-480C-8CEF-3ED076FB84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2- 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milk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Ga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04920" y="1981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3- 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2954160"/>
            <a:ext cx="8915400" cy="26085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152280" y="601992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5, Page 6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675C-39EE-42C5-8A17-6DE83A06D6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00"/>
                </a:solidFill>
                <a:uFillTx/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0880" y="1797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Consisted of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986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They have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8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ructural </a:t>
            </a:r>
            <a:r>
              <a:rPr b="0" lang="ar-EG" sz="28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r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3701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provide sugar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cell by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80880" y="4921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ructural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serve a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building material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the orga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676520" y="137160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575000" cy="130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C98-499E-4D54-82F5-C227310CE5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807840"/>
            <a:ext cx="4495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- Starch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( in pla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1690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28600" y="21477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hydrolysed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8600" y="3138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A)- Storage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نخزين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7543800" y="56386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194-BD4D-4E8C-A126-7A90FF9336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Glycogen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 ( in anim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22860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4FB-5BC0-4306-9601-EAEBDD6CAA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990720" y="122400"/>
            <a:ext cx="716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B)- Structural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تركيب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884160"/>
            <a:ext cx="2819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80880" y="2133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80880" y="2666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80880" y="1600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12408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0" y="6400800"/>
            <a:ext cx="158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c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376D-0FB5-48A1-99A8-0A5F233ACF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052720" y="228600"/>
            <a:ext cx="7014960" cy="585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8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28600" y="2470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of cellulose i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6C25-6B51-4B3B-9A34-AFB8F5A922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364680"/>
            <a:ext cx="8534160" cy="62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zymes that digest starch cannot hydrolyze the beta linkages in cellu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ose in our food passes through the digestive tract and is eliminated in feces as “insoluble fib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travels through the digestive tract, it abrades the intestinal walls and stimulates the secretion of mu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icrobes can digest cellulose to its glucose monomers through the us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karyotic herbivor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آكلات العش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cows and termites, have symbiotic relationships with cellulolytic microbes, allowing them access to this rich source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0FE4-4113-4819-9431-7D153525A0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228600" y="304920"/>
            <a:ext cx="2514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473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9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C7E-752C-4E66-8FF6-77264D4B21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4094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organic molecules together to form larg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arger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y be composed of thousands of atoms and weigh over 100,000 dal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ur major classes of macromolecules ar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hydrates, lipids, proteins, and nucleic acids (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of the four classes of macromolecules form chainlik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كل السلسل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es called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acromolecul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consist of many similar or identical building blocks link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eated units are small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nom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720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3FD-EA5A-47C3-B6C8-3D25993C83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55"/>
          <p:cNvGrpSpPr/>
          <p:nvPr/>
        </p:nvGrpSpPr>
        <p:grpSpPr>
          <a:xfrm>
            <a:off x="1981080" y="533520"/>
            <a:ext cx="4038840" cy="685800"/>
            <a:chOff x="1981080" y="533520"/>
            <a:chExt cx="4038840" cy="685800"/>
          </a:xfrm>
        </p:grpSpPr>
        <p:sp>
          <p:nvSpPr>
            <p:cNvPr id="404" name="Line 4"/>
            <p:cNvSpPr/>
            <p:nvPr/>
          </p:nvSpPr>
          <p:spPr>
            <a:xfrm>
              <a:off x="4343400" y="53352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1981080" y="91440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198108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601992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0"/>
          <p:cNvGrpSpPr/>
          <p:nvPr/>
        </p:nvGrpSpPr>
        <p:grpSpPr>
          <a:xfrm>
            <a:off x="914400" y="4203720"/>
            <a:ext cx="2057400" cy="827640"/>
            <a:chOff x="914400" y="4203720"/>
            <a:chExt cx="2057400" cy="827640"/>
          </a:xfrm>
        </p:grpSpPr>
        <p:sp>
          <p:nvSpPr>
            <p:cNvPr id="409" name="Line 14"/>
            <p:cNvSpPr/>
            <p:nvPr/>
          </p:nvSpPr>
          <p:spPr>
            <a:xfrm>
              <a:off x="1905120" y="4203720"/>
              <a:ext cx="0" cy="30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914400" y="449892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ahoma"/>
                </a:rPr>
                <a:t>Location of 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2"/>
          <p:cNvGrpSpPr/>
          <p:nvPr/>
        </p:nvGrpSpPr>
        <p:grpSpPr>
          <a:xfrm>
            <a:off x="457200" y="5576760"/>
            <a:ext cx="2971800" cy="673920"/>
            <a:chOff x="457200" y="5576760"/>
            <a:chExt cx="2971800" cy="673920"/>
          </a:xfrm>
        </p:grpSpPr>
        <p:sp>
          <p:nvSpPr>
            <p:cNvPr id="412" name="Text Box 20"/>
            <p:cNvSpPr/>
            <p:nvPr/>
          </p:nvSpPr>
          <p:spPr>
            <a:xfrm>
              <a:off x="6094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57200" y="594360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19810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2057400" y="59436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59"/>
          <p:cNvGrpSpPr/>
          <p:nvPr/>
        </p:nvGrpSpPr>
        <p:grpSpPr>
          <a:xfrm>
            <a:off x="685800" y="3521160"/>
            <a:ext cx="8229600" cy="685800"/>
            <a:chOff x="685800" y="3521160"/>
            <a:chExt cx="8229600" cy="685800"/>
          </a:xfrm>
        </p:grpSpPr>
        <p:sp>
          <p:nvSpPr>
            <p:cNvPr id="417" name="Text Box 9"/>
            <p:cNvSpPr/>
            <p:nvPr/>
          </p:nvSpPr>
          <p:spPr>
            <a:xfrm>
              <a:off x="990720" y="352116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4038480" y="3544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6553080" y="35337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68580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lucose &amp; Fruct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373392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Maltose &amp; Sucr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5"/>
          <p:cNvGrpSpPr/>
          <p:nvPr/>
        </p:nvGrpSpPr>
        <p:grpSpPr>
          <a:xfrm>
            <a:off x="4267080" y="4821120"/>
            <a:ext cx="4648320" cy="1198800"/>
            <a:chOff x="4267080" y="4821120"/>
            <a:chExt cx="4648320" cy="1198800"/>
          </a:xfrm>
        </p:grpSpPr>
        <p:sp>
          <p:nvSpPr>
            <p:cNvPr id="423" name="Text Box 32"/>
            <p:cNvSpPr/>
            <p:nvPr/>
          </p:nvSpPr>
          <p:spPr>
            <a:xfrm>
              <a:off x="4348080" y="482112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"/>
            <p:cNvSpPr/>
            <p:nvPr/>
          </p:nvSpPr>
          <p:spPr>
            <a:xfrm>
              <a:off x="7209000" y="48211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5"/>
            <p:cNvSpPr/>
            <p:nvPr/>
          </p:nvSpPr>
          <p:spPr>
            <a:xfrm>
              <a:off x="4267080" y="5195880"/>
              <a:ext cx="198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6"/>
            <p:cNvSpPr/>
            <p:nvPr/>
          </p:nvSpPr>
          <p:spPr>
            <a:xfrm>
              <a:off x="6964200" y="5226120"/>
              <a:ext cx="19512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38"/>
          <p:cNvSpPr/>
          <p:nvPr/>
        </p:nvSpPr>
        <p:spPr>
          <a:xfrm>
            <a:off x="68580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C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4572000" y="1219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suga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836640" y="1600200"/>
            <a:ext cx="3124080" cy="685800"/>
            <a:chOff x="836640" y="1600200"/>
            <a:chExt cx="3124080" cy="685800"/>
          </a:xfrm>
        </p:grpSpPr>
        <p:sp>
          <p:nvSpPr>
            <p:cNvPr id="430" name="Line 7"/>
            <p:cNvSpPr/>
            <p:nvPr/>
          </p:nvSpPr>
          <p:spPr>
            <a:xfrm>
              <a:off x="83664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0"/>
            <p:cNvSpPr/>
            <p:nvPr/>
          </p:nvSpPr>
          <p:spPr>
            <a:xfrm>
              <a:off x="23605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1"/>
            <p:cNvSpPr/>
            <p:nvPr/>
          </p:nvSpPr>
          <p:spPr>
            <a:xfrm>
              <a:off x="39607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>
              <a:off x="836640" y="198108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3"/>
            <p:cNvSpPr/>
            <p:nvPr/>
          </p:nvSpPr>
          <p:spPr>
            <a:xfrm>
              <a:off x="197964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57"/>
          <p:cNvGrpSpPr/>
          <p:nvPr/>
        </p:nvGrpSpPr>
        <p:grpSpPr>
          <a:xfrm>
            <a:off x="218520" y="2263680"/>
            <a:ext cx="4506840" cy="520200"/>
            <a:chOff x="218520" y="2263680"/>
            <a:chExt cx="4506840" cy="520200"/>
          </a:xfrm>
        </p:grpSpPr>
        <p:sp>
          <p:nvSpPr>
            <p:cNvPr id="436" name="Rectangle 44"/>
            <p:cNvSpPr/>
            <p:nvPr/>
          </p:nvSpPr>
          <p:spPr>
            <a:xfrm>
              <a:off x="218520" y="22636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1908360" y="22636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3515760" y="22636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8"/>
          <p:cNvGrpSpPr/>
          <p:nvPr/>
        </p:nvGrpSpPr>
        <p:grpSpPr>
          <a:xfrm>
            <a:off x="2133720" y="1676520"/>
            <a:ext cx="5486400" cy="1919160"/>
            <a:chOff x="2133720" y="1676520"/>
            <a:chExt cx="5486400" cy="1919160"/>
          </a:xfrm>
        </p:grpSpPr>
        <p:sp>
          <p:nvSpPr>
            <p:cNvPr id="440" name="Line 27"/>
            <p:cNvSpPr/>
            <p:nvPr/>
          </p:nvSpPr>
          <p:spPr>
            <a:xfrm>
              <a:off x="6019920" y="167652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2133720" y="321480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0"/>
            <p:cNvSpPr/>
            <p:nvPr/>
          </p:nvSpPr>
          <p:spPr>
            <a:xfrm>
              <a:off x="76201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7"/>
            <p:cNvSpPr/>
            <p:nvPr/>
          </p:nvSpPr>
          <p:spPr>
            <a:xfrm>
              <a:off x="495288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48"/>
            <p:cNvSpPr/>
            <p:nvPr/>
          </p:nvSpPr>
          <p:spPr>
            <a:xfrm>
              <a:off x="21337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3"/>
          <p:cNvGrpSpPr/>
          <p:nvPr/>
        </p:nvGrpSpPr>
        <p:grpSpPr>
          <a:xfrm>
            <a:off x="5029200" y="3900600"/>
            <a:ext cx="2971800" cy="990360"/>
            <a:chOff x="5029200" y="3900600"/>
            <a:chExt cx="2971800" cy="990360"/>
          </a:xfrm>
        </p:grpSpPr>
        <p:sp>
          <p:nvSpPr>
            <p:cNvPr id="446" name="Line 49"/>
            <p:cNvSpPr/>
            <p:nvPr/>
          </p:nvSpPr>
          <p:spPr>
            <a:xfrm>
              <a:off x="7620120" y="39006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1"/>
            <p:cNvSpPr/>
            <p:nvPr/>
          </p:nvSpPr>
          <p:spPr>
            <a:xfrm>
              <a:off x="5029200" y="45100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2"/>
            <p:cNvSpPr/>
            <p:nvPr/>
          </p:nvSpPr>
          <p:spPr>
            <a:xfrm>
              <a:off x="50292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3"/>
            <p:cNvSpPr/>
            <p:nvPr/>
          </p:nvSpPr>
          <p:spPr>
            <a:xfrm>
              <a:off x="80010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1295280" y="5043600"/>
            <a:ext cx="1219320" cy="533160"/>
            <a:chOff x="1295280" y="5043600"/>
            <a:chExt cx="1219320" cy="533160"/>
          </a:xfrm>
        </p:grpSpPr>
        <p:sp>
          <p:nvSpPr>
            <p:cNvPr id="451" name="Line 15"/>
            <p:cNvSpPr/>
            <p:nvPr/>
          </p:nvSpPr>
          <p:spPr>
            <a:xfrm>
              <a:off x="1295280" y="5346720"/>
              <a:ext cx="1219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129528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251460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4"/>
            <p:cNvSpPr/>
            <p:nvPr/>
          </p:nvSpPr>
          <p:spPr>
            <a:xfrm>
              <a:off x="1905120" y="504360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80C-0935-4BE5-9FC2-8DC6A69E6C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5334120" y="3962520"/>
            <a:ext cx="373356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7217" b="53348"/>
          <a:stretch/>
        </p:blipFill>
        <p:spPr>
          <a:xfrm>
            <a:off x="5587920" y="839880"/>
            <a:ext cx="3479760" cy="243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556920"/>
            <a:ext cx="90676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den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6400800"/>
            <a:ext cx="19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a &amp; b, Page 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6320" y="3921120"/>
            <a:ext cx="906768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F7C-8099-46EB-9532-63C6E90C34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45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70" name="Line 5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1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is a long molecule consists of a chain of similar building molecules (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monomers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10280" y="64911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80808"/>
                </a:solidFill>
                <a:latin typeface="Tahoma"/>
              </a:rPr>
              <a:t>Page 62 – 63, Fig.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84" name="Text Box 19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8DA0-CEA9-4EDE-9793-CAC6784E6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523880" y="716040"/>
            <a:ext cx="73915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1- Carbohyd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el and Buil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erial (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ادة الطاقة و البنا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914400" y="236052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287964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ars, the smallest carbohydrates, serve as fuel and carb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saccharides, the polymers of sugars, have storage and structur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574640" cy="1308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76320" y="6338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64-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59F-BFD6-48E7-965A-B8B7561D6D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implest carbohydrates (simple suga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uble sugars, consis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wo mono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ed b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densation reaction (dehydr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lymers of monosaccha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hav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yl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p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bonly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=O) is at the en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, the sugar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d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dehyd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not, the sugars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eton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aldose”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ketose”. They are structural is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may also exist a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anti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alact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oth six-carbon aldoses, differ in the arrangement around asymmetrical carbon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ذرة الكربون الغير متماثل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osaccharides, particularly glucose, are a major fuel for cellula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461A-21D2-4A27-A218-F7EA564FCD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7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2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8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0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1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7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2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7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2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7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2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5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4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7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6"/>
          <p:cNvSpPr/>
          <p:nvPr/>
        </p:nvSpPr>
        <p:spPr>
          <a:xfrm>
            <a:off x="152280" y="64911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61E-CCAF-4B9A-B39D-F39DDD051C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3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6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5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8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9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1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2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7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0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3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15"/>
          <p:cNvSpPr/>
          <p:nvPr/>
        </p:nvSpPr>
        <p:spPr>
          <a:xfrm>
            <a:off x="152280" y="64911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AB2-F17F-410D-8E0B-022D99C83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onosaccharides are also classified by the number of carbons in the backb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lucose and other six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x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سد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ive carbon backbone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ntoses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خم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nd three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905120" y="1143000"/>
            <a:ext cx="6553080" cy="5627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0" y="63244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5.3, Page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76680" y="2362320"/>
            <a:ext cx="1904400" cy="3142080"/>
            <a:chOff x="76680" y="2362320"/>
            <a:chExt cx="1904400" cy="3142080"/>
          </a:xfrm>
        </p:grpSpPr>
        <p:grpSp>
          <p:nvGrpSpPr>
            <p:cNvPr id="321" name="Group 9"/>
            <p:cNvGrpSpPr/>
            <p:nvPr/>
          </p:nvGrpSpPr>
          <p:grpSpPr>
            <a:xfrm>
              <a:off x="77400" y="2362320"/>
              <a:ext cx="1903680" cy="703800"/>
              <a:chOff x="77400" y="2362320"/>
              <a:chExt cx="1903680" cy="70380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77400" y="23623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ldehy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7"/>
              <p:cNvSpPr/>
              <p:nvPr/>
            </p:nvSpPr>
            <p:spPr>
              <a:xfrm>
                <a:off x="1143000" y="2819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"/>
            <p:cNvGrpSpPr/>
            <p:nvPr/>
          </p:nvGrpSpPr>
          <p:grpSpPr>
            <a:xfrm>
              <a:off x="76680" y="4800600"/>
              <a:ext cx="1904400" cy="703800"/>
              <a:chOff x="76680" y="4800600"/>
              <a:chExt cx="1904400" cy="703800"/>
            </a:xfrm>
          </p:grpSpPr>
          <p:sp>
            <p:nvSpPr>
              <p:cNvPr id="325" name="Rectangle 6"/>
              <p:cNvSpPr/>
              <p:nvPr/>
            </p:nvSpPr>
            <p:spPr>
              <a:xfrm>
                <a:off x="76680" y="480060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Keton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1143000" y="5105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3-03T11:51:42Z</dcterms:modified>
  <cp:revision>532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