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7E6-3208-4C83-935C-A60FF26F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79A-E82F-4C8A-A8B1-E020DE84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0CC-FF5B-45F4-A07C-9AAD9E1B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F1B-4F09-4408-9ABD-7E404D1D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DE6-E1A5-4E7F-B8C5-97A3B940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1DF-51D6-4F4D-B5F9-56EA84FF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A2C-7210-4A91-B336-631A1902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880-23F4-483E-98AC-4ED5527D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2C56-2552-434E-9DD6-44AF7FE1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97F-B750-430D-AC36-92C0F039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A6E2-6CBA-40C2-8DE8-35404781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758-A5B6-4191-999F-B07697EF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F7EB-4C05-4C1F-8463-96AC9E937A4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2320" y="11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نمو البكتيري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terial growt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6960" y="4149720"/>
            <a:ext cx="7786800" cy="2146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thematics of bacterial growth is fairly simple, since each original cell divides to form two new cells, with the loss of the original pa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thematical series describing growth is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, 2, 4, 8, 16, …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an be written a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755640" y="1125360"/>
            <a:ext cx="7669080" cy="2654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نمو البكتيري حسابيا بسيط إلى حد ما. حيث ان كل خلية اصلية تنقسم  إلى خليتين جديدتين، مع فقدان الخلية الأم الأص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نمو البكتيري يمكن أن يوصف في شكل سلسلة رياضية: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كن أن تكتب على النحو التال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2700360" y="907920"/>
            <a:ext cx="543564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f81bd"/>
                </a:solidFill>
                <a:latin typeface="Arial"/>
              </a:rPr>
              <a:t>وفقا لدرجات الحرارة وبقاء البكتيريا حية يمكن أن تقسم إلى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بكتيريا المحبة لدرجة الحرارة المنخفض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ychr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تي تفضل النمو عند درجات الحرارة منخفضة بين صفر -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بكتيريا المحبة لدرجة الحرارة المتوسط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تي تفضل النمو عند درجات الحرارة المعتدلة بين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بكتيريا المحبة لدرجة الحرارة المرتفعة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m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تي تفضل النمو عند درجات الحرارة المرتفعة أكثر من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بكتيريا المحبة للظروف القاسية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em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تي تنمو جيدا عند درجة حرارة تتراوح بين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3560" y="127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eneration ti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ime needed for the cell to divide into two) differs according to species and prevailing conditions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a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acterium that divides every 30 min has a generation time of 30 m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(Fig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rcRect l="33231" t="30937" r="36189" b="29606"/>
          <a:stretch/>
        </p:blipFill>
        <p:spPr>
          <a:xfrm>
            <a:off x="1674720" y="2781360"/>
            <a:ext cx="5469120" cy="3362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684360" y="26028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زمن الجيل أو التوالد (الوقت اللازم للخلية لتنقسم إلى قسمين) يختلف حسب الأنواع والظروف السائدة. على سبيل المثال، البكتيريا التي تنقسم كل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دقيقة ان زمن الجيل يكون كل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دقيقة على حسب الشكل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5960" y="274680"/>
            <a:ext cx="55720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bacterial growth curv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نحنى النمو البكتيري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8480" y="1125000"/>
            <a:ext cx="8229600" cy="259092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terial growth over time can be graphed as cell number versus ti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called a growth cur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curve typically has four distinct phas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f81bd"/>
                </a:solidFill>
                <a:latin typeface="Calibri"/>
              </a:rPr>
              <a:t>              </a:t>
            </a:r>
            <a:r>
              <a:rPr b="0" lang="en-US" sz="1900" spc="-1" strike="noStrike">
                <a:solidFill>
                  <a:srgbClr val="4f81bd"/>
                </a:solidFill>
                <a:latin typeface="Calibri"/>
              </a:rPr>
              <a:t>Lag                             Exponential        Stationary                 Deat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f81bd"/>
                </a:solidFill>
                <a:latin typeface="Calibri"/>
              </a:rPr>
              <a:t>            </a:t>
            </a:r>
            <a:r>
              <a:rPr b="0" lang="en-US" sz="1900" spc="-1" strike="noStrike">
                <a:solidFill>
                  <a:srgbClr val="4f81bd"/>
                </a:solidFill>
                <a:latin typeface="Calibri"/>
              </a:rPr>
              <a:t>phase                          (log) phase            phase                       pha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1"/>
          <p:cNvGrpSpPr/>
          <p:nvPr/>
        </p:nvGrpSpPr>
        <p:grpSpPr>
          <a:xfrm>
            <a:off x="1745640" y="2351160"/>
            <a:ext cx="5572800" cy="714600"/>
            <a:chOff x="1745640" y="2351160"/>
            <a:chExt cx="5572800" cy="714600"/>
          </a:xfrm>
        </p:grpSpPr>
        <p:cxnSp>
          <p:nvCxnSpPr>
            <p:cNvPr id="50" name="Straight Arrow Connector 4"/>
            <p:cNvCxnSpPr/>
            <p:nvPr/>
          </p:nvCxnSpPr>
          <p:spPr>
            <a:xfrm flipH="1">
              <a:off x="1745640" y="2351160"/>
              <a:ext cx="2858040" cy="71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/>
            <p:nvPr/>
          </p:nvCxnSpPr>
          <p:spPr>
            <a:xfrm flipH="1">
              <a:off x="4031640" y="2351160"/>
              <a:ext cx="572040" cy="71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2" name="Straight Arrow Connector 8"/>
            <p:cNvCxnSpPr/>
            <p:nvPr/>
          </p:nvCxnSpPr>
          <p:spPr>
            <a:xfrm>
              <a:off x="4603320" y="2351160"/>
              <a:ext cx="929160" cy="71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3" name="Straight Arrow Connector 10"/>
            <p:cNvCxnSpPr/>
            <p:nvPr/>
          </p:nvCxnSpPr>
          <p:spPr>
            <a:xfrm>
              <a:off x="4603320" y="2351160"/>
              <a:ext cx="2715480" cy="643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54" name="Rectangle 3"/>
          <p:cNvSpPr/>
          <p:nvPr/>
        </p:nvSpPr>
        <p:spPr>
          <a:xfrm>
            <a:off x="684360" y="40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نمو البكتيري يمكن  رسمه بيانيا بوضع عدد الخلايا البكتيرية مقابل الزم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هذا ما يسمى منحنى النم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th cur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تميز منحنى النمو بأربعة مراحل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1460160" y="4928760"/>
            <a:ext cx="5929920" cy="714960"/>
            <a:chOff x="1460160" y="4928760"/>
            <a:chExt cx="5929920" cy="714960"/>
          </a:xfrm>
        </p:grpSpPr>
        <p:cxnSp>
          <p:nvCxnSpPr>
            <p:cNvPr id="56" name="Straight Arrow Connector 13"/>
            <p:cNvCxnSpPr>
              <a:stCxn id="54" idx="2"/>
            </p:cNvCxnSpPr>
            <p:nvPr/>
          </p:nvCxnSpPr>
          <p:spPr>
            <a:xfrm flipH="1">
              <a:off x="1460160" y="4928760"/>
              <a:ext cx="3185280" cy="715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7" name="Straight Arrow Connector 14"/>
            <p:cNvCxnSpPr/>
            <p:nvPr/>
          </p:nvCxnSpPr>
          <p:spPr>
            <a:xfrm flipH="1">
              <a:off x="4102920" y="4928760"/>
              <a:ext cx="572040" cy="715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8" name="Straight Arrow Connector 15"/>
            <p:cNvCxnSpPr/>
            <p:nvPr/>
          </p:nvCxnSpPr>
          <p:spPr>
            <a:xfrm>
              <a:off x="4674960" y="4928760"/>
              <a:ext cx="929160" cy="715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9" name="Straight Arrow Connector 16"/>
            <p:cNvCxnSpPr/>
            <p:nvPr/>
          </p:nvCxnSpPr>
          <p:spPr>
            <a:xfrm>
              <a:off x="4675320" y="4928760"/>
              <a:ext cx="2715120" cy="64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60" name="Rectangle 5"/>
          <p:cNvSpPr/>
          <p:nvPr/>
        </p:nvSpPr>
        <p:spPr>
          <a:xfrm>
            <a:off x="-35280" y="5753160"/>
            <a:ext cx="3198240" cy="36828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Arial"/>
              </a:rPr>
              <a:t>المرحلة التمهيدية (طور الركود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703600" y="5749920"/>
            <a:ext cx="2495520" cy="36828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Arial"/>
              </a:rPr>
              <a:t>مرحلة النمو اللوغاريتم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7308000" y="5756400"/>
            <a:ext cx="1432080" cy="36828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Arial"/>
              </a:rPr>
              <a:t>مرحلة المو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633920" y="5753160"/>
            <a:ext cx="2955960" cy="36828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Arial"/>
              </a:rPr>
              <a:t>مرحلة السكون (طور الثبات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498600"/>
            <a:ext cx="4359240" cy="20001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Lag phas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* I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No increase in cell numb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Cells are actively metabolizing, in preparation for cell divis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* It may be short or very long, according to the growth medium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1428840" y="2714760"/>
            <a:ext cx="5786280" cy="3357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5003640" y="476280"/>
            <a:ext cx="4111920" cy="256284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مرحلة التمهيدية (طور الركود)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g phase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مرحلة الأولى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 توجد زيادة في عدد الخلاي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خلايا تكون نشطة أيضيا وتستعد لعمية الانقسا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قد تكونه هذه المرحة  قصيرة أو طويلة جداً، وفقا لوسط النم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71800"/>
            <a:ext cx="6232680" cy="2643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xponential or log ph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Is the second phas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called the exponential or log phas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is is the period in which the cells grow most rapidly, doubling at a fairly constant rat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e time it takes the culture to double is called the generation tim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e generation time depends on several factors: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1.  the organism .      2.  the growth medium    3. temperatu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6281640" y="3357720"/>
            <a:ext cx="2862360" cy="2414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1908000" y="260280"/>
            <a:ext cx="6966000" cy="2288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مرحلة النمو اللوغاريتمي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Exponential or log phas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مرحلة الثانية في منحنى النمو البكتير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سمى مرحلة النمو الاسي أو اللوغاريتم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ي هذه المرحلة يكون نمو الخلايا سريعا والتضاعف في عدد الخلايا يكون بمعدل ثاب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إن الزمن الذي تؤخذه للتضاعف يسمى زمن التوالد (زمن الجي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زمن التوالد يعتمد على عدة عوامل وه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الكائن الحي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وسط النمو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درجة الحرار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250920" y="4221000"/>
            <a:ext cx="4475160" cy="2521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198864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phase .      * metabolism slows.  * cells cease rapid cell divis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Why?</a:t>
            </a:r>
            <a:br>
              <a:rPr sz="2000"/>
            </a:b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Due to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high cell densit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depletion of nutrients 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accumulation of waste produ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611280" y="1989000"/>
            <a:ext cx="822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Stationary ph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1500120" y="446040"/>
            <a:ext cx="73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مرحلة الثبات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Stationary phas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مرحلة الثالثة من منحى النم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كون فيها العمليات الايضية بطيئ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توقف الخلايا عن الانقسام السريع بس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كثافة الخلايا مرتفع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تستنفذ المغذ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تراكم النفا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1428840" y="2714760"/>
            <a:ext cx="5786280" cy="3357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4935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eath phas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 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cells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quickly lo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bility to divid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exponential dea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4327560" y="76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مرحلة الموت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Death phas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مرحلة الاخيرة من منحنى النمو البكتي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فقد الخلايا القدرة على الانقس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وت الاسي (السري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81bd"/>
                </a:solidFill>
                <a:latin typeface="Calibri"/>
              </a:rPr>
              <a:t>العوامل المؤثرة على النمو البكتيري</a:t>
            </a:r>
            <a:br>
              <a:rPr sz="3200"/>
            </a:b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actors affecting bacterial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ناك عدة عوامل تؤثر على زمن التوالد في الخلية البكتير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factors affect the generation time of the bacteriu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erature   pH   oxygen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t concentr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nutri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4"/>
          <p:cNvCxnSpPr/>
          <p:nvPr/>
        </p:nvCxnSpPr>
        <p:spPr>
          <a:xfrm flipH="1">
            <a:off x="2071080" y="2642760"/>
            <a:ext cx="5720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6"/>
          <p:cNvCxnSpPr/>
          <p:nvPr/>
        </p:nvCxnSpPr>
        <p:spPr>
          <a:xfrm>
            <a:off x="2642040" y="2643120"/>
            <a:ext cx="429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8"/>
          <p:cNvCxnSpPr/>
          <p:nvPr/>
        </p:nvCxnSpPr>
        <p:spPr>
          <a:xfrm>
            <a:off x="2642760" y="2642760"/>
            <a:ext cx="15008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Straight Arrow Connector 10"/>
          <p:cNvCxnSpPr/>
          <p:nvPr/>
        </p:nvCxnSpPr>
        <p:spPr>
          <a:xfrm>
            <a:off x="2642760" y="2643120"/>
            <a:ext cx="364428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Rectangle 11"/>
          <p:cNvSpPr/>
          <p:nvPr/>
        </p:nvSpPr>
        <p:spPr>
          <a:xfrm>
            <a:off x="438120" y="5805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le most bacteria grow best when these parameter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38120" y="4280040"/>
            <a:ext cx="163368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255760" y="4259160"/>
            <a:ext cx="163188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اس الهيدروجي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995640" y="4309920"/>
            <a:ext cx="128592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اكسج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7093080" y="4211640"/>
            <a:ext cx="163188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ركيز الاملاح والمغذ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1"/>
          <a:stretch/>
        </p:blipFill>
        <p:spPr>
          <a:xfrm>
            <a:off x="684360" y="5145120"/>
            <a:ext cx="7056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4f81bd"/>
                </a:solidFill>
                <a:latin typeface="Calibri"/>
              </a:rPr>
              <a:t>درجة الحرارة</a:t>
            </a:r>
            <a:br>
              <a:rPr sz="3600"/>
            </a:br>
            <a:r>
              <a:rPr b="0" lang="en-US" sz="3600" spc="-1" strike="noStrike">
                <a:solidFill>
                  <a:srgbClr val="4f81bd"/>
                </a:solidFill>
                <a:latin typeface="Calibri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840" y="1268280"/>
            <a:ext cx="8400960" cy="35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he temperature degree that bacteria survive, they can classified to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فقا لدرجات الحرارة وبقاء البكتيريا حية يمكن أن تقسم إلى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Straight Arrow Connector 4"/>
          <p:cNvCxnSpPr/>
          <p:nvPr/>
        </p:nvCxnSpPr>
        <p:spPr>
          <a:xfrm flipH="1">
            <a:off x="856440" y="2856600"/>
            <a:ext cx="307260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Straight Arrow Connector 6"/>
          <p:cNvCxnSpPr/>
          <p:nvPr/>
        </p:nvCxnSpPr>
        <p:spPr>
          <a:xfrm flipH="1">
            <a:off x="2928600" y="2857680"/>
            <a:ext cx="10008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Straight Arrow Connector 8"/>
          <p:cNvCxnSpPr/>
          <p:nvPr/>
        </p:nvCxnSpPr>
        <p:spPr>
          <a:xfrm>
            <a:off x="3929040" y="2857320"/>
            <a:ext cx="13579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Straight Arrow Connector 10"/>
          <p:cNvCxnSpPr/>
          <p:nvPr/>
        </p:nvCxnSpPr>
        <p:spPr>
          <a:xfrm>
            <a:off x="3929040" y="2857320"/>
            <a:ext cx="364392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Rectangle 11"/>
          <p:cNvSpPr/>
          <p:nvPr/>
        </p:nvSpPr>
        <p:spPr>
          <a:xfrm>
            <a:off x="320760" y="357192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sychr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2293200" y="35593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es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294080" y="35719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herm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683400" y="355932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tremophi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285840" y="4071960"/>
            <a:ext cx="150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acteria that grow best from about 0 - 20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1928880" y="421488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ow best at ambient temperatures 20 -40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4071960" y="4214880"/>
            <a:ext cx="18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that have an optimum temperature above 40 º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6365520" y="4286160"/>
            <a:ext cx="203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grow well at 100- 120 º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9:18:21Z</dcterms:created>
  <dc:creator>DTK</dc:creator>
  <dc:description/>
  <dc:language>en-US</dc:language>
  <cp:lastModifiedBy>Naiyf Alharbi</cp:lastModifiedBy>
  <dcterms:modified xsi:type="dcterms:W3CDTF">2013-12-28T17:20:54Z</dcterms:modified>
  <cp:revision>30</cp:revision>
  <dc:subject/>
  <dc:title>Bacterial growth</dc:title>
</cp:coreProperties>
</file>