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A717-A464-424B-BE24-89001CC8D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276F-6C86-4D33-A9BA-A5502AC1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8B83-1389-4950-AF27-9C27AE3C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D905-32D3-441A-9F33-F6A8F3D7E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4A07-40C3-4D1F-9A13-C67EE35F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8FEF-8FEF-4724-8EBD-A04C509C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BDB0-9C07-4B25-B536-8D93A6D6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15D5-E251-42D7-AB96-712AB37F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AE38-F02A-4E77-9ADC-16642CF1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B6A2-AA72-4AB8-89E5-8A4E149D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4D3C-8E4C-4D04-B843-38B92F49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1AEA-8FE5-48D6-AC6C-FF171F6B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B39A-731D-4AD6-9A05-8A604CE2420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2320" y="117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نمو البكتيري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terial growt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96960" y="4149720"/>
            <a:ext cx="7786800" cy="21463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athematics of bacterial growth is fairly simple, since each original cell divides to form two new cells, with the loss of the original par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athematical series describing growth is: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, 2, 4, 8, 16, …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can be written a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, 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, 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, 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, 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, 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, 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755640" y="1125360"/>
            <a:ext cx="7669080" cy="2654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نمو البكتيري حسابيا بسيط إلى حد ما. حيث ان كل خلية اصلية تنقسم  إلى خليتين جديدتين، مع فقدان الخلية الأم الأصل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نمو البكتيري يمكن أن يوصف في شكل سلسلة رياضية: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،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،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،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،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،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مكن أن تكتب على النحو التالي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2700360" y="907920"/>
            <a:ext cx="5435640" cy="70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f81bd"/>
                </a:solidFill>
                <a:latin typeface="Arial"/>
              </a:rPr>
              <a:t>وفقا لدرجات الحرارة وبقاء البكتيريا حية يمكن أن تقسم إلى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بكتيريا المحبة لدرجة الحرارة المنخفض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ychroph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ي التي تفضل النمو عند درجات الحرارة منخفضة بين صفر -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بكتيريا المحبة لدرجة الحرارة المتوسط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oph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ي التي تفضل النمو عند درجات الحرارة المعتدلة بين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بكتيريا المحبة لدرجة الحرارة المرتفعة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moph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ي التي تفضل النمو عند درجات الحرارة المرتفعة أكثر من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بكتيريا المحبة للظروف القاسية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emoph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ي التي تنمو جيدا عند درجة حرارة تتراوح بين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3560" y="1275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eneration tim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ime needed for the cell to divide into two) differs according to species and prevailing conditions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example, a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bacterium that divides every 30 min has a generation time of 30 mi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(Fig 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rcRect l="33231" t="30937" r="36189" b="29606"/>
          <a:stretch/>
        </p:blipFill>
        <p:spPr>
          <a:xfrm>
            <a:off x="1674720" y="2781360"/>
            <a:ext cx="5469120" cy="33624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"/>
          <p:cNvSpPr/>
          <p:nvPr/>
        </p:nvSpPr>
        <p:spPr>
          <a:xfrm>
            <a:off x="684360" y="260280"/>
            <a:ext cx="78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زمن الجيل أو التوالد (الوقت اللازم للخلية لتنقسم إلى قسمين) يختلف حسب الأنواع والظروف السائدة. على سبيل المثال، البكتيريا التي تنقسم كل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دقيقة ان زمن الجيل يكون كل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دقيقة على حسب الشكل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5960" y="274680"/>
            <a:ext cx="55720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bacterial growth curv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نحنى النمو البكتيري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28480" y="1125000"/>
            <a:ext cx="8229600" cy="259092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cterial growth over time can be graphed as cell number versus ti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is called a growth cur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curve typically has four distinct phas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f81bd"/>
                </a:solidFill>
                <a:latin typeface="Calibri"/>
              </a:rPr>
              <a:t>              </a:t>
            </a:r>
            <a:r>
              <a:rPr b="0" lang="en-US" sz="1900" spc="-1" strike="noStrike">
                <a:solidFill>
                  <a:srgbClr val="4f81bd"/>
                </a:solidFill>
                <a:latin typeface="Calibri"/>
              </a:rPr>
              <a:t>Lag                             Exponential        Stationary                 Death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f81bd"/>
                </a:solidFill>
                <a:latin typeface="Calibri"/>
              </a:rPr>
              <a:t>            </a:t>
            </a:r>
            <a:r>
              <a:rPr b="0" lang="en-US" sz="1900" spc="-1" strike="noStrike">
                <a:solidFill>
                  <a:srgbClr val="4f81bd"/>
                </a:solidFill>
                <a:latin typeface="Calibri"/>
              </a:rPr>
              <a:t>phase                          (log) phase            phase                       pha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1"/>
          <p:cNvGrpSpPr/>
          <p:nvPr/>
        </p:nvGrpSpPr>
        <p:grpSpPr>
          <a:xfrm>
            <a:off x="1745640" y="2351160"/>
            <a:ext cx="5572800" cy="714600"/>
            <a:chOff x="1745640" y="2351160"/>
            <a:chExt cx="5572800" cy="714600"/>
          </a:xfrm>
        </p:grpSpPr>
        <p:cxnSp>
          <p:nvCxnSpPr>
            <p:cNvPr id="50" name="Straight Arrow Connector 4"/>
            <p:cNvCxnSpPr/>
            <p:nvPr/>
          </p:nvCxnSpPr>
          <p:spPr>
            <a:xfrm flipH="1">
              <a:off x="1745640" y="2351160"/>
              <a:ext cx="2858040" cy="714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51" name="Straight Arrow Connector 6"/>
            <p:cNvCxnSpPr/>
            <p:nvPr/>
          </p:nvCxnSpPr>
          <p:spPr>
            <a:xfrm flipH="1">
              <a:off x="4031640" y="2351160"/>
              <a:ext cx="572040" cy="714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52" name="Straight Arrow Connector 8"/>
            <p:cNvCxnSpPr/>
            <p:nvPr/>
          </p:nvCxnSpPr>
          <p:spPr>
            <a:xfrm>
              <a:off x="4603320" y="2351160"/>
              <a:ext cx="929160" cy="714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53" name="Straight Arrow Connector 10"/>
            <p:cNvCxnSpPr/>
            <p:nvPr/>
          </p:nvCxnSpPr>
          <p:spPr>
            <a:xfrm>
              <a:off x="4603320" y="2351160"/>
              <a:ext cx="2715480" cy="643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54" name="Rectangle 3"/>
          <p:cNvSpPr/>
          <p:nvPr/>
        </p:nvSpPr>
        <p:spPr>
          <a:xfrm>
            <a:off x="684360" y="4005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نمو البكتيري يمكن  رسمه بيانيا بوضع عدد الخلايا البكتيرية مقابل الزم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وهذا ما يسمى منحنى النم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th cur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تميز منحنى النمو بأربعة مراحل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2"/>
          <p:cNvGrpSpPr/>
          <p:nvPr/>
        </p:nvGrpSpPr>
        <p:grpSpPr>
          <a:xfrm>
            <a:off x="1460160" y="4928760"/>
            <a:ext cx="5929920" cy="714960"/>
            <a:chOff x="1460160" y="4928760"/>
            <a:chExt cx="5929920" cy="714960"/>
          </a:xfrm>
        </p:grpSpPr>
        <p:cxnSp>
          <p:nvCxnSpPr>
            <p:cNvPr id="56" name="Straight Arrow Connector 13"/>
            <p:cNvCxnSpPr>
              <a:stCxn id="54" idx="2"/>
            </p:cNvCxnSpPr>
            <p:nvPr/>
          </p:nvCxnSpPr>
          <p:spPr>
            <a:xfrm flipH="1">
              <a:off x="1460160" y="4928760"/>
              <a:ext cx="3185280" cy="715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57" name="Straight Arrow Connector 14"/>
            <p:cNvCxnSpPr/>
            <p:nvPr/>
          </p:nvCxnSpPr>
          <p:spPr>
            <a:xfrm flipH="1">
              <a:off x="4102920" y="4928760"/>
              <a:ext cx="572040" cy="715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58" name="Straight Arrow Connector 15"/>
            <p:cNvCxnSpPr/>
            <p:nvPr/>
          </p:nvCxnSpPr>
          <p:spPr>
            <a:xfrm>
              <a:off x="4674960" y="4928760"/>
              <a:ext cx="929160" cy="715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59" name="Straight Arrow Connector 16"/>
            <p:cNvCxnSpPr/>
            <p:nvPr/>
          </p:nvCxnSpPr>
          <p:spPr>
            <a:xfrm>
              <a:off x="4675320" y="4928760"/>
              <a:ext cx="2715120" cy="6440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60" name="Rectangle 5"/>
          <p:cNvSpPr/>
          <p:nvPr/>
        </p:nvSpPr>
        <p:spPr>
          <a:xfrm>
            <a:off x="-35280" y="5753160"/>
            <a:ext cx="3198240" cy="36828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Arial"/>
              </a:rPr>
              <a:t>المرحلة التمهيدية (طور الركود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2703600" y="5749920"/>
            <a:ext cx="2495520" cy="36828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Arial"/>
              </a:rPr>
              <a:t>مرحلة النمو اللوغاريتم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7308000" y="5756400"/>
            <a:ext cx="1432080" cy="36828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Arial"/>
              </a:rPr>
              <a:t>مرحلة المو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633920" y="5753160"/>
            <a:ext cx="2955960" cy="36828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Arial"/>
              </a:rPr>
              <a:t>مرحلة السكون (طور الثبات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498600"/>
            <a:ext cx="4359240" cy="200016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Lag phas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* I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rst phase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No increase in cell numb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Cells are actively metabolizing, in preparation for cell divisi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* It may be short or very long, according to the growth medium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rcRect l="26042" t="29169" r="31772" b="31668"/>
          <a:stretch/>
        </p:blipFill>
        <p:spPr>
          <a:xfrm>
            <a:off x="1428840" y="2714760"/>
            <a:ext cx="5786280" cy="3357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"/>
          <p:cNvSpPr/>
          <p:nvPr/>
        </p:nvSpPr>
        <p:spPr>
          <a:xfrm>
            <a:off x="5003640" y="476280"/>
            <a:ext cx="4111920" cy="256284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المرحلة التمهيدية (طور الركود)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ag phase</a:t>
            </a: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ي المرحلة الأولى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ا توجد زيادة في عدد الخلاي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خلايا تكون نشطة أيضيا وتستعد لعمية الانقسا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قد تكونه هذه المرحة  قصيرة أو طويلة جداً، وفقا لوسط النمو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71800"/>
            <a:ext cx="6232680" cy="26431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Exponential or log pha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Is the second phas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called the exponential or log phas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This is the period in which the cells grow most rapidly, doubling at a fairly constant rat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The time it takes the culture to double is called the generation time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The generation time depends on several factors: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1.  the organism .      2.  the growth medium    3. temperature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26042" t="29169" r="31772" b="31668"/>
          <a:stretch/>
        </p:blipFill>
        <p:spPr>
          <a:xfrm>
            <a:off x="6281640" y="3357720"/>
            <a:ext cx="2862360" cy="24145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1908000" y="260280"/>
            <a:ext cx="6966000" cy="22885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مرحلة النمو اللوغاريتمي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Exponential or log phase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ي المرحلة الثانية في منحنى النمو البكتير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سمى مرحلة النمو الاسي أو اللوغاريتم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في هذه المرحلة يكون نمو الخلايا سريعا والتضاعف في عدد الخلايا يكون بمعدل ثابت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إن الزمن الذي تؤخذه للتضاعف يسمى زمن التوالد (زمن الجيل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زمن التوالد يعتمد على عدة عوامل وه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-الكائن الحي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- وسط النمو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- درجة الحرار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rcRect l="26042" t="29169" r="31772" b="31668"/>
          <a:stretch/>
        </p:blipFill>
        <p:spPr>
          <a:xfrm>
            <a:off x="250920" y="4221000"/>
            <a:ext cx="4475160" cy="25210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1988640"/>
            <a:ext cx="822960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phase .      * metabolism slows.  * cells cease rapid cell division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Why?</a:t>
            </a:r>
            <a:br>
              <a:rPr sz="2000"/>
            </a:b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Due to 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high cell density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depletion of nutrients 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accumulation of waste produc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itle 1"/>
          <p:cNvSpPr/>
          <p:nvPr/>
        </p:nvSpPr>
        <p:spPr>
          <a:xfrm>
            <a:off x="611280" y="1989000"/>
            <a:ext cx="8229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Stationary pha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"/>
          <p:cNvSpPr/>
          <p:nvPr/>
        </p:nvSpPr>
        <p:spPr>
          <a:xfrm>
            <a:off x="1500120" y="446040"/>
            <a:ext cx="73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مرحلة الثبات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Stationary phase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ي المرحلة الثالثة من منحى النم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كون فيها العمليات الايضية بطيئ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توقف الخلايا عن الانقسام السريع بسب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- كثافة الخلايا مرتفع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- تستنفذ المغذ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- تراكم النفاي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26042" t="29169" r="31772" b="31668"/>
          <a:stretch/>
        </p:blipFill>
        <p:spPr>
          <a:xfrm>
            <a:off x="1428840" y="2714760"/>
            <a:ext cx="5786280" cy="33573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4935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Death phas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*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 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cells 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quickly los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ability to divide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exponential dea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"/>
          <p:cNvSpPr/>
          <p:nvPr/>
        </p:nvSpPr>
        <p:spPr>
          <a:xfrm>
            <a:off x="4327560" y="76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مرحلة الموت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Death phas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ي المرحلة الاخيرة من منحنى النمو البكتي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فقد الخلايا القدرة على الانقس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موت الاسي (السري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f81bd"/>
                </a:solidFill>
                <a:latin typeface="Calibri"/>
              </a:rPr>
              <a:t>العوامل المؤثرة على النمو البكتيري</a:t>
            </a:r>
            <a:br>
              <a:rPr sz="3200"/>
            </a:b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actors affecting bacterial grow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هناك عدة عوامل تؤثر على زمن التوالد في الخلية البكتيري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factors affect the generation time of the bacterium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erature   pH   oxygen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lt concentr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nutri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Straight Arrow Connector 4"/>
          <p:cNvCxnSpPr/>
          <p:nvPr/>
        </p:nvCxnSpPr>
        <p:spPr>
          <a:xfrm flipH="1">
            <a:off x="2071080" y="2642760"/>
            <a:ext cx="57204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Straight Arrow Connector 6"/>
          <p:cNvCxnSpPr/>
          <p:nvPr/>
        </p:nvCxnSpPr>
        <p:spPr>
          <a:xfrm>
            <a:off x="2642040" y="2643120"/>
            <a:ext cx="42948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Straight Arrow Connector 8"/>
          <p:cNvCxnSpPr/>
          <p:nvPr/>
        </p:nvCxnSpPr>
        <p:spPr>
          <a:xfrm>
            <a:off x="2642760" y="2642760"/>
            <a:ext cx="150084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Straight Arrow Connector 10"/>
          <p:cNvCxnSpPr/>
          <p:nvPr/>
        </p:nvCxnSpPr>
        <p:spPr>
          <a:xfrm>
            <a:off x="2642760" y="2643120"/>
            <a:ext cx="364428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Rectangle 11"/>
          <p:cNvSpPr/>
          <p:nvPr/>
        </p:nvSpPr>
        <p:spPr>
          <a:xfrm>
            <a:off x="438120" y="580536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ile most bacteria grow best when these parameters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t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438120" y="4280040"/>
            <a:ext cx="1633680" cy="63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درجة الحرار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2255760" y="4259160"/>
            <a:ext cx="1631880" cy="63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اس الهيدروجي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3995640" y="4309920"/>
            <a:ext cx="1285920" cy="63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اكسج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7093080" y="4211640"/>
            <a:ext cx="1631880" cy="63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تركيز الاملاح والمغذي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"/>
          <p:cNvPicPr/>
          <p:nvPr/>
        </p:nvPicPr>
        <p:blipFill>
          <a:blip r:embed="rId1"/>
          <a:stretch/>
        </p:blipFill>
        <p:spPr>
          <a:xfrm>
            <a:off x="684360" y="5145120"/>
            <a:ext cx="705636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4f81bd"/>
                </a:solidFill>
                <a:latin typeface="Calibri"/>
              </a:rPr>
              <a:t>درجة الحرارة</a:t>
            </a:r>
            <a:br>
              <a:rPr sz="3600"/>
            </a:br>
            <a:r>
              <a:rPr b="0" lang="en-US" sz="3600" spc="-1" strike="noStrike">
                <a:solidFill>
                  <a:srgbClr val="4f81bd"/>
                </a:solidFill>
                <a:latin typeface="Calibri"/>
              </a:rPr>
              <a:t>Tempera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85840" y="1268280"/>
            <a:ext cx="8400960" cy="35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ording the temperature degree that bacteria survive, they can classified to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فقا لدرجات الحرارة وبقاء البكتيريا حية يمكن أن تقسم إلى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" name="Straight Arrow Connector 4"/>
          <p:cNvCxnSpPr/>
          <p:nvPr/>
        </p:nvCxnSpPr>
        <p:spPr>
          <a:xfrm flipH="1">
            <a:off x="856440" y="2856600"/>
            <a:ext cx="307260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Straight Arrow Connector 6"/>
          <p:cNvCxnSpPr/>
          <p:nvPr/>
        </p:nvCxnSpPr>
        <p:spPr>
          <a:xfrm flipH="1">
            <a:off x="2928600" y="2857680"/>
            <a:ext cx="100080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Straight Arrow Connector 8"/>
          <p:cNvCxnSpPr/>
          <p:nvPr/>
        </p:nvCxnSpPr>
        <p:spPr>
          <a:xfrm>
            <a:off x="3929040" y="2857320"/>
            <a:ext cx="135792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Straight Arrow Connector 10"/>
          <p:cNvCxnSpPr/>
          <p:nvPr/>
        </p:nvCxnSpPr>
        <p:spPr>
          <a:xfrm>
            <a:off x="3929040" y="2857320"/>
            <a:ext cx="364392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5" name="Rectangle 11"/>
          <p:cNvSpPr/>
          <p:nvPr/>
        </p:nvSpPr>
        <p:spPr>
          <a:xfrm>
            <a:off x="320760" y="357192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sychroph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2293200" y="355932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mesoph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4294080" y="357192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hermoph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6683400" y="3559320"/>
            <a:ext cx="15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extremophil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285840" y="4071960"/>
            <a:ext cx="150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bacteria that grow best from about 0 - 20 º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6"/>
          <p:cNvSpPr/>
          <p:nvPr/>
        </p:nvSpPr>
        <p:spPr>
          <a:xfrm>
            <a:off x="1928880" y="421488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row best at ambient temperatures 20 -40 º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7"/>
          <p:cNvSpPr/>
          <p:nvPr/>
        </p:nvSpPr>
        <p:spPr>
          <a:xfrm>
            <a:off x="4071960" y="4214880"/>
            <a:ext cx="1857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teria that have an optimum temperature above 40 º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8"/>
          <p:cNvSpPr/>
          <p:nvPr/>
        </p:nvSpPr>
        <p:spPr>
          <a:xfrm>
            <a:off x="6365520" y="4286160"/>
            <a:ext cx="203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grow well at 100- 120 º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09:18:21Z</dcterms:created>
  <dc:creator>DTK</dc:creator>
  <dc:description/>
  <dc:language>en-US</dc:language>
  <cp:lastModifiedBy>Naiyf Alharbi</cp:lastModifiedBy>
  <dcterms:modified xsi:type="dcterms:W3CDTF">2013-12-28T17:20:54Z</dcterms:modified>
  <cp:revision>30</cp:revision>
  <dc:subject/>
  <dc:title>Bacterial growth</dc:title>
</cp:coreProperties>
</file>