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CA9D4-6951-4D6A-9E9D-29145A31A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4EDB4-2AD0-4459-8A74-2F417214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1C3FD-F7FF-4923-AD42-3A1D01945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F936C-0F22-45BD-8EB9-A1CB8A732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586F-3494-4A2B-8888-3BEE5B20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8190-A485-42AD-8221-5DE18D30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65A8-BAB5-470D-9DE6-98726DA1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4DD1-A3FD-4434-AF02-083CCEDE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336E3-AA0F-473C-92A9-7A699D74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8B23D-2722-4199-9D3D-4D1FBEA2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CA75-33CA-4209-91E0-D64E6FF0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133D-29FE-41AD-B543-0BE83F8CB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DF17-BE17-4B35-8764-168CC82710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066680"/>
            <a:ext cx="8686800" cy="495000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B)- </a:t>
            </a:r>
            <a:r>
              <a:rPr b="1" lang="en-US" sz="2000" spc="-1" strike="noStrike" u="sng">
                <a:solidFill>
                  <a:srgbClr val="0000ff"/>
                </a:solidFill>
                <a:uFillTx/>
                <a:latin typeface="Arial"/>
              </a:rPr>
              <a:t>Mitochondria</a:t>
            </a:r>
            <a:r>
              <a:rPr b="1" lang="en-GB" sz="20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0"/>
          <a:stretch/>
        </p:blipFill>
        <p:spPr>
          <a:xfrm>
            <a:off x="6907320" y="3581280"/>
            <a:ext cx="2236680" cy="327672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219320"/>
            <a:ext cx="8763120" cy="512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 </a:t>
            </a:r>
            <a:r>
              <a:rPr b="1" lang="en-US" sz="2000" spc="-1" strike="noStrike" u="sng">
                <a:solidFill>
                  <a:srgbClr val="0000ff"/>
                </a:solidFill>
                <a:uFillTx/>
                <a:latin typeface="Arial"/>
              </a:rPr>
              <a:t>Golgi apparatus:</a:t>
            </a:r>
            <a:r>
              <a:rPr b="1" lang="en-US" sz="20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809880"/>
            <a:ext cx="3810240" cy="3066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74140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680" y="1218960"/>
            <a:ext cx="6705720" cy="5786280"/>
          </a:xfrm>
          <a:prstGeom prst="rect">
            <a:avLst/>
          </a:prstGeom>
          <a:noFill/>
          <a:ln w="0">
            <a:noFill/>
          </a:ln>
        </p:spPr>
        <p:txBody>
          <a:bodyPr anchor="t">
            <a:normAutofit/>
          </a:bodyPr>
          <a:p>
            <a:pPr marL="609480" indent="-609480">
              <a:lnSpc>
                <a:spcPct val="15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lnSpc>
                <a:spcPct val="13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User</cp:lastModifiedBy>
  <dcterms:modified xsi:type="dcterms:W3CDTF">2014-01-03T15:29:24Z</dcterms:modified>
  <cp:revision>56</cp:revision>
  <dc:subject/>
  <dc:title>Slide 1</dc:title>
</cp:coreProperties>
</file>