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7C6E4-2204-444C-B100-74079F1B1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6087-C219-465C-A82E-5887F4B88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89B0C-0B09-4E28-A8DC-A20EEE06F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7BFE0-8A1C-4A3B-8EBC-29561E4EB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DE30-464F-4145-9BE0-C932860E9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79DE-030C-49D9-AEB1-F3F4ABB06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98DDE-0E2C-4464-98FA-9F9DA22D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7810-E501-440E-8E04-0697DE9C1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2A63-534B-44E5-9F82-C82AD793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1839-939C-4358-982C-3DA9EFE4E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C575-2337-488C-BDA1-F5889B09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53D9-377E-4B62-9724-AFACF3286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F384-C7A8-4154-BB0C-93CB532919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066680"/>
            <a:ext cx="8686800" cy="495000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B)- </a:t>
            </a:r>
            <a:r>
              <a:rPr b="1" lang="en-US" sz="2000" spc="-1" strike="noStrike" u="sng">
                <a:solidFill>
                  <a:srgbClr val="0000ff"/>
                </a:solidFill>
                <a:uFillTx/>
                <a:latin typeface="Arial"/>
              </a:rPr>
              <a:t>Mitochondria</a:t>
            </a:r>
            <a:r>
              <a:rPr b="1" lang="en-GB" sz="20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0"/>
          <a:stretch/>
        </p:blipFill>
        <p:spPr>
          <a:xfrm>
            <a:off x="6907320" y="3581280"/>
            <a:ext cx="2236680" cy="327672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219320"/>
            <a:ext cx="8763120" cy="512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 </a:t>
            </a:r>
            <a:r>
              <a:rPr b="1" lang="en-US" sz="2000" spc="-1" strike="noStrike" u="sng">
                <a:solidFill>
                  <a:srgbClr val="0000ff"/>
                </a:solidFill>
                <a:uFillTx/>
                <a:latin typeface="Arial"/>
              </a:rPr>
              <a:t>Golgi apparatus:</a:t>
            </a:r>
            <a:r>
              <a:rPr b="1" lang="en-US" sz="20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809880"/>
            <a:ext cx="3810240" cy="3066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74140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680" y="1218960"/>
            <a:ext cx="6705720" cy="5786280"/>
          </a:xfrm>
          <a:prstGeom prst="rect">
            <a:avLst/>
          </a:prstGeom>
          <a:noFill/>
          <a:ln w="0">
            <a:noFill/>
          </a:ln>
        </p:spPr>
        <p:txBody>
          <a:bodyPr anchor="t">
            <a:normAutofit/>
          </a:bodyPr>
          <a:p>
            <a:pPr marL="609480" indent="-609480">
              <a:lnSpc>
                <a:spcPct val="15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lnSpc>
                <a:spcPct val="13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User</cp:lastModifiedBy>
  <dcterms:modified xsi:type="dcterms:W3CDTF">2014-01-03T15:29:24Z</dcterms:modified>
  <cp:revision>56</cp:revision>
  <dc:subject/>
  <dc:title>Slide 1</dc:title>
</cp:coreProperties>
</file>