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 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AD32F-6C4C-4AC1-AA01-F5D81C75F78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3571F-B88D-49F2-AE55-92E09ECFD64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0202D-A3A6-4ADF-A161-AF779D6C821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omectomy:  is the removal of fibroids (noncancerous tumors) from the wall of the uter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MAD AL-ISS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Header Placeholder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 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19507-79D1-4668-89A3-8CDC08EAB6E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vitro fertilization (IVF)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a procedure in which eggs (ova) from a woman's ovary are removed. They are fertilized with sperm in a laboratory procedure, and then the fertilized egg (embryo) is returned to the woman's uteru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oter Placeholder 4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MAD AL-ISS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Header Placeholder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 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9D9AD-A76A-45A5-8224-B8606E3FA69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ooter Placeholder 4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MAD AL-ISS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Header Placeholder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 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8E684-CAFE-4C9B-BD6F-81CBB53DFA4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bn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ooter Placeholder 4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MAD AL-ISS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Header Placeholder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 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7FE9B-F05E-4E9B-9DDF-07F42564191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yxoedema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sease caused by decreased activity of the thyroid gland in adults and characterized by dry skin, swellings around the lips and nose, mental deterioration, and a subnormal basal metabolic ra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atrogen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: Induced in a patient by a physician's activity, manner, or therapy. Used especially of an infection or other complication of treat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MAD AL-ISS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Header Placeholder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 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61485-FB29-4BC7-AA26-018912B9341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aricoce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: Dilatation of the veins associated with the spermatic cor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ooter Placeholder 4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MAD AL-ISS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Header Placeholder 5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 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E742-5130-462C-9795-A40D234D1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4A6C-79DF-4062-B8D0-C0A047543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DEFB-9A28-4D92-A83F-C5098F754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E0FE-768E-4859-9DB9-BB5AC5538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D9A21-A09D-4C07-A13C-E21367E78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E77C5-51F4-49DD-8505-CF4C41969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A3438-9894-4106-82C6-C278BED03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2ACAF-9A84-44D8-8935-0C06F3A9D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C55F1-4E1B-4D9A-8C62-AD4D533A7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FC445-CCFD-49B4-AEB7-D32FD6393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12B98-A7A8-4D2A-B21B-B20BE3C1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BD71-F3A3-44C7-801A-1B982134C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4927A-CAB5-4C87-98C3-6B1DFAD0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0D1D9-2042-4041-80F6-1F1D2241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D1BC2-03B7-40FD-A65F-C6F3A15E1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1FDA1-1DB7-482F-8B2E-9CDAEC818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5BFF9-E842-4C25-91F7-D92A0C3E0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A210-5D7F-44A8-9B6A-C36FD5E6A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82EE-1A7A-4801-A665-154CD93FA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371A-8B37-4EBE-BD53-4921EFA8D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FDB5-1C9E-46FB-AA54-3AF6EFBDE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D342-50FF-4976-920A-43B6BC77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41B7-03D6-42E9-8C08-CAF4F8F8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01C2-7E25-4A38-8216-50EFDE17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500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1000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779D0-73EE-4D3E-9AF3-A7DCB48EEF4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Gynaecological Nurs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FA1D4-EAA5-45F6-9373-CD431602611A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7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1000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1FD64-A786-4988-B7B3-80CCCAE0929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Gynaecological Nurs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7699D-632F-4F62-B6D2-7442BBAFE42A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2"/>
          <p:cNvSpPr txBox="1"/>
          <p:nvPr/>
        </p:nvSpPr>
        <p:spPr>
          <a:xfrm>
            <a:off x="1066680" y="3581280"/>
            <a:ext cx="7162920" cy="943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2640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38160">
                  <a:solidFill>
                    <a:srgbClr val="996666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INFERTILITY</a:t>
            </a:r>
            <a:endParaRPr b="1" lang="en-US" sz="6600" spc="1" strike="noStrike">
              <a:ln w="38160">
                <a:solidFill>
                  <a:srgbClr val="996666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2971800" y="4677120"/>
            <a:ext cx="30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cture 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422280" y="16002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productive Health Nurs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UR 324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MENT OF INFERTI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ection of underlying probl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rm count &amp; mot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ce of inf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rmone Therap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gery: e.g Fibroid Tum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omectom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4"/>
          <p:cNvSpPr/>
          <p:nvPr/>
        </p:nvSpPr>
        <p:spPr>
          <a:xfrm flipV="1">
            <a:off x="914400" y="2057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Line 5"/>
          <p:cNvSpPr/>
          <p:nvPr/>
        </p:nvSpPr>
        <p:spPr>
          <a:xfrm>
            <a:off x="3886200" y="41911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Line 6"/>
          <p:cNvSpPr/>
          <p:nvPr/>
        </p:nvSpPr>
        <p:spPr>
          <a:xfrm>
            <a:off x="914400" y="2590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ificial Insemina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illation of sperm into the female reproductive tract to aid con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technique can be done in case of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 In adequate amount of sperm 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 Woman has vaginal or cervical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Vitro Fertilization ( IVF ): This technique used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5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cked or Damaged fallopian tub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5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igospermia or       Sperm 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5"/>
          <p:cNvSpPr/>
          <p:nvPr/>
        </p:nvSpPr>
        <p:spPr>
          <a:xfrm>
            <a:off x="4038480" y="5181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19512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MENT OF INFERTILIT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femal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3"/>
          <p:cNvSpPr/>
          <p:nvPr/>
        </p:nvSpPr>
        <p:spPr>
          <a:xfrm>
            <a:off x="6583320" y="6553080"/>
            <a:ext cx="2560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99"/>
                </a:solidFill>
                <a:latin typeface="Verdana"/>
              </a:rPr>
              <a:t>Slide </a:t>
            </a:r>
            <a:fld id="{87586F74-0006-4FB0-B2EC-6D525E640A75}" type="slidenum">
              <a:rPr b="0" lang="ar-SA" sz="1200" spc="-1" strike="noStrike">
                <a:solidFill>
                  <a:srgbClr val="6699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ial and Psychological Implications Related to Infert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ychological rea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ui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o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re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ss on the relationshi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ltural and religious consid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RSING MANAGE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ajor focus of nursing care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 Providing support for couple as they undergo diagnosis and their chosen treat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 Therapeutic communication ski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gnant has not occurred after at least 1 year of engaging in unprotected coitu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rilit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lessened ability to conceiv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out 14% of couples in USA are infert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TYPES OF INFERTILITY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- PRIMARY 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there is no previous conceptions           20%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- SECONDARY 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there has been a previous viable pregnancy but the couple is unable to conceive at present          80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"/>
          <p:cNvSpPr/>
          <p:nvPr/>
        </p:nvSpPr>
        <p:spPr>
          <a:xfrm>
            <a:off x="4038480" y="4495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Line 6"/>
          <p:cNvSpPr/>
          <p:nvPr/>
        </p:nvSpPr>
        <p:spPr>
          <a:xfrm>
            <a:off x="2971800" y="22860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LE INFERTILITY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 Disturbance in spermato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 Obstruction in the seminiferous tubules, ducts or vessels preventing movements of spermatozo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 Qualitative or Quantitative changes in the seminal fluid preventing sperm mot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 Problems in ejaculation or deposition preventing spermatozoa from being placed close enough to woman's cervi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uses are as follows in a general sca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emale factor 30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le factor 30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emale and male  30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iopathic    10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auses will vary from this general scale according to the locali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Adequate Sperm Cou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perm count is the number of sperm in a single ejaculation or in a milliliter of spe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perm count considered normal is 20 million per milliliter of seminal fluid or 50 million per ejacu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least 50% of sperm should be motile and 30% of sperm should be normal in shape and for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9660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CTORS AFFECTING SPERM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 Body Tempera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 Congenital Abnormalities e.g (undescended test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 Varicocele ( varicosity of the spermatic vei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 Trauma to the tes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 Drug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 Environmental Factors e.g X-Ray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EMALE INFERTILITY FACTORS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-533520" y="1295280"/>
            <a:ext cx="8948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2" marL="1040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ovulation: ( absence of ovulation) Most Common cause of infertility in wom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 Tubal transport 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 Uterine Problems : e.g Tumors , Uterine malformatio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 Cervical Problem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100000"/>
              </a:lnSpc>
              <a:spcBef>
                <a:spcPts val="550"/>
              </a:spcBef>
              <a:buClr>
                <a:srgbClr val="6699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Cervical mucus is thin &amp; watery that help sperm to penetrate the cervix when become this mucus too thick          difficulty to allow sperm to penetrate to cervix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100000"/>
              </a:lnSpc>
              <a:spcBef>
                <a:spcPts val="550"/>
              </a:spcBef>
              <a:buClr>
                <a:srgbClr val="6699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vix Stenos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100000"/>
              </a:lnSpc>
              <a:spcBef>
                <a:spcPts val="550"/>
              </a:spcBef>
              <a:buClr>
                <a:srgbClr val="669999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&amp;C several tim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 Vaginal Problems: Infection          PH of vaginal secretion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come acidotic        destroying the motility of spermatozoa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tic factors – vaginal obstruc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8"/>
          <p:cNvSpPr/>
          <p:nvPr/>
        </p:nvSpPr>
        <p:spPr>
          <a:xfrm>
            <a:off x="7010280" y="38098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Line 9"/>
          <p:cNvSpPr/>
          <p:nvPr/>
        </p:nvSpPr>
        <p:spPr>
          <a:xfrm>
            <a:off x="4038480" y="5334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Line 10"/>
          <p:cNvSpPr/>
          <p:nvPr/>
        </p:nvSpPr>
        <p:spPr>
          <a:xfrm>
            <a:off x="3429000" y="5791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AGNOSIS OF INFERTI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men analy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ulation Monitor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- By Recording Basal Body Temperature for a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ast 1 month        every day each morning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fore getting out of b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- Assessing the upsurge of LH that occurs befor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ulation by urine sample using ki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ubal Patency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ltrasou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-Ray imaging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4"/>
          <p:cNvSpPr/>
          <p:nvPr/>
        </p:nvSpPr>
        <p:spPr>
          <a:xfrm>
            <a:off x="3276720" y="3200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4T14:29:20Z</dcterms:created>
  <dc:creator>Dr Uzoigwe S.A</dc:creator>
  <dc:description/>
  <dc:language>en-US</dc:language>
  <cp:lastModifiedBy>User-PC</cp:lastModifiedBy>
  <dcterms:modified xsi:type="dcterms:W3CDTF">2017-03-08T07:27:15Z</dcterms:modified>
  <cp:revision>58</cp:revision>
  <dc:subject/>
  <dc:title>Dysfunctional uterine bleeding (DUB) </dc:title>
</cp:coreProperties>
</file>