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8F43-4257-40EA-9D4A-88862E590E0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50C7-F68C-4F18-B711-1DE3B392028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3ED3-7250-4C1C-AC13-175C5D26C6A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omectomy:  is the removal of fibroids (noncancerous tumors) from the wall of the uter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Header Placeholder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54E3-85C2-47CA-9A4B-E7CF428E13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vitro fertilization (IVF)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procedure in which eggs (ova) from a woman's ovary are removed. They are fertilized with sperm in a laboratory procedure, and then the fertilized egg (embryo) is returned to the woman's uter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Header Placeholder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E1B2-3605-44A0-8019-8726FC4D460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Header Placeholder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DE10-90C8-4114-AF10-2930C1E6F5D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b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Header Placeholder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11F6-4226-4AF5-AC9E-DC69BC06E1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yxoedema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ease caused by decreased activity of the thyroid gland in adults and characterized by dry skin, swellings around the lips and nose, mental deterioration, and a subnormal basal metabolic r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atrogen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Induced in a patient by a physician's activity, manner, or therapy. Used especially of an infection or other complication of treat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Header Placeholder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A647-6798-423A-8054-212FD78474D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aricoc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Dilatation of the veins associated with the spermatic c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Header Placeholder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A9A-EA05-433E-B7C1-AC10DF73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C1E-0AC0-425F-BC2D-D43CF4C8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0BD-4506-4013-999A-AFE0DF88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1F3-511B-4678-A54F-B313EF21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129F-0FB5-43F8-AA60-C68A6172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A41F-CB1A-40DF-A291-6E2910A6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488F-A41B-45A4-AAF6-37F3A022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09EA-B4F6-46E9-8537-01B71096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17FC-1844-47D8-839D-7CF69ED5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92C6-21C1-47F4-B4B9-5CFCC152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B1D9-E405-4C74-93C1-398E37C2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809-EFE5-49C9-B666-113C82A3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4D19-A512-457C-8D15-C72EE425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957B-5BE3-4BFE-A236-9B0FD7C4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DFA3-5661-4DBB-9947-16F945C8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3731-600B-4996-AD26-D0B78B93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A00A-3C57-47C1-B81B-4E71638B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97D-72A5-4090-9363-240A1126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883-DBF2-489C-BA10-CA53C089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71A-FA98-4067-A0C1-C67525DB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7024-09E2-48E1-A368-B98CEA65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6D5-AD0C-4F63-9DF5-16C5F49B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3A5-B303-419F-B271-B17E324D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571-9A71-4D26-B0BA-2AB316CC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1000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B18B-682E-473B-8C90-72D4AFC3C75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B048-FD05-4751-B1A8-8463273D0B4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1000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1D18-BEAD-4222-8FED-4687F424736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0788-68A8-4765-81E2-FEFE3880AF1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066680" y="3581280"/>
            <a:ext cx="7162920" cy="9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264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8160">
                  <a:solidFill>
                    <a:srgbClr val="9966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FERTILITY</a:t>
            </a:r>
            <a:endParaRPr b="1" lang="en-US" sz="6600" spc="1" strike="noStrike">
              <a:ln w="38160">
                <a:solidFill>
                  <a:srgbClr val="9966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971800" y="4677120"/>
            <a:ext cx="30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22280" y="1600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productive Health Nurs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UR 32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INFERT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ion of underlying 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rm count &amp; mot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e of inf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mone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ery: e.g Fibroid Tum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omecto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 flipV="1">
            <a:off x="91440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388620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91440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ficial Insemin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llation of sperm into the female reproductive tract to aid con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echnique can be done in case o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In adequate amount of sperm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Woman has vaginal or cervic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tro Fertilization ( IVF ): This technique u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ed or Damaged fallopian tu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igospermia or       Sperm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403848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INFERTI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fema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6583320" y="6553080"/>
            <a:ext cx="2560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99"/>
                </a:solidFill>
                <a:latin typeface="Verdana"/>
              </a:rPr>
              <a:t>Slide </a:t>
            </a:r>
            <a:fld id="{4D4C96BA-6682-4AD8-92AE-C75CD7D47835}" type="slidenum">
              <a:rPr b="0" lang="ar-SA" sz="1200" spc="-1" strike="noStrike">
                <a:solidFill>
                  <a:srgbClr val="6699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and Psychological Implications Related to Infert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logical re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 on the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l and religious consid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RSING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 focus of nursing care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Providing support for couple as they undergo diagnosis and their chosen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Therapeutic communication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gnant has not occurred after at least 1 year of engaging in unprotected coit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il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lessened ability to conce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14% of couples in USA are infert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YPES OF INFERTILITY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- PRIMARY 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there is no previous conceptions           20%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- SECONDARY 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there has been a previous viable pregnancy but the couple is unable to conceive at present          8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403848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2971800" y="2286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E INFERTILITY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Disturbance in spermat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Obstruction in the seminiferous tubules, ducts or vessels preventing movements of spermatoz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Qualitative or Quantitative changes in the seminal fluid preventing sperm mot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Problems in ejaculation or deposition preventing spermatozoa from being placed close enough to woman's cerv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ses are as follows in a general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male factor 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le factor 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male and male  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iopathic    1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uses will vary from this general scale according to the loca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dequate Sperm 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rm count is the number of sperm in a single ejaculation or in a milliliter of spe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perm count considered normal is 20 million per milliliter of seminal fluid or 50 million per ejac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50% of sperm should be motile and 30% of sperm should be normal in shape and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966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TORS AFFECTING SPERM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Body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Congenital Abnormalities e.g (undescended tes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Varicocele ( varicosity of the spermatic ve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Trauma to the te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Drug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Environmental Factors e.g X-Ra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MALE INFERTILITY FACTOR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533520" y="1295280"/>
            <a:ext cx="8948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1040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vulation: ( absence of ovulation) Most Common cause of infertility in wo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Tubal transport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Uterine Problems : e.g Tumors , Uterine malform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Cervical Problem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Cervical mucus is thin &amp; watery that help sperm to penetrate the cervix when become this mucus too thick          difficulty to allow sperm to penetrate to cervi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vix Steno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&amp;C several ti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Vaginal Problems: Infection          PH of vaginal secretion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ome acidotic        destroying the motility of spermatozoa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tic factors – vaginal obstru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7010280" y="3809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403848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IS OF INFERT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en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ulation Monitor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- By Recording Basal Body Temperature for a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st 1 month        every day each morning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fore getting out of b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- Assessing the upsurge of LH that occurs befo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ulation by urine sample using k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bal Patency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ltras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-Ray imag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327672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4T14:29:20Z</dcterms:created>
  <dc:creator>Dr Uzoigwe S.A</dc:creator>
  <dc:description/>
  <dc:language>en-US</dc:language>
  <cp:lastModifiedBy>User-PC</cp:lastModifiedBy>
  <dcterms:modified xsi:type="dcterms:W3CDTF">2017-03-08T07:27:15Z</dcterms:modified>
  <cp:revision>58</cp:revision>
  <dc:subject/>
  <dc:title>Dysfunctional uterine bleeding (DUB) </dc:title>
</cp:coreProperties>
</file>