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35A-12AF-4C50-A1FB-3918719B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E93-3246-43BE-879B-A7CAD42F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76D0-A52C-454A-8BB8-357D6703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B668-CE47-4CF9-AB82-53C2E83D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9B2-4A2E-4B62-8368-DA4542D8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E69F-2F74-40B2-A4A8-08EFF151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F3C-F16B-47D6-8DF8-B84F3084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DEF-3639-4080-BF29-63FCD00C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D46-687A-4C13-B75F-14D7155A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D0A-4791-43AE-B5EE-34C887AE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2A2-4B95-47DE-9A88-8CC4D12F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CDE-CC58-4DE4-853C-4AF40C79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3902-C962-4D53-9919-8242D108BB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AF75-7B2A-4C4C-A6EC-35926B8551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00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5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0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657600"/>
            <a:ext cx="853416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chemical agent that accelerate the reaction without being consumed 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1305000"/>
            <a:ext cx="8610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inimum amount of energy needed  to start a reaction. It is the amount of energy needed for the reaction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7120" y="2581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4920" y="3200400"/>
            <a:ext cx="822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7200" y="5757840"/>
            <a:ext cx="838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1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95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98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0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المستخدم</cp:lastModifiedBy>
  <dcterms:modified xsi:type="dcterms:W3CDTF">2017-03-01T06:32:24Z</dcterms:modified>
  <cp:revision>243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5229755-9252-4FC6-A750-583FBB9E108A</vt:lpwstr>
  </property>
  <property fmtid="{D5CDD505-2E9C-101B-9397-08002B2CF9AE}" pid="3" name="ArticulatePath">
    <vt:lpwstr>Lecture 11</vt:lpwstr>
  </property>
</Properties>
</file>