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827-89BB-4169-A3C0-008BC7F4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4CC-B6A7-414A-B359-BCA86D9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9C5-AB4B-4580-830A-C89D4AFC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75E-8728-4D43-98BB-A1F1DCCC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5E7-6FE1-4587-9C10-D42FAE2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0C3-7EA4-4D37-941D-78143EC7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7B8-B7B7-43E6-8158-FB531C29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833-1120-487C-9C95-1F593D5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970-7BC0-420B-9030-A0950F2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37E-68E4-4E77-9D02-5B450A2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2FB-648E-47E6-A94C-1BD7F9B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541-7CA5-4E1B-8EC7-64F16AA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2C8-985A-45C6-894B-4538CF5BA7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B0E9-B09C-4561-8EA7-05CEEF12E6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1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5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98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0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المستخدم</cp:lastModifiedBy>
  <dcterms:modified xsi:type="dcterms:W3CDTF">2017-03-01T06:32:24Z</dcterms:modified>
  <cp:revision>243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