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9E28-34C7-4E0D-8D72-8948731BD9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743C-6E90-47E9-8A11-731BDA4BDE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6AB8-8DEC-458E-9436-DE7AEBC4F1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235B-C9B0-4305-A8DC-99549083CA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9900-C6B6-45E6-BBA8-39C20AA1E1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A2DF-C7CC-43D1-88A7-FF9940E514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E91F-56E8-4509-8D94-C5B8D4916D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34B0-EE2B-44D7-8D98-78B35EB6B0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1568-4119-4B9C-B28C-20CD8A63BE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595B-56CA-45D5-A616-DA59AF3451D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07F3-CC81-4665-9F42-97B2BB0EDE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69B0-8F75-4CE6-BB56-50B2FFEF86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9AAD-43A3-4BF8-9E92-41EE88CC00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E49E-FD56-4B96-9BED-5DCF58C800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D21-D808-4AC2-8F75-8B089DFD39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ED2-1B00-4B55-A727-BD6ABA2AE0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C88-8822-4DE4-A1EA-966D75C1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9EA-1239-4B36-A138-3729607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D38-7095-41E5-BD06-BE6F8FDB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2A3-1B2C-49B9-AFDA-D25F0475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F98-D359-400F-9996-B54445B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A81-25DE-4AD4-87FB-A2A16698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D14-5C0A-4959-900F-6EF92B48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229-1D8B-4748-A134-799895BB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6D6-E6B1-4A81-95C1-34B5FD55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85B-11BC-4924-8266-9CE3C95C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C1C-9068-4867-8CB4-FE39FA0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8D6-45BE-4F52-9DF2-0A2BD809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DAF-C64D-4932-B6B9-4428A81D39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7F3E-A812-4BB6-8B2E-9D16E4C99A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152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HAPTER 5 </a:t>
            </a:r>
            <a:br>
              <a:rPr sz="2400"/>
            </a:b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320" y="64008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Line 3"/>
          <p:cNvSpPr/>
          <p:nvPr/>
        </p:nvSpPr>
        <p:spPr>
          <a:xfrm>
            <a:off x="1714680" y="149868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50760" y="63360"/>
            <a:ext cx="1676520" cy="1392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E64-4384-4B82-9939-729493D4A9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04920" y="48744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Monosaccharides are classified into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e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e.g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e group        within 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e.g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57400" y="1219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371600" y="4191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C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E50F-2DC7-4A2C-B3AB-BE3CE6FA40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2- 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533520" y="1523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ed of 2 monosaccharide molecules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1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2(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+ 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2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1371600" y="120636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3" descr=""/>
          <p:cNvPicPr/>
          <p:nvPr/>
        </p:nvPicPr>
        <p:blipFill>
          <a:blip r:embed="rId1"/>
          <a:stretch/>
        </p:blipFill>
        <p:spPr>
          <a:xfrm>
            <a:off x="76320" y="79200"/>
            <a:ext cx="1371600" cy="114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"/>
          <p:cNvPicPr/>
          <p:nvPr/>
        </p:nvPicPr>
        <p:blipFill>
          <a:blip r:embed="rId2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5"/>
          <p:cNvSpPr/>
          <p:nvPr/>
        </p:nvSpPr>
        <p:spPr>
          <a:xfrm>
            <a:off x="594360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5.5a, Page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04920" y="2376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Tahoma"/>
              </a:rPr>
              <a:t>1-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4DD-2E73-4F4C-89E9-BDC51B4EB6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2- 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milk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Ga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04920" y="1981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3- 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2954160"/>
            <a:ext cx="8915400" cy="26085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152280" y="601992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5, Page 6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2211-C9A9-46CF-A144-7BCD40728A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3300"/>
                </a:solidFill>
                <a:uFillTx/>
                <a:latin typeface="Arial"/>
              </a:rPr>
              <a:t>3- Poly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0880" y="1797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Consisted of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986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They have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8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and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ructural </a:t>
            </a:r>
            <a:r>
              <a:rPr b="0" lang="ar-EG" sz="28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r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3701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provide sugar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cell by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80880" y="4921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ructural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serve a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building material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the orga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676520" y="137160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575000" cy="130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1EA7-0CEB-420F-8A3D-E8C6F333BA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807840"/>
            <a:ext cx="4495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- Starch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( in pla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28600" y="1690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28600" y="21477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228600" y="2681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us, it gives glucose when hydrolysed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بإضافة ال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y special enzymes in hum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28600" y="3138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A)- Storage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نخزين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1"/>
          <p:cNvSpPr/>
          <p:nvPr/>
        </p:nvSpPr>
        <p:spPr>
          <a:xfrm>
            <a:off x="7543800" y="563868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A53D-35D3-4335-9CE0-BCA50141E4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Glycogen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 ( in anim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22860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4B26-8F50-4616-851B-F30ECF2EEF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990720" y="122400"/>
            <a:ext cx="716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B)- Structural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تركيب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884160"/>
            <a:ext cx="2819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80880" y="2133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80880" y="2666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04920" y="55627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80880" y="16002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12408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9"/>
          <p:cNvSpPr/>
          <p:nvPr/>
        </p:nvSpPr>
        <p:spPr>
          <a:xfrm>
            <a:off x="0" y="6400800"/>
            <a:ext cx="1589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c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AF3E-97DD-4B67-824F-2ED888CE13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052720" y="228600"/>
            <a:ext cx="7014960" cy="5853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8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228600" y="2470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 of cellulose i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D21F-C637-4B01-80FC-3E90569E90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04920" y="364680"/>
            <a:ext cx="8534160" cy="62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zymes that digest starch cannot hydrolyze the beta linkages in cellu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ose in our food passes through the digestive tract and is eliminated in feces as “insoluble fib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travels through the digestive tract, it abrades the intestinal walls and stimulates the secretion of mu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icrobes can digest cellulose to its glucose monomers through the us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z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karyotic herbivor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آكلات العش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cows and termites, have symbiotic relationships with cellulolytic microbes, allowing them access to this rich source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2416-9A28-4A0C-A97B-A210CE9FBF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228600" y="304920"/>
            <a:ext cx="2514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543800" cy="3473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9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216-D626-47E1-9BCE-35B943CD71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409400"/>
            <a:ext cx="8915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organic molecules together to form large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larger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cromolec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ay be composed of thousands of atoms and weigh over 100,000 dalt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ur major classes of macromolecules are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bohydrates, lipids, proteins, and nucleic acids (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of the four classes of macromolecules form chainlik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شكل السلسل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es called poly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acromolecul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ers consist of many similar or identical building blocks link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eated units are small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nom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troduction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5720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5DD6-88B4-4772-8CD1-188DD46EF3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55"/>
          <p:cNvGrpSpPr/>
          <p:nvPr/>
        </p:nvGrpSpPr>
        <p:grpSpPr>
          <a:xfrm>
            <a:off x="1981080" y="533520"/>
            <a:ext cx="4038840" cy="685800"/>
            <a:chOff x="1981080" y="533520"/>
            <a:chExt cx="4038840" cy="685800"/>
          </a:xfrm>
        </p:grpSpPr>
        <p:sp>
          <p:nvSpPr>
            <p:cNvPr id="404" name="Line 4"/>
            <p:cNvSpPr/>
            <p:nvPr/>
          </p:nvSpPr>
          <p:spPr>
            <a:xfrm>
              <a:off x="4343400" y="53352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1981080" y="91440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198108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601992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60"/>
          <p:cNvGrpSpPr/>
          <p:nvPr/>
        </p:nvGrpSpPr>
        <p:grpSpPr>
          <a:xfrm>
            <a:off x="914400" y="4203720"/>
            <a:ext cx="2057400" cy="827640"/>
            <a:chOff x="914400" y="4203720"/>
            <a:chExt cx="2057400" cy="827640"/>
          </a:xfrm>
        </p:grpSpPr>
        <p:sp>
          <p:nvSpPr>
            <p:cNvPr id="409" name="Line 14"/>
            <p:cNvSpPr/>
            <p:nvPr/>
          </p:nvSpPr>
          <p:spPr>
            <a:xfrm>
              <a:off x="1905120" y="4203720"/>
              <a:ext cx="0" cy="30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914400" y="449892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ahoma"/>
                </a:rPr>
                <a:t>Location of 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2"/>
          <p:cNvGrpSpPr/>
          <p:nvPr/>
        </p:nvGrpSpPr>
        <p:grpSpPr>
          <a:xfrm>
            <a:off x="457200" y="5576760"/>
            <a:ext cx="2971800" cy="673920"/>
            <a:chOff x="457200" y="5576760"/>
            <a:chExt cx="2971800" cy="673920"/>
          </a:xfrm>
        </p:grpSpPr>
        <p:sp>
          <p:nvSpPr>
            <p:cNvPr id="412" name="Text Box 20"/>
            <p:cNvSpPr/>
            <p:nvPr/>
          </p:nvSpPr>
          <p:spPr>
            <a:xfrm>
              <a:off x="6094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457200" y="594360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19810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2057400" y="59436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59"/>
          <p:cNvGrpSpPr/>
          <p:nvPr/>
        </p:nvGrpSpPr>
        <p:grpSpPr>
          <a:xfrm>
            <a:off x="685800" y="3521160"/>
            <a:ext cx="8229600" cy="685800"/>
            <a:chOff x="685800" y="3521160"/>
            <a:chExt cx="8229600" cy="685800"/>
          </a:xfrm>
        </p:grpSpPr>
        <p:sp>
          <p:nvSpPr>
            <p:cNvPr id="417" name="Text Box 9"/>
            <p:cNvSpPr/>
            <p:nvPr/>
          </p:nvSpPr>
          <p:spPr>
            <a:xfrm>
              <a:off x="990720" y="352116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0"/>
            <p:cNvSpPr/>
            <p:nvPr/>
          </p:nvSpPr>
          <p:spPr>
            <a:xfrm>
              <a:off x="4038480" y="3544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1"/>
            <p:cNvSpPr/>
            <p:nvPr/>
          </p:nvSpPr>
          <p:spPr>
            <a:xfrm>
              <a:off x="6553080" y="35337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2"/>
            <p:cNvSpPr/>
            <p:nvPr/>
          </p:nvSpPr>
          <p:spPr>
            <a:xfrm>
              <a:off x="68580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Glucose &amp; Fruct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373392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Maltose &amp; Sucr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65"/>
          <p:cNvGrpSpPr/>
          <p:nvPr/>
        </p:nvGrpSpPr>
        <p:grpSpPr>
          <a:xfrm>
            <a:off x="4267080" y="4821120"/>
            <a:ext cx="4648320" cy="1198800"/>
            <a:chOff x="4267080" y="4821120"/>
            <a:chExt cx="4648320" cy="1198800"/>
          </a:xfrm>
        </p:grpSpPr>
        <p:sp>
          <p:nvSpPr>
            <p:cNvPr id="423" name="Text Box 32"/>
            <p:cNvSpPr/>
            <p:nvPr/>
          </p:nvSpPr>
          <p:spPr>
            <a:xfrm>
              <a:off x="4348080" y="482112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3"/>
            <p:cNvSpPr/>
            <p:nvPr/>
          </p:nvSpPr>
          <p:spPr>
            <a:xfrm>
              <a:off x="7209000" y="48211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5"/>
            <p:cNvSpPr/>
            <p:nvPr/>
          </p:nvSpPr>
          <p:spPr>
            <a:xfrm>
              <a:off x="4267080" y="5195880"/>
              <a:ext cx="198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6"/>
            <p:cNvSpPr/>
            <p:nvPr/>
          </p:nvSpPr>
          <p:spPr>
            <a:xfrm>
              <a:off x="6964200" y="5226120"/>
              <a:ext cx="19512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38"/>
          <p:cNvSpPr/>
          <p:nvPr/>
        </p:nvSpPr>
        <p:spPr>
          <a:xfrm>
            <a:off x="68580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C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9"/>
          <p:cNvSpPr/>
          <p:nvPr/>
        </p:nvSpPr>
        <p:spPr>
          <a:xfrm>
            <a:off x="4572000" y="1219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suga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6"/>
          <p:cNvGrpSpPr/>
          <p:nvPr/>
        </p:nvGrpSpPr>
        <p:grpSpPr>
          <a:xfrm>
            <a:off x="836640" y="1600200"/>
            <a:ext cx="3124080" cy="685800"/>
            <a:chOff x="836640" y="1600200"/>
            <a:chExt cx="3124080" cy="685800"/>
          </a:xfrm>
        </p:grpSpPr>
        <p:sp>
          <p:nvSpPr>
            <p:cNvPr id="430" name="Line 7"/>
            <p:cNvSpPr/>
            <p:nvPr/>
          </p:nvSpPr>
          <p:spPr>
            <a:xfrm>
              <a:off x="83664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0"/>
            <p:cNvSpPr/>
            <p:nvPr/>
          </p:nvSpPr>
          <p:spPr>
            <a:xfrm>
              <a:off x="23605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1"/>
            <p:cNvSpPr/>
            <p:nvPr/>
          </p:nvSpPr>
          <p:spPr>
            <a:xfrm>
              <a:off x="39607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2"/>
            <p:cNvSpPr/>
            <p:nvPr/>
          </p:nvSpPr>
          <p:spPr>
            <a:xfrm>
              <a:off x="836640" y="198108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43"/>
            <p:cNvSpPr/>
            <p:nvPr/>
          </p:nvSpPr>
          <p:spPr>
            <a:xfrm>
              <a:off x="197964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57"/>
          <p:cNvGrpSpPr/>
          <p:nvPr/>
        </p:nvGrpSpPr>
        <p:grpSpPr>
          <a:xfrm>
            <a:off x="218520" y="2263680"/>
            <a:ext cx="4506840" cy="520200"/>
            <a:chOff x="218520" y="2263680"/>
            <a:chExt cx="4506840" cy="520200"/>
          </a:xfrm>
        </p:grpSpPr>
        <p:sp>
          <p:nvSpPr>
            <p:cNvPr id="436" name="Rectangle 44"/>
            <p:cNvSpPr/>
            <p:nvPr/>
          </p:nvSpPr>
          <p:spPr>
            <a:xfrm>
              <a:off x="218520" y="22636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45"/>
            <p:cNvSpPr/>
            <p:nvPr/>
          </p:nvSpPr>
          <p:spPr>
            <a:xfrm>
              <a:off x="1908360" y="22636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6"/>
            <p:cNvSpPr/>
            <p:nvPr/>
          </p:nvSpPr>
          <p:spPr>
            <a:xfrm>
              <a:off x="3515760" y="22636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8"/>
          <p:cNvGrpSpPr/>
          <p:nvPr/>
        </p:nvGrpSpPr>
        <p:grpSpPr>
          <a:xfrm>
            <a:off x="2133720" y="1676520"/>
            <a:ext cx="5486400" cy="1919160"/>
            <a:chOff x="2133720" y="1676520"/>
            <a:chExt cx="5486400" cy="1919160"/>
          </a:xfrm>
        </p:grpSpPr>
        <p:sp>
          <p:nvSpPr>
            <p:cNvPr id="440" name="Line 27"/>
            <p:cNvSpPr/>
            <p:nvPr/>
          </p:nvSpPr>
          <p:spPr>
            <a:xfrm>
              <a:off x="6019920" y="167652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2133720" y="321480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0"/>
            <p:cNvSpPr/>
            <p:nvPr/>
          </p:nvSpPr>
          <p:spPr>
            <a:xfrm>
              <a:off x="76201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7"/>
            <p:cNvSpPr/>
            <p:nvPr/>
          </p:nvSpPr>
          <p:spPr>
            <a:xfrm>
              <a:off x="495288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48"/>
            <p:cNvSpPr/>
            <p:nvPr/>
          </p:nvSpPr>
          <p:spPr>
            <a:xfrm>
              <a:off x="21337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3"/>
          <p:cNvGrpSpPr/>
          <p:nvPr/>
        </p:nvGrpSpPr>
        <p:grpSpPr>
          <a:xfrm>
            <a:off x="5029200" y="3900600"/>
            <a:ext cx="2971800" cy="990360"/>
            <a:chOff x="5029200" y="3900600"/>
            <a:chExt cx="2971800" cy="990360"/>
          </a:xfrm>
        </p:grpSpPr>
        <p:sp>
          <p:nvSpPr>
            <p:cNvPr id="446" name="Line 49"/>
            <p:cNvSpPr/>
            <p:nvPr/>
          </p:nvSpPr>
          <p:spPr>
            <a:xfrm>
              <a:off x="7620120" y="39006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1"/>
            <p:cNvSpPr/>
            <p:nvPr/>
          </p:nvSpPr>
          <p:spPr>
            <a:xfrm>
              <a:off x="5029200" y="45100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2"/>
            <p:cNvSpPr/>
            <p:nvPr/>
          </p:nvSpPr>
          <p:spPr>
            <a:xfrm>
              <a:off x="50292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3"/>
            <p:cNvSpPr/>
            <p:nvPr/>
          </p:nvSpPr>
          <p:spPr>
            <a:xfrm>
              <a:off x="80010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1295280" y="5043600"/>
            <a:ext cx="1219320" cy="533160"/>
            <a:chOff x="1295280" y="5043600"/>
            <a:chExt cx="1219320" cy="533160"/>
          </a:xfrm>
        </p:grpSpPr>
        <p:sp>
          <p:nvSpPr>
            <p:cNvPr id="451" name="Line 15"/>
            <p:cNvSpPr/>
            <p:nvPr/>
          </p:nvSpPr>
          <p:spPr>
            <a:xfrm>
              <a:off x="1295280" y="5346720"/>
              <a:ext cx="1219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129528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251460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4"/>
            <p:cNvSpPr/>
            <p:nvPr/>
          </p:nvSpPr>
          <p:spPr>
            <a:xfrm>
              <a:off x="1905120" y="504360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F222-6629-4F97-8888-CFE0A25ACB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5334120" y="3962520"/>
            <a:ext cx="373356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7217" b="53348"/>
          <a:stretch/>
        </p:blipFill>
        <p:spPr>
          <a:xfrm>
            <a:off x="5587920" y="839880"/>
            <a:ext cx="3479760" cy="243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556920"/>
            <a:ext cx="90676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den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ocess requires energy and is aided by                                                        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52280" y="6400800"/>
            <a:ext cx="198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a &amp; b, Page 6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6320" y="3921120"/>
            <a:ext cx="906768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5390-57CF-4F67-AF80-CED85D30E3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45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70" name="Line 5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1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is a long molecule consists of a chain of similar building molecules (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monomers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010280" y="64911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80808"/>
                </a:solidFill>
                <a:latin typeface="Tahoma"/>
              </a:rPr>
              <a:t>Page 62 – 63, Fig.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84" name="Text Box 19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EBF4-B8C8-4FD1-8D89-3403330DC0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523880" y="716040"/>
            <a:ext cx="739152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1- Carbohyd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el and Buil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terial (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ادة الطاقة و البناء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914400" y="236052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" y="2879640"/>
            <a:ext cx="800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ars, the smallest carbohydrates, serve as fuel and carb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saccharides, the polymers of sugars, have storage and structural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574640" cy="1308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76320" y="6338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64-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A7A7-2588-493E-88E6-4B7999ABF8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3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simplest carbohydrates (simple suga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ouble sugars, consis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wo mono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oined by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densation reaction (dehydr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lymers of monosacchar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have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nyl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ltipl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ydroxy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bonly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=O) is at the en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, the sugar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d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dehyd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not, the sugars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eton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aldose”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ketose”. They are structural is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may also exist a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nanti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alact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oth six-carbon aldoses, differ in the arrangement around asymmetrical carbon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ذرة الكربون الغير متماثل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osaccharides, particularly glucose, are a major fuel for cellula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D388-E753-4512-BCC8-56E4EDC375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97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2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1-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08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0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1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27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2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37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2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47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2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55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4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197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6"/>
          <p:cNvSpPr/>
          <p:nvPr/>
        </p:nvSpPr>
        <p:spPr>
          <a:xfrm>
            <a:off x="152280" y="649116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AC2E-1682-41F9-8C16-E8169F6E39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3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06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5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48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49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1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2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07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0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3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15"/>
          <p:cNvSpPr/>
          <p:nvPr/>
        </p:nvSpPr>
        <p:spPr>
          <a:xfrm>
            <a:off x="152280" y="64911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D62B-B074-4510-8389-3637E477D6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onosaccharides are also classified by the number of carbons in the backb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Glucose and other six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x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سد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ive carbon backbone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entoses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خم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nd three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905120" y="1143000"/>
            <a:ext cx="6553080" cy="5627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0" y="63244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5.3, Page 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1"/>
          <p:cNvGrpSpPr/>
          <p:nvPr/>
        </p:nvGrpSpPr>
        <p:grpSpPr>
          <a:xfrm>
            <a:off x="76680" y="2362320"/>
            <a:ext cx="1904400" cy="3142080"/>
            <a:chOff x="76680" y="2362320"/>
            <a:chExt cx="1904400" cy="3142080"/>
          </a:xfrm>
        </p:grpSpPr>
        <p:grpSp>
          <p:nvGrpSpPr>
            <p:cNvPr id="321" name="Group 9"/>
            <p:cNvGrpSpPr/>
            <p:nvPr/>
          </p:nvGrpSpPr>
          <p:grpSpPr>
            <a:xfrm>
              <a:off x="77400" y="2362320"/>
              <a:ext cx="1903680" cy="703800"/>
              <a:chOff x="77400" y="2362320"/>
              <a:chExt cx="1903680" cy="70380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77400" y="2362320"/>
                <a:ext cx="132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Aldehy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7"/>
              <p:cNvSpPr/>
              <p:nvPr/>
            </p:nvSpPr>
            <p:spPr>
              <a:xfrm>
                <a:off x="1143000" y="2819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0"/>
            <p:cNvGrpSpPr/>
            <p:nvPr/>
          </p:nvGrpSpPr>
          <p:grpSpPr>
            <a:xfrm>
              <a:off x="76680" y="4800600"/>
              <a:ext cx="1904400" cy="703800"/>
              <a:chOff x="76680" y="4800600"/>
              <a:chExt cx="1904400" cy="703800"/>
            </a:xfrm>
          </p:grpSpPr>
          <p:sp>
            <p:nvSpPr>
              <p:cNvPr id="325" name="Rectangle 6"/>
              <p:cNvSpPr/>
              <p:nvPr/>
            </p:nvSpPr>
            <p:spPr>
              <a:xfrm>
                <a:off x="76680" y="4800600"/>
                <a:ext cx="1114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Keton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1143000" y="5105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hmed</cp:lastModifiedBy>
  <dcterms:modified xsi:type="dcterms:W3CDTF">2009-03-03T11:51:42Z</dcterms:modified>
  <cp:revision>532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