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8BE-0E39-48D4-81BE-67884B885B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F6D-93C0-41EE-8450-00CD676D5C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293-B699-427F-B6FB-2FBEB9AF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E45-8994-4B1F-841C-324CECF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D2E-175D-4255-A87B-DC9782C4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760-1362-4B5F-98D7-E19FBF86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168-F851-46B2-A9A1-9A85CA1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B66-DF78-4342-B8FE-AA5076C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156-4CDB-40BF-83D1-6FCD9CC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D24-2D4E-4D10-A5E9-58558F26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C67-3869-44B6-8DED-D24378F5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331-5A1A-4811-99C4-432A2A1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66C-104A-469B-811A-354E304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550-59FC-4946-9645-BB1CA4C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C82-6B7B-4E9A-A8E7-A70983290B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0FF-E33C-4AC4-97EE-853FBC2E80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FCA-A3F6-40B1-B7B8-0B5678D59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Consists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773B-4666-4DF2-AF43-F0D9C36688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in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8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51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60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65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71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77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83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388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393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396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02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06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A65-C315-4E4F-B113-F6BD73107B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498680"/>
            <a:ext cx="8686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cromolecules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arbohydrat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Lipi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Protei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Nucleic acid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828440" y="763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B70-7B39-478A-B8CA-7EF81124C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30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905120" y="2025720"/>
            <a:ext cx="5562360" cy="1066320"/>
            <a:chOff x="1905120" y="2025720"/>
            <a:chExt cx="5562360" cy="1066320"/>
          </a:xfrm>
        </p:grpSpPr>
        <p:sp>
          <p:nvSpPr>
            <p:cNvPr id="68" name="Line 5"/>
            <p:cNvSpPr/>
            <p:nvPr/>
          </p:nvSpPr>
          <p:spPr>
            <a:xfrm>
              <a:off x="3581280" y="20257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800600" y="20257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905120" y="26352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190512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480060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746748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79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33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 to hydrogen to oxygen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0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95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1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13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14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0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25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0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35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0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45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48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87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0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195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198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37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0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1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63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64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299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02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05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2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كلية العوم</cp:lastModifiedBy>
  <dcterms:modified xsi:type="dcterms:W3CDTF">2013-01-26T05:59:12Z</dcterms:modified>
  <cp:revision>605</cp:revision>
  <dc:subject/>
  <dc:title>Cell Molecules</dc:title>
</cp:coreProperties>
</file>