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B390F-C1E7-42A3-B79C-040D5563C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392C7-029F-4924-A9BB-DB937831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319CE-8207-485F-BC47-B8E2BC0A3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5071B-75AA-4F5A-A47C-F5C6C6432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344C7-AD36-4FD3-B3D4-DB0DCD565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D2AF6-9A3E-4A07-AEF8-8FDC153E5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FFD1D-6070-43E1-A725-5D2F7F58A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D3E2B-3D76-4DF3-9ED9-C0245CA10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43E5B-CD5C-4BE8-9089-53314EC4C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7DE88-6385-42E8-AC0F-CFD3FE442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EC60-3E2D-4637-885D-A20176495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096ED-3764-40DD-8069-B5B7296FA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4B86-65AC-477F-BEA1-EEEC32FCE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5E75-14F4-4087-880D-4BE40162D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B9BBB-223F-4789-A190-452FFC112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A862A-B684-460D-B523-498836870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CD31-A2DF-4E00-99ED-FE9E31322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0169CB-26FE-448E-BED9-3E41DAF97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DB05D-5D4F-4638-AA5B-CFA9C5E89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163FA-CD3A-4CDE-88B9-B69EF84F2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D5A10-16A8-47BE-A673-156ED1FBD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D00970-9286-4781-B627-B8E692E35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5A92-4917-436A-900F-25F67FEC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2B62D-6881-4FF5-BFB3-7EF91C818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3411C-2F91-497F-9EE8-9242EBDAF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EE50D-6BC6-46D6-BF6D-093333B0B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2F2A3-AEBF-4A7B-89D5-0C2D5CBF6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0C9F1-EE5A-40A6-A26A-AF24C91EE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09695-9958-4A3E-97BE-119603DF4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5E0E0A-BCF6-4E1D-8721-5E21393E3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EDD3A-2CEB-4D6A-AD8B-C28D880FF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89706-E283-49B7-85DF-55994B700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F65AE-51C0-4056-B88E-03D44B0CF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15C3-B56A-4BEB-9098-76E60DFF0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231A9-7162-4225-971F-79693B517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94559-2535-4395-94E9-5E758D3F5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641D3-83C1-4302-977E-83B4955F6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DC26D-88F3-473F-B6C0-B61482E30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6F059-1A66-4364-9F47-2775B9B15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6E35E-510B-45CB-AF2C-D2B7967E5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BD7F8-3A51-4AB1-890F-9486E762A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750EC-CA46-4DAF-8E40-168D39201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5EEFD-493D-4A95-A060-06BD38998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5CCC-A77B-40C2-B357-50BCB958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29C5-8AEC-45AA-8C03-2BA0F611A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195D-04A8-4DF8-AC0F-B6C52CEA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4FD4-AC5E-411A-B993-46CF6D747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5095-7964-4406-B3DB-59BE15F65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7920"/>
            <a:ext cx="12192120" cy="6865920"/>
            <a:chOff x="0" y="-7920"/>
            <a:chExt cx="12192120" cy="6865920"/>
          </a:xfrm>
        </p:grpSpPr>
        <p:sp>
          <p:nvSpPr>
            <p:cNvPr id="1"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02A8F-F11E-4192-A2D6-448442014307}"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8"/>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41A80-3F99-4F2A-9220-0B30FEF75A7E}"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8"/>
          <p:cNvGrpSpPr/>
          <p:nvPr/>
        </p:nvGrpSpPr>
        <p:grpSpPr>
          <a:xfrm>
            <a:off x="0" y="-7920"/>
            <a:ext cx="12192120" cy="6865920"/>
            <a:chOff x="0" y="-7920"/>
            <a:chExt cx="12192120" cy="6865920"/>
          </a:xfrm>
        </p:grpSpPr>
        <p:sp>
          <p:nvSpPr>
            <p:cNvPr id="105"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03DA4-11B5-42CA-AC3C-1358522EE83A}"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8"/>
          <p:cNvGrpSpPr/>
          <p:nvPr/>
        </p:nvGrpSpPr>
        <p:grpSpPr>
          <a:xfrm>
            <a:off x="0" y="-7920"/>
            <a:ext cx="12192120" cy="6865920"/>
            <a:chOff x="0" y="-7920"/>
            <a:chExt cx="12192120" cy="6865920"/>
          </a:xfrm>
        </p:grpSpPr>
        <p:sp>
          <p:nvSpPr>
            <p:cNvPr id="159"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4A558-F5D0-4B89-B9CA-8DB9E1543D73}"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eb3d9f"/>
                </a:solidFill>
                <a:latin typeface="Arabic Typesetting"/>
                <a:cs typeface="Arabic Typesetting"/>
              </a:rPr>
              <a:t>التعريب (المحاضرة </a:t>
            </a:r>
            <a:r>
              <a:rPr b="0" lang="ar-SA" sz="5400" spc="-1" strike="noStrike">
                <a:solidFill>
                  <a:srgbClr val="eb3d9f"/>
                </a:solidFill>
                <a:latin typeface="Arabic Typesetting"/>
                <a:ea typeface="Arabic Typesetting"/>
              </a:rPr>
              <a:t>7</a:t>
            </a:r>
            <a:r>
              <a:rPr b="0" lang="ar-SA" sz="5400" spc="-1" strike="noStrike">
                <a:solidFill>
                  <a:srgbClr val="eb3d9f"/>
                </a:solidFill>
                <a:latin typeface="Arabic Typesetting"/>
                <a:ea typeface="Arabic Typesetting"/>
              </a:rPr>
              <a:t>)</a:t>
            </a:r>
            <a:br>
              <a:rPr sz="5400"/>
            </a:br>
            <a:r>
              <a:rPr b="0" lang="ar-SA" sz="5400" spc="-1" strike="noStrike">
                <a:solidFill>
                  <a:srgbClr val="eb3d9f"/>
                </a:solidFill>
                <a:latin typeface="Arabic Typesetting"/>
                <a:cs typeface="Arabic Typesetting"/>
              </a:rPr>
              <a:t>مؤسسات التعريب: مجامع اللغة العربية</a:t>
            </a:r>
            <a:endParaRPr b="0" lang="en-US" sz="5400" spc="-1" strike="noStrike">
              <a:solidFill>
                <a:srgbClr val="eb3d9f"/>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د. سلوى الحارثي</a:t>
            </a:r>
            <a:endParaRPr b="0" lang="en-US" sz="1800" spc="-1" strike="noStrike">
              <a:solidFill>
                <a:srgbClr val="404040"/>
              </a:solidFill>
              <a:latin typeface="Trebuchet MS"/>
            </a:endParaRPr>
          </a:p>
          <a:p>
            <a:pPr indent="0" algn="ctr" rtl="1">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أستاذ مساعد في قسم اللغة الإنجليزية والترجمة، كلية اللغات والترجم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63040" y="-660240"/>
            <a:ext cx="8596440" cy="13204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35" name="عنصر نائب للمحتوى 3" descr=""/>
          <p:cNvPicPr/>
          <p:nvPr/>
        </p:nvPicPr>
        <p:blipFill>
          <a:blip r:embed="rId1"/>
          <a:stretch/>
        </p:blipFill>
        <p:spPr>
          <a:xfrm>
            <a:off x="1146240" y="3352680"/>
            <a:ext cx="1800000" cy="2533680"/>
          </a:xfrm>
          <a:prstGeom prst="rect">
            <a:avLst/>
          </a:prstGeom>
          <a:ln w="0">
            <a:noFill/>
          </a:ln>
        </p:spPr>
      </p:pic>
      <p:pic>
        <p:nvPicPr>
          <p:cNvPr id="236" name="صورة 4" descr=""/>
          <p:cNvPicPr/>
          <p:nvPr/>
        </p:nvPicPr>
        <p:blipFill>
          <a:blip r:embed="rId2"/>
          <a:stretch/>
        </p:blipFill>
        <p:spPr>
          <a:xfrm>
            <a:off x="4429080" y="317520"/>
            <a:ext cx="6023160" cy="4302000"/>
          </a:xfrm>
          <a:prstGeom prst="rect">
            <a:avLst/>
          </a:prstGeom>
          <a:ln w="0">
            <a:noFill/>
          </a:ln>
        </p:spPr>
      </p:pic>
      <p:pic>
        <p:nvPicPr>
          <p:cNvPr id="237" name="صورة 5" descr=""/>
          <p:cNvPicPr/>
          <p:nvPr/>
        </p:nvPicPr>
        <p:blipFill>
          <a:blip r:embed="rId3"/>
          <a:stretch/>
        </p:blipFill>
        <p:spPr>
          <a:xfrm>
            <a:off x="3822840" y="4916520"/>
            <a:ext cx="1763640" cy="1687320"/>
          </a:xfrm>
          <a:prstGeom prst="rect">
            <a:avLst/>
          </a:prstGeom>
          <a:ln w="0">
            <a:noFill/>
          </a:ln>
        </p:spPr>
      </p:pic>
      <p:pic>
        <p:nvPicPr>
          <p:cNvPr id="238" name="صورة 6" descr=""/>
          <p:cNvPicPr/>
          <p:nvPr/>
        </p:nvPicPr>
        <p:blipFill>
          <a:blip r:embed="rId4"/>
          <a:stretch/>
        </p:blipFill>
        <p:spPr>
          <a:xfrm>
            <a:off x="468360" y="479520"/>
            <a:ext cx="3659040" cy="21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جمع العلمي العراقي</a:t>
            </a:r>
            <a:endParaRPr b="0" lang="en-US" sz="3600" spc="-1" strike="noStrike">
              <a:solidFill>
                <a:srgbClr val="eb3d9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عنى بسلامة اللغات العربية والكردية والسرياني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إنجازاته:</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ده معاجم وقوائم فينظر فيها.</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نشر المصطلحات في مجلته، ولا يقر مصطلحا إلا بعد نشره بستة أشهر، ويطلع على قرارات مجمعي دمشق والقاهرة توخيا لوحدة المصطلح العلمي العربي. ومنهجيته في وضع المصطلحات: الترجمة ثم التوليد ثم الاقتراض.</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جمة المعجمات المتخصصة من المعجمات أو القوائم الإنجليزية مباشر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ويج المصطلحات الجديدة في مقالات متخصصة تنشرها مجلة المجمع، مثلا «النسبة الاقتصادية لحديد التسليح في خرسانة السقوف والأعتاب» للدكتور جميل الملائكة.</a:t>
            </a: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ميز المجمع العلمي العراقي بميله الشديد إلى التفصح وإحياء المفردات القديمة وتحميلها معاني جديد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41" name="صورة 1" descr=""/>
          <p:cNvPicPr/>
          <p:nvPr/>
        </p:nvPicPr>
        <p:blipFill>
          <a:blip r:embed="rId1"/>
          <a:stretch/>
        </p:blipFill>
        <p:spPr>
          <a:xfrm>
            <a:off x="5575320" y="27000"/>
            <a:ext cx="3924360" cy="20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الأردني</a:t>
            </a:r>
            <a:endParaRPr b="0" lang="en-US" sz="3600" spc="-1" strike="noStrike">
              <a:solidFill>
                <a:srgbClr val="eb3d9f"/>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حفاظ على سلامة اللغة – توحيد المصطلحات – وضع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نجازات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عريب الكتاب الجامعي فترجم ونشر </a:t>
            </a:r>
            <a:r>
              <a:rPr b="0" lang="ar-SA" sz="1800" spc="-1" strike="noStrike">
                <a:solidFill>
                  <a:srgbClr val="404040"/>
                </a:solidFill>
                <a:latin typeface="Trebuchet MS"/>
                <a:ea typeface="Tahoma"/>
              </a:rPr>
              <a:t>18</a:t>
            </a:r>
            <a:r>
              <a:rPr b="0" lang="ar-SA" sz="1800" spc="-1" strike="noStrike">
                <a:solidFill>
                  <a:srgbClr val="404040"/>
                </a:solidFill>
                <a:latin typeface="Trebuchet MS"/>
                <a:ea typeface="Tahoma"/>
              </a:rPr>
              <a:t> كتابا جامعي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طبعت أعماله في كتيب</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قيم مواسم ثقافية مدتها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أسابيع حول أهدافه واهتماماته</a:t>
            </a:r>
            <a:endParaRPr b="0" lang="en-US" sz="1800" spc="-1" strike="noStrike">
              <a:solidFill>
                <a:srgbClr val="404040"/>
              </a:solidFill>
              <a:latin typeface="Trebuchet MS"/>
            </a:endParaRPr>
          </a:p>
        </p:txBody>
      </p:sp>
      <p:pic>
        <p:nvPicPr>
          <p:cNvPr id="244" name="صورة 1" descr=""/>
          <p:cNvPicPr/>
          <p:nvPr/>
        </p:nvPicPr>
        <p:blipFill>
          <a:blip r:embed="rId1"/>
          <a:stretch/>
        </p:blipFill>
        <p:spPr>
          <a:xfrm>
            <a:off x="774720" y="1547640"/>
            <a:ext cx="2362320" cy="19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أكاديمية الملكية المغربية</a:t>
            </a:r>
            <a:endParaRPr b="0" lang="en-US" sz="3600" spc="-1" strike="noStrike">
              <a:solidFill>
                <a:srgbClr val="eb3d9f"/>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عام </a:t>
            </a:r>
            <a:r>
              <a:rPr b="0" lang="ar-SA" sz="2000" spc="-1" strike="noStrike">
                <a:solidFill>
                  <a:srgbClr val="404040"/>
                </a:solidFill>
                <a:latin typeface="Trebuchet MS"/>
                <a:ea typeface="Tahoma"/>
              </a:rPr>
              <a:t>1977</a:t>
            </a:r>
            <a:endParaRPr b="0" lang="en-US" sz="20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هدافها: </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سهر على حسن استعمال اللغة العربية بالمغرب وإتقان الترجمة من العربية وإليها</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لم يذكر التعريب ووضع المصطلحات بصراحة ضمن الأهداف بسبب أن المغرب فيه (معهد الأبحاث والدراسات للتعريب) في الرباط الذي استضاف المؤتمر الأول للتعريب وتبنى مكتب تنسيق التعريب الذي انبثق عنه</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48" name="عنصر نائب للمحتوى 3" descr=""/>
          <p:cNvPicPr/>
          <p:nvPr/>
        </p:nvPicPr>
        <p:blipFill>
          <a:blip r:embed="rId1"/>
          <a:stretch/>
        </p:blipFill>
        <p:spPr>
          <a:xfrm>
            <a:off x="1128600" y="3860640"/>
            <a:ext cx="3141720" cy="2181240"/>
          </a:xfrm>
          <a:prstGeom prst="rect">
            <a:avLst/>
          </a:prstGeom>
          <a:ln w="0">
            <a:noFill/>
          </a:ln>
        </p:spPr>
      </p:pic>
      <p:pic>
        <p:nvPicPr>
          <p:cNvPr id="249" name="صورة 4" descr=""/>
          <p:cNvPicPr/>
          <p:nvPr/>
        </p:nvPicPr>
        <p:blipFill>
          <a:blip r:embed="rId2"/>
          <a:stretch/>
        </p:blipFill>
        <p:spPr>
          <a:xfrm>
            <a:off x="838080" y="120600"/>
            <a:ext cx="6096240" cy="3543480"/>
          </a:xfrm>
          <a:prstGeom prst="rect">
            <a:avLst/>
          </a:prstGeom>
          <a:ln w="0">
            <a:noFill/>
          </a:ln>
        </p:spPr>
      </p:pic>
      <p:pic>
        <p:nvPicPr>
          <p:cNvPr id="250" name="صورة 5" descr=""/>
          <p:cNvPicPr/>
          <p:nvPr/>
        </p:nvPicPr>
        <p:blipFill>
          <a:blip r:embed="rId3"/>
          <a:stretch/>
        </p:blipFill>
        <p:spPr>
          <a:xfrm>
            <a:off x="4724280" y="2292480"/>
            <a:ext cx="7162920" cy="438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لغوية أخرى</a:t>
            </a:r>
            <a:endParaRPr b="0" lang="en-US" sz="3600" spc="-1" strike="noStrike">
              <a:solidFill>
                <a:srgbClr val="eb3d9f"/>
              </a:solidFill>
              <a:latin typeface="Trebuchet MS"/>
            </a:endParaRPr>
          </a:p>
        </p:txBody>
      </p:sp>
      <p:sp>
        <p:nvSpPr>
          <p:cNvPr id="252" name=""/>
          <p:cNvSpPr txBox="1"/>
          <p:nvPr/>
        </p:nvSpPr>
        <p:spPr>
          <a:xfrm>
            <a:off x="677520" y="1600200"/>
            <a:ext cx="8596440" cy="4441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المجمع التونسي للعلوم والآداب والفنون</a:t>
            </a:r>
            <a:br>
              <a:rPr sz="1800"/>
            </a:br>
            <a:r>
              <a:rPr b="0" lang="ar-SA" sz="1800" spc="-1" strike="noStrike">
                <a:solidFill>
                  <a:srgbClr val="00b050"/>
                </a:solidFill>
                <a:latin typeface="Trebuchet MS"/>
                <a:ea typeface="Tahoma"/>
              </a:rPr>
              <a:t>(بيت الحكم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82</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وعت إسهاماته ما بين تحقيق وترجمة ووضع دراسات ومعاجم واستضافة ندو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السودان </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93</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ستضاف مؤتمر التعريب السابع في الخرطوم عام </a:t>
            </a:r>
            <a:r>
              <a:rPr b="0" lang="ar-SA" sz="1800" spc="-1" strike="noStrike">
                <a:solidFill>
                  <a:srgbClr val="404040"/>
                </a:solidFill>
                <a:latin typeface="Trebuchet MS"/>
                <a:ea typeface="Tahoma"/>
              </a:rPr>
              <a:t>1994</a:t>
            </a:r>
            <a:r>
              <a:rPr b="0" lang="ar-SA" sz="1800" spc="-1" strike="noStrike">
                <a:solidFill>
                  <a:srgbClr val="404040"/>
                </a:solidFill>
                <a:latin typeface="Trebuchet MS"/>
                <a:cs typeface="Tahoma"/>
              </a:rPr>
              <a:t>، ويسهم علماؤه في نشاط الهيئة العليا للتعريب في السود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فلسطي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عد رديفا للمجامع الأخرى في القاهرة ودمشق وبغداد وعمان والخرطوم وينسق أعماله معه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203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54" name=""/>
          <p:cNvSpPr txBox="1"/>
          <p:nvPr/>
        </p:nvSpPr>
        <p:spPr>
          <a:xfrm>
            <a:off x="677520" y="965160"/>
            <a:ext cx="8596440" cy="50767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ليبي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هم أهدافه الحفاظ على اللغة العربية وإثراء الحياة الفكرية وترسيخ القومية وهو رديف للمجامع الأخرى</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eb3d9f"/>
                </a:solidFill>
                <a:latin typeface="Trebuchet MS"/>
                <a:cs typeface="Tahoma"/>
              </a:rPr>
              <a:t>اتحاد المجامع اللغوية (دمشق والقاهرة وبغداد)</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70</a:t>
            </a:r>
            <a:r>
              <a:rPr b="0" lang="ar-SA" sz="1800" spc="-1" strike="noStrike">
                <a:solidFill>
                  <a:srgbClr val="404040"/>
                </a:solidFill>
                <a:latin typeface="Trebuchet MS"/>
                <a:cs typeface="Tahoma"/>
              </a:rPr>
              <a:t>، وانضمت إليه المجامع التي تل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ظيم الاتصال بين المجامع اللغوية وتنسيق جهود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وحيد المصطلحات العلمية والفنية والحضارية ونشر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يؤدي مهامه عن طريق عقد ندوات ركزت على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قضايا: تعريب التعليم العالي – توحيد المصطلح – الكتابة العلمية العربي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رجع</a:t>
            </a:r>
            <a:endParaRPr b="0" lang="en-US" sz="3600" spc="-1" strike="noStrike">
              <a:solidFill>
                <a:srgbClr val="eb3d9f"/>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اللغة العربية</a:t>
            </a:r>
            <a:endParaRPr b="0" lang="en-US" sz="3600" spc="-1" strike="noStrike">
              <a:solidFill>
                <a:srgbClr val="eb3d9f"/>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ظم المجامع اللغوية تطورت عن لجان الترجمة والنشر في بداية التعرف على الثقافات الأجنبية الحديثة بسبب الخوف من دخول الكلمات الأعجمية والعامية إلى اللغة العربية الفصحى. وتوجد أيضا دوافع سياسية وتنافسية بين الأنظمة العربية.</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في دمشق</a:t>
            </a:r>
            <a:endParaRPr b="0" lang="en-US" sz="3600" spc="-1" strike="noStrike">
              <a:solidFill>
                <a:srgbClr val="eb3d9f"/>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قدم المجامع اللغوية العربية. أنشئ عام </a:t>
            </a:r>
            <a:r>
              <a:rPr b="0" lang="ar-SA" sz="1800" spc="-1" strike="noStrike">
                <a:solidFill>
                  <a:srgbClr val="404040"/>
                </a:solidFill>
                <a:latin typeface="Trebuchet MS"/>
                <a:ea typeface="Tahoma"/>
              </a:rPr>
              <a:t>1919</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م أعماله: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1</a:t>
            </a:r>
            <a:r>
              <a:rPr b="0" lang="ar-SA" sz="2400" spc="-1" strike="noStrike">
                <a:solidFill>
                  <a:srgbClr val="00b050"/>
                </a:solidFill>
                <a:latin typeface="Trebuchet MS"/>
                <a:ea typeface="Tahoma"/>
              </a:rPr>
              <a:t>. وضع المصطلحات</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أوائل مقترحاته في هذا المجال استخدام «ديوان التمليك»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طابو»</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شحنة أو الشرطة»</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بوليس»</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رير»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رابور»</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ويم»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روزنام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ذكر المجمع في مجلته أنه يرغب أن يراعي رؤساء الدوائر هذه المقترحات في معاملاتهم</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طلب من الدوائر أن ترسل ممثلا اختصاصيا يشترك في أبحاث المجمع</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7520" y="609480"/>
            <a:ext cx="8596440" cy="1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19" name="عنصر نائب للمحتوى 3" descr=""/>
          <p:cNvPicPr/>
          <p:nvPr/>
        </p:nvPicPr>
        <p:blipFill>
          <a:blip r:embed="rId1"/>
          <a:stretch/>
        </p:blipFill>
        <p:spPr>
          <a:xfrm>
            <a:off x="4657680" y="1933560"/>
            <a:ext cx="5275440" cy="3614760"/>
          </a:xfrm>
          <a:prstGeom prst="rect">
            <a:avLst/>
          </a:prstGeom>
          <a:ln w="0">
            <a:noFill/>
          </a:ln>
        </p:spPr>
      </p:pic>
      <p:pic>
        <p:nvPicPr>
          <p:cNvPr id="220" name="صورة 4" descr=""/>
          <p:cNvPicPr/>
          <p:nvPr/>
        </p:nvPicPr>
        <p:blipFill>
          <a:blip r:embed="rId2"/>
          <a:stretch/>
        </p:blipFill>
        <p:spPr>
          <a:xfrm>
            <a:off x="376200" y="2840040"/>
            <a:ext cx="4057560" cy="1028520"/>
          </a:xfrm>
          <a:prstGeom prst="rect">
            <a:avLst/>
          </a:prstGeom>
          <a:ln w="0">
            <a:noFill/>
          </a:ln>
        </p:spPr>
      </p:pic>
      <p:pic>
        <p:nvPicPr>
          <p:cNvPr id="221" name="صورة 5" descr=""/>
          <p:cNvPicPr/>
          <p:nvPr/>
        </p:nvPicPr>
        <p:blipFill>
          <a:blip r:embed="rId3"/>
          <a:stretch/>
        </p:blipFill>
        <p:spPr>
          <a:xfrm>
            <a:off x="493560" y="4078440"/>
            <a:ext cx="3581640" cy="2779560"/>
          </a:xfrm>
          <a:prstGeom prst="rect">
            <a:avLst/>
          </a:prstGeom>
          <a:ln w="0">
            <a:noFill/>
          </a:ln>
        </p:spPr>
      </p:pic>
      <p:pic>
        <p:nvPicPr>
          <p:cNvPr id="222" name="صورة 6" descr=""/>
          <p:cNvPicPr/>
          <p:nvPr/>
        </p:nvPicPr>
        <p:blipFill>
          <a:blip r:embed="rId4"/>
          <a:stretch/>
        </p:blipFill>
        <p:spPr>
          <a:xfrm>
            <a:off x="376200" y="210960"/>
            <a:ext cx="2143080" cy="2143440"/>
          </a:xfrm>
          <a:prstGeom prst="rect">
            <a:avLst/>
          </a:prstGeom>
          <a:ln w="0">
            <a:noFill/>
          </a:ln>
        </p:spPr>
      </p:pic>
      <p:pic>
        <p:nvPicPr>
          <p:cNvPr id="223" name="صورة 9" descr=""/>
          <p:cNvPicPr/>
          <p:nvPr/>
        </p:nvPicPr>
        <p:blipFill>
          <a:blip r:embed="rId5"/>
          <a:stretch/>
        </p:blipFill>
        <p:spPr>
          <a:xfrm>
            <a:off x="2602080" y="21096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480"/>
            <a:ext cx="8596440" cy="19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5" name=""/>
          <p:cNvSpPr txBox="1"/>
          <p:nvPr/>
        </p:nvSpPr>
        <p:spPr>
          <a:xfrm>
            <a:off x="677520" y="1294920"/>
            <a:ext cx="8596440" cy="474660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Trebuchet MS"/>
                <a:cs typeface="Tahoma"/>
              </a:rPr>
              <a:t>طرق المجمع في وضع المصطلحات:</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جمة المصطلح بكلمة عربية قديمة ولو كان فيها ثقل</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وليد المرادف اشتقاقا أو تجوزا</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اقتراض</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279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7" name=""/>
          <p:cNvSpPr txBox="1"/>
          <p:nvPr/>
        </p:nvSpPr>
        <p:spPr>
          <a:xfrm>
            <a:off x="677520" y="888840"/>
            <a:ext cx="8596440" cy="515304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b3d9f"/>
                </a:solidFill>
                <a:latin typeface="Trebuchet MS"/>
                <a:cs typeface="Tahoma"/>
              </a:rPr>
              <a:t>أسلوب العمل:</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في عام </a:t>
            </a:r>
            <a:r>
              <a:rPr b="0" lang="ar-SA" sz="1800" spc="-1" strike="noStrike">
                <a:solidFill>
                  <a:srgbClr val="404040"/>
                </a:solidFill>
                <a:latin typeface="Trebuchet MS"/>
                <a:ea typeface="Tahoma"/>
              </a:rPr>
              <a:t>1918</a:t>
            </a:r>
            <a:r>
              <a:rPr b="0" lang="ar-SA" sz="1800" spc="-1" strike="noStrike">
                <a:solidFill>
                  <a:srgbClr val="404040"/>
                </a:solidFill>
                <a:latin typeface="Trebuchet MS"/>
                <a:ea typeface="Tahoma"/>
              </a:rPr>
              <a:t> بدأت الحكومة السورية تنقل القوانين والأنظمة من التركية إلى العربية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بعثت إلى المجمع بقوائم من الألفاظ التركية والعربية المغلوطة، والمجمع وضع الألفاظ العربية المقابلة ومن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cs typeface="Tahoma"/>
              </a:rPr>
              <a:t>الشرطة– الإحصاء – الدرك – الفراش – الإضبارة – المفوض – الحاش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تغلبت هذه الألفاظ على الألفاظ التركية إلا قليل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عرض على المجمع مصطلحات ويطلب عارضوها مناقشتها في المجل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 نشر القوائم المصطلحية المتخصصة التي يبعث بها واضعوها لهذا الغرض مثل معجم الألفاظ الزراعية لمصطفى الشهابي.</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إبداء الرأي في المعجمات التي ترسل إليه لهذه الغاية مثل معجمات التعليم العام التي بعث بها مكتب تنسيق التعريب في الرباط.</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923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9" name=""/>
          <p:cNvSpPr txBox="1"/>
          <p:nvPr/>
        </p:nvSpPr>
        <p:spPr>
          <a:xfrm>
            <a:off x="677520" y="1244520"/>
            <a:ext cx="8596440" cy="47973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2</a:t>
            </a:r>
            <a:r>
              <a:rPr b="0" lang="ar-SA" sz="2400" spc="-1" strike="noStrike">
                <a:solidFill>
                  <a:srgbClr val="00b050"/>
                </a:solidFill>
                <a:latin typeface="Trebuchet MS"/>
                <a:ea typeface="Tahoma"/>
              </a:rPr>
              <a:t>. إشاعة البيان</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سائل المجمع لإشاعة البيان:</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النظر في الكتب المدرسية وتنقيح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صحيح الأخطاء الشائعة: ينشر المجمع مقالا شهريا في مجلته بعنوان (عثرات الأقلام) وكذلك في الصحف اليوم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اقتراحاته: </a:t>
            </a:r>
            <a:r>
              <a:rPr b="0" lang="ar-SA" sz="1800" spc="-1" strike="noStrike">
                <a:solidFill>
                  <a:srgbClr val="ff0000"/>
                </a:solidFill>
                <a:latin typeface="Trebuchet MS"/>
                <a:cs typeface="Tahoma"/>
              </a:rPr>
              <a:t>لا تقل «رأيتك حارصاً على كذا»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رأيتك حريصاً على كذ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لا تقل «صدف أن جلس معي فلان» 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اتفق أن جلس معي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شهد لهذا المجمع طه حسين بأنه أكثر المجامع نشاطا وتأثير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بالقاهرة</a:t>
            </a:r>
            <a:endParaRPr b="0" lang="en-US" sz="3600" spc="-1" strike="noStrike">
              <a:solidFill>
                <a:srgbClr val="eb3d9f"/>
              </a:solidFill>
              <a:latin typeface="Trebuchet MS"/>
            </a:endParaRPr>
          </a:p>
        </p:txBody>
      </p:sp>
      <p:sp>
        <p:nvSpPr>
          <p:cNvPr id="231" name=""/>
          <p:cNvSpPr txBox="1"/>
          <p:nvPr/>
        </p:nvSpPr>
        <p:spPr>
          <a:xfrm>
            <a:off x="677520" y="1676520"/>
            <a:ext cx="8596440" cy="4365360"/>
          </a:xfrm>
          <a:prstGeom prst="rect">
            <a:avLst/>
          </a:prstGeom>
          <a:noFill/>
          <a:ln w="0">
            <a:noFill/>
          </a:ln>
        </p:spPr>
        <p:txBody>
          <a:bodyPr anchor="t">
            <a:normAutofit fontScale="95000"/>
          </a:bodyPr>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نشئ عام </a:t>
            </a:r>
            <a:r>
              <a:rPr b="0" lang="ar-SA" sz="1700" spc="-1" strike="noStrike">
                <a:solidFill>
                  <a:srgbClr val="404040"/>
                </a:solidFill>
                <a:latin typeface="Trebuchet MS"/>
                <a:ea typeface="Tahoma"/>
              </a:rPr>
              <a:t>1932</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هم إنجازاته:</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حديد منهجية وضع المصطلحات، وقد استفاد المعربون المحدثون من تلك المنهجية، وهي نفس الطريقة التي اتبعها مجمع اللغة في دمشق: البحث في كتب اللغة العربية القديمة ثم التوليد بالاشتقاق أو المجاز ثم التعريب اللفظي</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وضع المصطلحات:</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ستقبل المجمع كلمات يراد تعريبها من الجامعات والمدارس والإدارات والأفراد، ثم تناقشها لجنة المجمع، وإذا أقرها المجمع تعرض في مؤتمره السنوي وتنشر في مجلته باعتبارها قرارات مؤقتة.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تلقى المجمع الآراء حول ما نشر ويناقشها وبعد سنة تعد قرارات نهائية، وتنشر باسم (مجموعة المصطلحات التي أقرها المجمع)، وكل مجموعة تضم </a:t>
            </a:r>
            <a:r>
              <a:rPr b="0" lang="ar-SA" sz="1700" spc="-1" strike="noStrike">
                <a:solidFill>
                  <a:srgbClr val="404040"/>
                </a:solidFill>
                <a:latin typeface="Trebuchet MS"/>
                <a:ea typeface="Tahoma"/>
              </a:rPr>
              <a:t>1000</a:t>
            </a:r>
            <a:r>
              <a:rPr b="0" lang="ar-SA" sz="1700" spc="-1" strike="noStrike">
                <a:solidFill>
                  <a:srgbClr val="404040"/>
                </a:solidFill>
                <a:latin typeface="Trebuchet MS"/>
                <a:ea typeface="Tahoma"/>
              </a:rPr>
              <a:t> مصطلح في اختصاصات متنوعة، ومعها شرح لمعنى كل مصطلح.</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مثال: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b050"/>
                </a:solidFill>
                <a:latin typeface="Trebuchet MS"/>
              </a:rPr>
              <a:t>Lunule</a:t>
            </a:r>
            <a:r>
              <a:rPr b="0" lang="ar-SA" sz="1600" spc="-1" strike="noStrike">
                <a:solidFill>
                  <a:srgbClr val="00b050"/>
                </a:solidFill>
                <a:latin typeface="Trebuchet MS"/>
                <a:ea typeface="Tahoma"/>
              </a:rPr>
              <a:t>  </a:t>
            </a:r>
            <a:r>
              <a:rPr b="0" lang="ar-SA" sz="1600" spc="-1" strike="noStrike">
                <a:solidFill>
                  <a:srgbClr val="00b050"/>
                </a:solidFill>
                <a:latin typeface="Trebuchet MS"/>
                <a:ea typeface="Tahoma"/>
              </a:rPr>
              <a:t>	</a:t>
            </a:r>
            <a:r>
              <a:rPr b="0" lang="ar-SA" sz="1600" spc="-1" strike="noStrike">
                <a:solidFill>
                  <a:srgbClr val="00b050"/>
                </a:solidFill>
                <a:latin typeface="Trebuchet MS"/>
                <a:cs typeface="Tahoma"/>
              </a:rPr>
              <a:t>قُلَيت: منخفض بيضي الشكل في سطح صدفة المحاريات، وهو أصغر مساحة من القَلت</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2415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33" name=""/>
          <p:cNvSpPr txBox="1"/>
          <p:nvPr/>
        </p:nvSpPr>
        <p:spPr>
          <a:xfrm>
            <a:off x="729720" y="1185840"/>
            <a:ext cx="8596440" cy="4835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تقديم بحوث تخدم التعريب ونشر البي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قام المجمع بتصحيح أكثر من </a:t>
            </a:r>
            <a:r>
              <a:rPr b="0" lang="ar-SA" sz="1800" spc="-1" strike="noStrike">
                <a:solidFill>
                  <a:srgbClr val="404040"/>
                </a:solidFill>
                <a:latin typeface="Trebuchet MS"/>
                <a:ea typeface="Tahoma"/>
              </a:rPr>
              <a:t>300</a:t>
            </a:r>
            <a:r>
              <a:rPr b="0" lang="ar-SA" sz="1800" spc="-1" strike="noStrike">
                <a:solidFill>
                  <a:srgbClr val="404040"/>
                </a:solidFill>
                <a:latin typeface="Trebuchet MS"/>
                <a:ea typeface="Tahoma"/>
              </a:rPr>
              <a:t> لفظة أو تركيب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ميز مجمع اللغة العربية في القاهرة بأن جل تركيزه كان على وضع المصطلحات، وأنه أقر الاستعمال الشائع للمصطلح حتى ولو كان دخيلا معرباً، لذا كانت نسبة المعرب والدخيل في بعض المعاجم أكبر من نسبة الألفاظ العربية المولد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اعتبر المجمع نفسه ممثلاً للعرب جميعا وهو ما عرضه للانتقاد لأنه يتوقع منه أكثر مما فع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8T07:34:31Z</dcterms:created>
  <dc:creator>Reem Alsalem</dc:creator>
  <dc:description/>
  <dc:language>en-US</dc:language>
  <cp:lastModifiedBy>Salwa Alharthi</cp:lastModifiedBy>
  <dcterms:modified xsi:type="dcterms:W3CDTF">2016-11-07T05:38:11Z</dcterms:modified>
  <cp:revision>27</cp:revision>
  <dc:subject/>
  <dc:title>التعريب (المحاضرة 7) مؤسسات التعريب</dc:title>
</cp:coreProperties>
</file>