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BD1E-A101-4EFD-83A4-A3CA7157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FB7D-DD67-4FA9-B53D-C25AA973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99CC-79AB-4097-B127-B44CA427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7A69-02C6-4294-9DC2-E9B1A52E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BBDE-83B6-4907-9B14-739492D3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20B7-10DC-45EC-92A8-0D156350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0FC3-161C-4F66-B046-E4EC5C6E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DF01-B09B-4805-AD45-EE4154AD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A7B3-47EC-42C9-B8D2-3C35DFEF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5829-45C0-4090-ACCE-2959DB08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969F-D489-482F-A132-8E60ABBE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A68F-EC4B-4D6B-8075-A6866F57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D018-4C44-4C1A-B637-2DD112C6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C5EE-C574-4DB6-B06F-2171264F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9D8E-E2F7-4086-B3FC-C2DA713D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4BE0-1F15-4A73-9313-64C7D181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296F-6B6B-4A65-B9C5-1AC921EF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BCBBE-C30D-4434-A2F8-1A11308A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8A048-A9F6-4DB0-9E71-DE4B9A17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C424A-CF2D-4F9E-B148-2A075489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06627-B3FA-43BB-A538-8439EDF3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64A0E-69CC-461C-8A5D-BD382986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AFD-507E-4D5B-9142-0959D9DC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31DD5-B022-4BA2-90BC-4AC3033B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0DB6B-5171-4E9A-9E56-8B847036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87D2D-5472-480B-92DA-A03A630C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AB5C6-BD1A-4E01-8645-093F6930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B8477-4B85-4F7F-B91C-B7B464CD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9181E-CC0E-4D8D-917F-EF9E19B3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C8C98-39FD-4883-8D04-B87A0126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1A86E-93AB-4E7B-86FC-7F610802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DBAFF-284F-499A-9BD6-197FA76D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00F89-D167-4C5B-A572-B5DDB103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96F-40D1-45A1-97E0-B7550283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7BFB1-DAC3-431D-8A2E-DA65B79D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92DE2-6085-4AD0-90B4-719A7D66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1BE50-FA3A-40DB-88F8-A755064D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AB464-678A-450E-8BDA-8D3F1840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76EF3-1ABD-4F36-B584-58B3AAF9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94014-6A9C-45A1-A19C-D5B0D6F3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F4B05-55C7-4B37-BD1F-153C426C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E68D3-EAFE-4851-B66F-64DAD669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CBF88-021D-4FA5-9AF0-18355D99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585D-4C00-4E10-B314-B2D4B4C1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1221-DEA9-4942-8D1D-0DBFB94F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7528-E673-475F-B05F-A0F61DAE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BCCC-3B15-430F-AAC3-BD401BB0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648-94E8-4789-A48E-8C880C70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6-</a:t>
            </a:r>
            <a:fld id="{7D6BDDF9-43D7-4350-97DC-AA0DA473AF7E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6-</a:t>
            </a:r>
            <a:fld id="{0FF5FFD9-1C58-4BCC-8F80-3F88079CC12E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6-</a:t>
            </a:r>
            <a:fld id="{3FF9B66F-4EF8-483B-812A-815D9C7AB2A8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6-</a:t>
            </a:r>
            <a:fld id="{9B7F27AB-CE0F-473F-BF49-E1E0CC5FED95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37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rebuchet MS"/>
              </a:rPr>
              <a:t>Bronchodilators and Other Respiratory Agent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Bronchodilators:  Beta-Agonists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gins at the specific receptor stimula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ds with the dilation of the airway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ctivation of beta</a:t>
            </a:r>
            <a:r>
              <a:rPr b="0" lang="en-US" sz="24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receptors activate cAMP, which relaxes smooth muscles of the airway and results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 bronchial dilation and increased airflow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Bronchodilators:  Beta-Agonists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246040"/>
            <a:ext cx="634860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elief of bronchospasm, bronchial asthma, bronchitis, and other pulmonary diseas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seful in treatment of acute attacks as well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s preventi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sed in hypotension and shock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sed to produce uterine relaxation to prevent premature labo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yperkalemia—stimulates potassium to shift into the cel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Bronchodilators:  Beta-Agonists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Side Effects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0028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2857680"/>
                <a:tab algn="l" pos="58849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404040"/>
                </a:solidFill>
                <a:uFillTx/>
                <a:latin typeface="Trebuchet MS"/>
              </a:rPr>
              <a:t>Alpha-Beta 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rebuchet MS"/>
              </a:rPr>
              <a:t>Beta</a:t>
            </a:r>
            <a:r>
              <a:rPr b="0" lang="en-US" sz="2600" spc="-1" strike="noStrike" u="sng" baseline="-25000">
                <a:solidFill>
                  <a:srgbClr val="404040"/>
                </a:solidFill>
                <a:uFillTx/>
                <a:latin typeface="Trebuchet MS"/>
              </a:rPr>
              <a:t>1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rebuchet MS"/>
              </a:rPr>
              <a:t> and Beta</a:t>
            </a:r>
            <a:r>
              <a:rPr b="0" lang="en-US" sz="2600" spc="-1" strike="noStrike" u="sng" baseline="-25000">
                <a:solidFill>
                  <a:srgbClr val="404040"/>
                </a:solidFill>
                <a:uFillTx/>
                <a:latin typeface="Trebuchet MS"/>
              </a:rPr>
              <a:t>2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rebuchet MS"/>
              </a:rPr>
              <a:t>Beta</a:t>
            </a:r>
            <a:r>
              <a:rPr b="0" lang="en-US" sz="2600" spc="-1" strike="noStrike" u="sng" baseline="-25000">
                <a:solidFill>
                  <a:srgbClr val="404040"/>
                </a:solidFill>
                <a:uFillTx/>
                <a:latin typeface="Trebuchet MS"/>
              </a:rPr>
              <a:t>2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857680"/>
                <a:tab algn="l" pos="58849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(epinephrine)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(isoproterenol)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(albuterol)</a:t>
            </a: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857680"/>
                <a:tab algn="l" pos="58849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nsomnia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ardiac stimulation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hypotension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stlessness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remor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vascular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headache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norexia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nginal pain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remor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ardiac stimulation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vascular headache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vascular headach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Respiratory Agent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General 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courage patients to take measures that promote a generally good state of health in order to prevent, relieve, or decrease symptoms of COP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void exposure to conditions that precipitate bronchospasms (allergens, smoking, stress, air pollutants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dequate fluid intak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ompliance with medical treatme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void excessive fatigue, heat, extremes in temperature, caffein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Respiratory Agent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General 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courage patients to get prompt treatment for flu or other illnesses, and to get vaccinated against pneumonia or flu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courage patients to always check with their physician before taking any other medication, including OTC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Respiratory Agent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General 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erform a thorough assessment before beginning therapy, includ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Skin color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aseline vital sign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Respirations (should be &lt;12 or &gt;24 breaths/min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Respiratory assessment, including PO</a:t>
            </a:r>
            <a:r>
              <a:rPr b="0" lang="en-US" sz="16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Sputum productio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llergie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History of respiratory problem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Other medication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Respiratory Agent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General 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each patients to take bronchodilators exactly as prescrib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sure that patients know how to use inhalers, MDIs, and have the patients demonstrate use of devi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nitor for side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Respiratory Agent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nitor for therapeutic effec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ecreased dyspnea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ecreased wheezing, restlessness, and anxiety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mproved respiratory patterns with return to normal rate and quality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mproved activity toleranc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creased symptoms and increased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ase of breath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1240" y="609480"/>
            <a:ext cx="781848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Bronchodilators:  Nursing Implications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Xanthine Derivatives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62120" y="2410920"/>
            <a:ext cx="763560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ntraindications:  history of PUD or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I disord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autious use:  cardiac disea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imed-release preparations should not be crushed or chewed (causes gastric irritatio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40880" y="609120"/>
            <a:ext cx="7804440" cy="15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Bronchodilators:  Nursing Implications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Xanthine Derivatives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62120" y="2514600"/>
            <a:ext cx="7635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092400"/>
                <a:tab algn="l" pos="514044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port to physicia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092400"/>
                <a:tab algn="l" pos="514044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alpitation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ausea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Vomit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092400"/>
                <a:tab algn="l" pos="514044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eaknes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zzines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hest pain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092400"/>
                <a:tab algn="l" pos="514044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nvuls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Drugs Affecting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the Respiratory System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ronchodilato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Xanthine derivative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eta-agonist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cholinergic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leukotriene agen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rticosteroid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ast cell stabiliz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5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Bronchodilators: Nursing Implications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Xanthine Derivatives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62120" y="2516040"/>
            <a:ext cx="76356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 aware of drug interactions with: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imetidine and oral contraceptiv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Large amounts of caffeine can have deleterious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40880" y="609120"/>
            <a:ext cx="7804440" cy="14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Bronchodilators:  Nursing Implications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Beta-Agonist Derivatives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62120" y="2451240"/>
            <a:ext cx="7635600" cy="36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lbuterol, if used too frequently, loses its beta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-specific actions at larger dos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 a result, beta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receptors are stimulated, causing nausea, increased anxiety, palpitations, tremors, and increased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art rat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0880" y="609120"/>
            <a:ext cx="7753320" cy="14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Bronchodilators:  Nursing Implications</a:t>
            </a:r>
            <a:br>
              <a:rPr sz="3500"/>
            </a:b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Beta-Agonist Derivatives</a:t>
            </a: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62120" y="2423880"/>
            <a:ext cx="7635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atients should take medications exactly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 prescribed, with no omissions or double dos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atients should report insomnia, jitteriness, restlessness, palpitations, chest pain, or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y change in symptom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cholinergic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cetylcholine (ACh) causes bronchial constriction and narrowing of the airway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cholinergics bind to the ACh receptors, preventing ACh from binding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sult: bronchoconstriction is prevented, airways dilat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cholinergic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pratropium bromide (Atrovent) is the only   anticholinergic used for respiratory diseas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low and prolonged ac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to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prevent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bronchoconstric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used for acute asthma exacerbations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cholinergics: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1760" y="1981080"/>
            <a:ext cx="741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39402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ry mouth or throat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Gastrointestinal distres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9402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eadache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ugh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9402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xiety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9402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39402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 known drug intera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lso called leukotriene receptor antagonists (LRTA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ew class of asthma medicatio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ree subcategories of agen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urrently available agent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montelukast (Singulai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zafirlukast (Accolat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zileuton (Zyflo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Leukotrienes are substances released when a trigger, such as cat hair or dust, starts a series of chemical reactions in the bod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Leukotrienes cause inflammation, bronchoconstriction, and mucus produc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sult:  coughing, wheezing, shortness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f brea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leukotriene agents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prevent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leukotrienes from attaching to receptors on cells in the lungs and in circul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flammation in the lungs is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blocked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 and asthma symptoms are reliev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" descr="https://classconnection.s3.amazonaws.com/142/flashcards/2070142/png/untitled1353817313110.png"/>
          <p:cNvPicPr/>
          <p:nvPr/>
        </p:nvPicPr>
        <p:blipFill>
          <a:blip r:embed="rId1"/>
          <a:stretch/>
        </p:blipFill>
        <p:spPr>
          <a:xfrm>
            <a:off x="0" y="98280"/>
            <a:ext cx="90345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Drug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y blocking leukotriene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event smooth muscle contraction of the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bronchial airway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ecrease mucus secre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event vascular permeabil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ecrease neutrophil and leukocyte infiltration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o the lungs, preventing inflamm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ophylaxis and chronic treatment of asthma in adults and children over age 1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meant for management of acute asthmatic attac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ntelukast is approved for use in children age 2 and ol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zileuton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zafirluka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eadache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eadach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yspepsia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ause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ausea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arrhe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zzines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Liver dysfunc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somn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Liver dysfunction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montelukast has fewer side effects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sure that the drug is being used for chronic management of asthma, not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cute asthm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each the patient the purpose of the therap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mprovement should be seen in about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1 week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heck with physician before taking any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TC or prescribed medications—many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rug interactio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sess liver function before beginning therap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edications should be taken every night on a continuous schedule, even if symptoms improv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Corticosteroid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62120" y="1837800"/>
            <a:ext cx="76356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-inflammator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for CHRONIC asthm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o not relieve symptoms of acut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thmatic attac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ral or inhaled form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haled forms reduce systemic effec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ay take several weeks before full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ffects are se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Corticosteroid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abilize membranes of cells that release harmful bronchoconstricting substan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se cells are leukocytes, or whit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lood cel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lso increase responsiveness of bronchial smooth muscle to beta-adrenergic stimul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Inhaled Corticosteroid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clomethasone dipropionat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Beclovent, Vanceri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iamcinolone acetonid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Azmacor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xamethasone sodium phosphate (Decadron Phosphate Respihaler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lunisolide (AeroBi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Inhaled Corticosteroids: 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eatment of bronchospastic disorders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at are not controlled by conventional bronchodilator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considered first-line agents for management of acute asthmatic attacks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r status asthmaticu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Inhaled Corticosteroid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aryngeal irrit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ugh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ry mou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ral fungal infectio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ystemic effects are rare because of the low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oses used for inhalation therap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Bronchodilators: Xanthine Derivatives</a:t>
            </a: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654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ant alkaloids:  caffeine, theobromine, and theophylli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654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nly theophylline is used as a bronchodilato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21654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amples: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minophylline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yphillin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xtriphylline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ophylline (Bronkodyl, Slo-bid,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o-Dur,Uniphy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Inhaled Corticosteroid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ntraindicated in patients with psychosis, fungal infections, AIDS, TB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autious use in patients with diabetes, glaucoma, osteoporosis, PUD, renal disease, CHF, edem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each patients to gargle and rinse the mouth with water afterward to prevent the development of oral fungal infectio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Inhaled Corticosteroid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bruptly discontinuing these medications can lead to serious problem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discontinuing, should be weaned for a period of 1 to 2 weeks, and only if recommended by physicia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PORT any weight gain of more than 5 pounds a week or the occurrence of chest pai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ast Cell Stabilizer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romolyn (Nasalcrom, Inta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edocromil (Tilad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ast Cell Stabilizer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direct-acting agents that prevent the release of the various substances that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ause bronchospas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abilize the cell membranes of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flammatory cells (mast cells, monocytes,  macrophages), thus preventing release of harmful cellular conten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direct bronchodilator activi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prophylactical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ast Cell Stabilizer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djuncts to the overall management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f COP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solely for prophylaxis, NOT for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cute asthma attac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to prevent exercise-induced bronchospas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to prevent bronchospasm associated with exposure to known precipitating factors, such as cold, dry air or allerge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ast Cell Stabilizers: 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ughing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aste chang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ore throat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zzines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hiniti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adach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ronchospas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ast Cell Stabilizer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prophylactic use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ntraindicated for acute exacerbatio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recommended for children under age 5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rapeutic effects may not be seen for up to 4 wee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each patients to gargle and rinse the mouth with water afterward to minimize irritation to the throat and oral muco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0640" y="227448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estion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871040" cy="14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Bronchodilators: Xanthine Derivatives </a:t>
            </a:r>
            <a:br>
              <a:rPr sz="3500"/>
            </a:b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Drug Effects</a:t>
            </a: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62120" y="2333160"/>
            <a:ext cx="763560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ause bronchodilation by relaxing smooth muscles of the airway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esult: relief of bronchospasm and greater airflow into and out of the lung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lso causes CNS stimulati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lso causes cardiovascular stimulation:  increased force of contraction and increased HR, resulting in increased cardiac output and increased blood flow to the kidneys (diuretic effect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974000" cy="15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Bronchodilators: Xanthine Derivatives </a:t>
            </a:r>
            <a:br>
              <a:rPr sz="3500"/>
            </a:b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Therapeutic Uses</a:t>
            </a: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62120" y="2463480"/>
            <a:ext cx="7635600" cy="36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lation of airways in asthmas, chronic bronchitis, and emphysem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ild to moderate cases of asthm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djunct agent in the management of COP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djunct therapy for the relief of pulmonary edema and paroxysmal nocturnal edema in left-sided heart failur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40880" y="609120"/>
            <a:ext cx="7844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Bronchodilators: Xanthine Derivatives </a:t>
            </a:r>
            <a:br>
              <a:rPr sz="3500"/>
            </a:b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Side Effects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	</a:t>
            </a: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62120" y="2529000"/>
            <a:ext cx="7635600" cy="35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ausea, vomiting, anorex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astroesophageal reflux during sl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nus tachycardia, extrasystole, palpitations, ventricular dysrhythmi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ansient increased urin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Bronchodilators:  Beta-Agonis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Large group, sympathomimetic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during acute phase of asthmatic attac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Quickly reduce airway constriction and restore normal airflow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imulate beta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adrenergic receptors throughout the lung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Bronchodilators:  Beta-Agonists Three typ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62120" y="19684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nselective adrenergic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timulate alpha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, beta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(cardiac), and beta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(respiratory) receptor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Example:  epinephrin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nselective beta-adrenergic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timulate both beta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and beta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receptor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Example:  isoproterenol (Isuprel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lective beta</a:t>
            </a:r>
            <a:r>
              <a:rPr b="0" lang="en-US" sz="24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drug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timulate only beta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receptor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Example:  albutero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1:00:27Z</dcterms:created>
  <dc:creator>Jonathan &amp; Julie Snyder</dc:creator>
  <dc:description/>
  <dc:language>en-US</dc:language>
  <cp:lastModifiedBy>Alharbi</cp:lastModifiedBy>
  <dcterms:modified xsi:type="dcterms:W3CDTF">2016-03-06T04:46:36Z</dcterms:modified>
  <cp:revision>60</cp:revision>
  <dc:subject/>
  <dc:title>PowerPoint Presentation</dc:title>
</cp:coreProperties>
</file>