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ABF-B83B-407A-BD8D-CF6B44C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21C-F372-4063-B3B4-5CA902B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D85-C130-4BB3-AA1E-25A240B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7FE-7A21-4857-92A6-E2A50736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EA74-9140-47A1-94A9-51EF0E68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47B-9B98-435C-88ED-D17DFFD9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6271-0B22-4628-A6E7-BE9ED11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3EC7-4D62-4B67-8478-AA6CCF28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EDC6-21F5-4A00-B13B-705228F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0CB-46F6-492D-835B-091C4C4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5757-EEDC-4575-8FB5-EE747A1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C9C-9192-4A67-AB82-ADD6854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17F0-DB76-4DE2-B328-8BBC23E4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E44-77AF-4C27-9040-AA2B4E4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064-F490-40D0-AF60-AD9D371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006B-B728-40EB-A4C6-03636165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DDE-C1F5-4AE1-BAFE-59063552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B6E9-91D9-4235-A558-1968145B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1767-C0E8-4D0A-8505-23FC443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C3CE-4DF1-40B1-878D-7EC53DCD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9957-9D84-48AB-BBF7-DA76059B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812F-F27C-4B9A-8DD2-657D38D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F81-6521-4E2B-9CD6-170A720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A34D-FD17-4173-8489-81E5AAB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9EAE-4246-489A-8407-AFE5CF8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D247-FD89-441A-AE29-33C32F6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5F7E-F85F-4BC0-BADB-A63FAE0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B76E-7494-44F8-A17C-9A9B3CEC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2E2A-D873-43C5-AB66-528C6130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9C34-0A80-49C5-BF57-14C59793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C20D-C4C3-4F0F-98BF-9FEB6E67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4F10-4263-42BE-86C3-4BBB2166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2407-C386-41ED-B1E6-CAE8F2D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176-EA32-4593-B6C9-54D57C33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F93E-C5B8-4108-8546-C8FE4C0D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D617-9262-4CE0-AD26-6CC3D73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39DF-1220-471D-A0A2-9A25FAB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8015-F438-477E-93F6-B446F3A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0095-5AF6-4E3C-AA08-A503DDC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C6F1-9157-4B0C-81C9-B6240E7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3027-0D83-412D-B9AC-590A3755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6C71-C5AB-4D43-90DB-C0B185A5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72E9-AFE2-4A97-83AA-FCF5B309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E6-AC10-475A-AA9F-7C317418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F00-F8BF-46DE-8191-7017A032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65F-C95A-4A83-AD4A-9936107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B3D-1A87-42F6-8DF6-2210B44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BAB-3EDA-4069-B6F6-F9D47D2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64635555-B40E-4C75-AA28-A73A445A33D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8887200E-09ED-4C77-9049-0212F54B752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1BA78D75-5BBB-4E37-8411-C25EAC0A45B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Chapter 16-</a:t>
            </a:r>
            <a:fld id="{9F914D77-2E26-4D5D-A5D8-19C303AD411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37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Bronchodilators and Other Respiratory Agents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gins at the specific receptor stimulat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ds with the dilation of the airway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ctivation of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receptors activate cAMP, which relaxes smooth muscles of the airway and results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bronchial dilation and increased airflow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246040"/>
            <a:ext cx="6348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lief of bronchospasm, bronchial asthma, bronchitis, and other pulmonary dise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ful in treatment of acute attacks as well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preven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in hypotension and shock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d to produce uterine relaxation to prevent premature labo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yperkalemia—stimulates potassium to shift into the 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Beta-Agonist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0280" y="19810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Alpha-Beta 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1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 and 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2600" spc="-1" strike="noStrike" u="sng">
                <a:solidFill>
                  <a:srgbClr val="404040"/>
                </a:solidFill>
                <a:uFillTx/>
                <a:latin typeface="Trebuchet MS"/>
              </a:rPr>
              <a:t>Beta</a:t>
            </a:r>
            <a:r>
              <a:rPr b="0" lang="en-US" sz="2600" spc="-1" strike="noStrike" u="sng" baseline="-25000">
                <a:solidFill>
                  <a:srgbClr val="404040"/>
                </a:solidFill>
                <a:uFillTx/>
                <a:latin typeface="Trebuchet MS"/>
              </a:rPr>
              <a:t>2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epinephrine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isoproterenol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lbuterol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857680"/>
                <a:tab algn="l" pos="58849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somn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ypotension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tlessnes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orexia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ginal pai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remor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ardiac stimulation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ascular headach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take measures that promote a generally good state of health in order to prevent, relieve, or decrease symptoms of COP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posure to conditions that precipitate bronchospasms (allergens, smoking, stress, air pollutant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dequate fluid intak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Compliance with medical treatm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void excessive fatigue, heat, extremes in temperature, caffe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get prompt treatment for flu or other illnesses, and to get vaccinated against pneumonia or flu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courage patients to always check with their physician before taking any other medication, including O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erform a thorough assessment before beginning therapy, inclu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kin colo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seline vital sign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ions (should be &lt;12 or &gt;24 breaths/mi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Respiratory assessment, including PO</a:t>
            </a:r>
            <a:r>
              <a:rPr b="0" lang="en-US" sz="16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putum produc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ller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istory of respiratory problem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Other medication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General 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take bronchodilators exactly as prescrib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patients know how to use inhalers, MDIs, and have the patients demonstrate use of dev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side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Respiratory Agent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itor for therapeut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dyspnea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Decreased wheezing, restlessness, and anxie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respiratory patterns with return to normal rate and qua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mproved activity toleranc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creased symptoms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ase of breat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81848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2410920"/>
            <a:ext cx="7635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ions:  history of PUD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 disord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:  cardiac disea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imed-release preparations should not be crushed or chewed (causes gastric irritatio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62120" y="2514600"/>
            <a:ext cx="7635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to physici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lpita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Vomit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ak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est pai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092400"/>
                <a:tab algn="l" pos="514044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nvuls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Drugs Affecting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 Respiratory Syste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dilato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Xanthine derivativ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eta-agoni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rticosteroid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st cell stabiliz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Xanthine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62120" y="2516040"/>
            <a:ext cx="7635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 aware of drug interactions with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imetidine and oral contraceptiv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amounts of caffeine can have deleterious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044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ronchodilators:  Nursing Implication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62120" y="2451240"/>
            <a:ext cx="763560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buterol, if used too frequently, loses its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specific actions at larger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a result,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receptors are stimulated, causing nausea, increased anxiety, palpitations, tremors, and increased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rt r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753320" cy="14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 Nursing Implications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eta-Agonist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2120" y="2423880"/>
            <a:ext cx="7635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take medications exactl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 prescribed, with no omissions or double dos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tients should report insomnia, jitteriness, restlessness, palpitations, chest pain, 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y change in sympto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etylcholine (ACh) causes bronchial constriction and narrowing of the airwa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cholinergics bind to the ACh receptors, preventing ACh from binding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bronchoconstriction is prevented, airways dilat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pratropium bromide (Atrovent) is the only   anticholinergic used for respiratory diseas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low and prolonged a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bronchoconstri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used for acute asthma exacerbations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cholinergics: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1760" y="19810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ry mouth or throa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Gastrointestinal distr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nxiet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39402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known drug intera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called leukotriene receptor antagonists (LRTA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w class of asthma medic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ree subcategories of ag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urrently available agent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(Singulai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afirlukast (Accolat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zileuton (Zyflo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are substances released when a trigger, such as cat hair or dust, starts a series of chemical reactions in the bod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eukotrienes cause inflammation, bronchoconstriction, and mucus produc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ult:  coughing, wheezing, shortnes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br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leukotriene agent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prev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leukotrienes from attaching to receptors on cells in the lungs and in circ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ion in the lungs i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blocke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nd asthma symptoms are reliev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https://classconnection.s3.amazonaws.com/142/flashcards/2070142/png/untitled1353817313110.png"/>
          <p:cNvPicPr/>
          <p:nvPr/>
        </p:nvPicPr>
        <p:blipFill>
          <a:blip r:embed="rId1"/>
          <a:stretch/>
        </p:blipFill>
        <p:spPr>
          <a:xfrm>
            <a:off x="0" y="98280"/>
            <a:ext cx="9034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Drug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y blocking leukotriene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smooth muscle contraction of the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bronchial airway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mucus secre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event vascular permeabi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ecrease neutrophil and leukocyte infiltration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 the lungs, preventing inflamm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ophylaxis and chronic treatment of asthma in adults and children over age 1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meant for management of acute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ntelukast is approved for use in children age 2 and ol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ileuton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	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Trebuchet MS"/>
              </a:rPr>
              <a:t>zafirluk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yspepsi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ausea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som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Liver dysfuncti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ontelukast has fewer side effects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nsure that the drug is being used for chronic management of asthma, no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the patient the purpose of the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mprovement should be seen in abou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 wee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Antileukotriene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eck with physician before taking 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TC or prescribed medications—many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ug intera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liver function before beginning therap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dications should be taken every night on a continuous schedule, even if symptoms impro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2120" y="1837800"/>
            <a:ext cx="7635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nti-inflammator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for CHRONIC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o not relieve symptoms of acu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or inhaled for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haled forms reduce systemic effec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y take several weeks before full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ffects are se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membranes of cells that release harmful bronchoconstricting substan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se cells are leukocytes, or whi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lood cel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lso increase responsiveness of bronchial smooth muscle to beta-adrenergic stim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clomethasone dipropionat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Beclovent, Vanceri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iamcinolone acetonid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Azmacor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xamethasone sodium phosphate (Decadron Phosphate Respihal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lunisolide (AeroBi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eatment of bronchospastic disorder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at are not controlled by conventional bronchodilato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considered first-line agents for management of acute asthmatic attack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 status asthmatic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aryngeal irrit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ry mou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ral fungal infec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ystemic effects are rare because of the low </a:t>
            </a:r>
            <a:br>
              <a:rPr sz="2400"/>
            </a:b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ses used for inhalation therap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ant alkaloids:  caffeine, theobromine, and theophyl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ly theophylline is used as a bronchodila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21654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amples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mino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philline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xtriphyllin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phylline (Bronkodyl, Slo-bid,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o-Dur,Uniphy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in patients with psychosis, fungal infections, AIDS, TB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tious use in patients with diabetes, glaucoma, osteoporosis, PUD, renal disease, CHF, ede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prevent the development of oral fungal infec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Inhaled Corticosteroids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bruptly discontinuing these medications can lead to serious problem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discontinuing, should be weaned for a period of 1 to 2 weeks, and only if recommended by physici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PORT any weight gain of more than 5 pounds a week or the occurrence of chest p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romolyn (Nasalcrom, Inta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edocromil (Tilad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direct-acting agents that prevent the release of the various substances tha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use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bilize the cell membranes of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lammatory cells (mast cells, monocytes,  macrophages), thus preventing release of harmful cellular conten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direct bronchodilator activ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prophylactical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s to the overall management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solely for prophylaxis, NOT for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cute asthma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exercise-induced 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spcAft>
                <a:spcPts val="56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to prevent bronchospasm associated with exposure to known precipitating factors, such as cold, dry air or allerg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Sid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ughing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ste chang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re thro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zzin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hinit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adach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3600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ronchospas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Mast Cell Stabilizers: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Nursing Implica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rophylactic use onl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traindicated for acute exacerbatio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recommended for children under age 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rapeutic effects may not be seen for up to 4 wee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each patients to gargle and rinse the mouth with water afterward to minimize irritation to the throat and oral muco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0640" y="2274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stio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87104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Drug Effect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2120" y="2333160"/>
            <a:ext cx="7635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use bronchodilation by relaxing smooth muscles of the airway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sult: relief of bronchospasm and greater airflow into and out of the lun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NS stimulati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lso causes cardiovascular stimulation:  increased force of contraction and increased HR, resulting in increased cardiac output and increased blood flow to the kidneys (diuretic effect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97400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Therapeutic Uses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2463480"/>
            <a:ext cx="7635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lation of airways in asthmas, chronic bronchitis, and emphyse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ld to moderate cases of asth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agent in the management of COP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djunct therapy for the relief of pulmonary edema and paroxysmal nocturnal edema in left-sided heart failu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09120"/>
            <a:ext cx="7844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Bronchodilators: Xanthine Derivatives </a:t>
            </a:r>
            <a:br>
              <a:rPr sz="3500"/>
            </a:b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Side Effects</a:t>
            </a:r>
            <a:r>
              <a:rPr b="0" lang="en-US" sz="3500" spc="-1" strike="noStrike">
                <a:solidFill>
                  <a:srgbClr val="ff0000"/>
                </a:solidFill>
                <a:latin typeface="Trebuchet MS"/>
              </a:rPr>
              <a:t>	</a:t>
            </a:r>
            <a:endParaRPr b="0" lang="en-US" sz="3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62120" y="2529000"/>
            <a:ext cx="7635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usea, vomiting, anorex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astroesophageal reflux during 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nus tachycardia, extrasystole, palpitations, ventricular dysrhythmi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ansient increased uri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rge group, sympathomimetic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d during acute phase of asthmatic attack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uickly reduce airway constriction and restore normal airflo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imulate beta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drenergic receptors throughout the lung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Bronchodilators:  Beta-Agonists Three typ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2120" y="1968480"/>
            <a:ext cx="763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alph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,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cardiac),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(respiratory)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epinephrin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nselective beta-adrenergic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both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and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isoproterenol (Isuprel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lective beta</a:t>
            </a:r>
            <a:r>
              <a:rPr b="0" lang="en-US" sz="2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drug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timulate only beta</a:t>
            </a:r>
            <a:r>
              <a:rPr b="0" lang="en-US" sz="20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 receptor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Example:  albutero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1:00:27Z</dcterms:created>
  <dc:creator>Jonathan &amp; Julie Snyder</dc:creator>
  <dc:description/>
  <dc:language>en-US</dc:language>
  <cp:lastModifiedBy>Alharbi</cp:lastModifiedBy>
  <dcterms:modified xsi:type="dcterms:W3CDTF">2016-03-06T04:46:36Z</dcterms:modified>
  <cp:revision>60</cp:revision>
  <dc:subject/>
  <dc:title>PowerPoint Presentation</dc:title>
</cp:coreProperties>
</file>