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8BEF-1AAC-41EA-8E3D-671965FC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2671-052B-41B6-A28A-71269461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03C8-8205-4CFC-A36D-8944488E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E5E6-CC45-4054-9646-7EC2F870F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6923-7265-4D02-A585-F8DF39E6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BC0E-D4A0-411E-9F00-FD7BB96B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6AA1-74F8-4CAB-A241-23E546BD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F891-7996-4DFC-9BF6-217BDDFE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408D-D6B8-4103-8D1E-3FC71C7E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C0D1-1614-4525-BB7B-AB253589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61AA-BEDC-42E7-B0C2-1B4F8343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92B6-3D41-4AA7-A39D-4050C62B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4036-7CFF-4677-890D-F3991BD8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661C-6734-4ABF-B1A0-5FAC43A4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C13A-6C54-4F8F-8713-6E14F5D0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F2AF-D5D5-430F-89E0-8CE1B199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C4AC-84A0-4FFC-8F99-7F566807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EE2F0-9EC1-458C-8B75-551D4A88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3E928-D770-400C-8ABB-85F295EC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48644-5733-405F-8D68-1BDE5743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3D9AF-A91A-4E83-AC59-A588B81F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1F0A6-EA71-4FD4-A0DC-4A6B08AE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97D3-124C-4CB2-AEF7-3902B284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4F977-A1D4-4E35-B593-E2645BD7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8FF53-898C-491E-81A4-A1BEADA4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77D3C-7877-4EB3-A9CD-3772D202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5B5A5-C0EF-4856-BB53-7456D0A1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F7711-413F-4BC4-B54B-AE65187B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AFDB5-DA57-4F0C-8B65-E0575175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7C10F-8CE9-45D1-A7A5-D4947EE7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99326-45AB-4B5C-993E-1C181DCE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19C91-E674-4514-8E9E-99C5126B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9AB4E-C5DD-4706-AB06-0BB6BE25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388E-5DB8-46FF-AA30-F12109C1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3A850-4D68-4647-B355-294F00AB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EA7A5-047C-44FB-9C94-37B79DCE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2CEC8-0B26-462A-8CEB-652E7E09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F7FCE-CD99-44FB-A7B9-8833518D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710A2-5C0A-41DE-BF0B-A7185CD5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6A951-C37A-41BF-AD18-9D638E2A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BCCA5-FD16-4165-96ED-A2041BAC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5E11B-68C3-48AE-A7FA-BFD2A28B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C5E3D-1A06-401A-BC6F-6823B622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14A-2261-4D20-9D9C-6CAA67D4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5652-553F-40EB-9F63-7E051FF7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B2D0-DC5E-46D8-A3A1-CC7553FC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79A6-ACEF-4A49-9737-0B17C261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81DB-C772-435A-966D-7CC8AC70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6-</a:t>
            </a:r>
            <a:fld id="{A74F9F97-1402-435D-8FAC-DA4BBC2F9D37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6-</a:t>
            </a:r>
            <a:fld id="{86360CAA-D2A2-430E-B99D-8628DC3D4CE7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6-</a:t>
            </a:r>
            <a:fld id="{6C70D4C6-249F-43E3-8BD9-F769B3106C75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6-</a:t>
            </a:r>
            <a:fld id="{5653D91E-BECA-477E-AEB9-D7AEAE020D80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37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rebuchet MS"/>
              </a:rPr>
              <a:t>Bronchodilators and Other Respiratory Agent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Bronchodilators:  Beta-Agonists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gins at the specific receptor stimula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nds with the dilation of the airway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ctivation of beta</a:t>
            </a:r>
            <a:r>
              <a:rPr b="0" lang="en-US" sz="24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receptors activate cAMP, which relaxes smooth muscles of the airway and results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n bronchial dilation and increased airflow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Bronchodilators:  Beta-Agonists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246040"/>
            <a:ext cx="634860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elief of bronchospasm, bronchial asthma, bronchitis, and other pulmonary diseas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Useful in treatment of acute attacks as well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s preventi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Used in hypotension and shock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Used to produce uterine relaxation to prevent premature labor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yperkalemia—stimulates potassium to shift into the cel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Bronchodilators:  Beta-Agonists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Side Effects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0028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2857680"/>
                <a:tab algn="l" pos="58849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404040"/>
                </a:solidFill>
                <a:uFillTx/>
                <a:latin typeface="Trebuchet MS"/>
              </a:rPr>
              <a:t>Alpha-Beta </a:t>
            </a:r>
            <a:r>
              <a:rPr b="0" lang="en-US" sz="2600" spc="-1" strike="noStrike" u="sng">
                <a:solidFill>
                  <a:srgbClr val="404040"/>
                </a:solidFill>
                <a:uFillTx/>
                <a:latin typeface="Trebuchet MS"/>
              </a:rPr>
              <a:t>	</a:t>
            </a:r>
            <a:r>
              <a:rPr b="0" lang="en-US" sz="2600" spc="-1" strike="noStrike" u="sng">
                <a:solidFill>
                  <a:srgbClr val="404040"/>
                </a:solidFill>
                <a:uFillTx/>
                <a:latin typeface="Trebuchet MS"/>
              </a:rPr>
              <a:t>Beta</a:t>
            </a:r>
            <a:r>
              <a:rPr b="0" lang="en-US" sz="2600" spc="-1" strike="noStrike" u="sng" baseline="-25000">
                <a:solidFill>
                  <a:srgbClr val="404040"/>
                </a:solidFill>
                <a:uFillTx/>
                <a:latin typeface="Trebuchet MS"/>
              </a:rPr>
              <a:t>1</a:t>
            </a:r>
            <a:r>
              <a:rPr b="0" lang="en-US" sz="2600" spc="-1" strike="noStrike" u="sng">
                <a:solidFill>
                  <a:srgbClr val="404040"/>
                </a:solidFill>
                <a:uFillTx/>
                <a:latin typeface="Trebuchet MS"/>
              </a:rPr>
              <a:t> and Beta</a:t>
            </a:r>
            <a:r>
              <a:rPr b="0" lang="en-US" sz="2600" spc="-1" strike="noStrike" u="sng" baseline="-25000">
                <a:solidFill>
                  <a:srgbClr val="404040"/>
                </a:solidFill>
                <a:uFillTx/>
                <a:latin typeface="Trebuchet MS"/>
              </a:rPr>
              <a:t>2</a:t>
            </a:r>
            <a:r>
              <a:rPr b="0" lang="en-US" sz="2600" spc="-1" strike="noStrike" u="sng">
                <a:solidFill>
                  <a:srgbClr val="404040"/>
                </a:solidFill>
                <a:uFillTx/>
                <a:latin typeface="Trebuchet MS"/>
              </a:rPr>
              <a:t>	</a:t>
            </a:r>
            <a:r>
              <a:rPr b="0" lang="en-US" sz="2600" spc="-1" strike="noStrike" u="sng">
                <a:solidFill>
                  <a:srgbClr val="404040"/>
                </a:solidFill>
                <a:uFillTx/>
                <a:latin typeface="Trebuchet MS"/>
              </a:rPr>
              <a:t>Beta</a:t>
            </a:r>
            <a:r>
              <a:rPr b="0" lang="en-US" sz="2600" spc="-1" strike="noStrike" u="sng" baseline="-25000">
                <a:solidFill>
                  <a:srgbClr val="404040"/>
                </a:solidFill>
                <a:uFillTx/>
                <a:latin typeface="Trebuchet MS"/>
              </a:rPr>
              <a:t>2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857680"/>
                <a:tab algn="l" pos="58849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(epinephrine)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(isoproterenol)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(albuterol)</a:t>
            </a: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857680"/>
                <a:tab algn="l" pos="58849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nsomnia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ardiac stimulation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hypotension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estlessness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remor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vascular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headache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norexia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nginal pain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remor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ardiac stimulation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vascular headache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vascular headach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Respiratory Agents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General 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ncourage patients to take measures that promote a generally good state of health in order to prevent, relieve, or decrease symptoms of COP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void exposure to conditions that precipitate bronchospasms (allergens, smoking, stress, air pollutants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dequate fluid intak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ompliance with medical treatme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void excessive fatigue, heat, extremes in temperature, caffein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Respiratory Agents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General 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ncourage patients to get prompt treatment for flu or other illnesses, and to get vaccinated against pneumonia or flu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ncourage patients to always check with their physician before taking any other medication, including OTC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Respiratory Agents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General 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erform a thorough assessment before beginning therapy, including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Skin color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Baseline vital sign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Respirations (should be &lt;12 or &gt;24 breaths/min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Respiratory assessment, including PO</a:t>
            </a:r>
            <a:r>
              <a:rPr b="0" lang="en-US" sz="16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Sputum productio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llergie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History of respiratory problem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Other medications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Respiratory Agents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General 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each patients to take bronchodilators exactly as prescrib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nsure that patients know how to use inhalers, MDIs, and have the patients demonstrate use of devic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nitor for side effec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Respiratory Agent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nitor for therapeutic effec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Decreased dyspnea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Decreased wheezing, restlessness, and anxiety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mproved respiratory patterns with return to normal rate and quality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mproved activity toleranc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creased symptoms and increased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ase of breath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1240" y="609480"/>
            <a:ext cx="781848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Bronchodilators:  Nursing Implications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Xanthine Derivatives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62120" y="2410920"/>
            <a:ext cx="763560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ntraindications:  history of PUD or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I disord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autious use:  cardiac disea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imed-release preparations should not be crushed or chewed (causes gastric irritatio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40880" y="609120"/>
            <a:ext cx="7804440" cy="15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Bronchodilators:  Nursing Implications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Xanthine Derivatives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62120" y="2514600"/>
            <a:ext cx="7635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092400"/>
                <a:tab algn="l" pos="514044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port to physicia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092400"/>
                <a:tab algn="l" pos="514044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alpitation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ausea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Vomit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092400"/>
                <a:tab algn="l" pos="514044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Weaknes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izzines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hest pain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092400"/>
                <a:tab algn="l" pos="514044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nvuls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Drugs Affecting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the Respiratory System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ronchodilato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Xanthine derivative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Beta-agonist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cholinergic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leukotriene agen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rticosteroid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ast cell stabiliz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5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Bronchodilators: Nursing Implications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Xanthine Derivatives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62120" y="2516040"/>
            <a:ext cx="76356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 aware of drug interactions with: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imetidine and oral contraceptiv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Large amounts of caffeine can have deleterious effec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40880" y="609120"/>
            <a:ext cx="7804440" cy="14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Bronchodilators:  Nursing Implications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Beta-Agonist Derivatives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762120" y="2451240"/>
            <a:ext cx="7635600" cy="36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lbuterol, if used too frequently, loses its beta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-specific actions at larger dos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 a result, beta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receptors are stimulated, causing nausea, increased anxiety, palpitations, tremors, and increased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eart rat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0880" y="609120"/>
            <a:ext cx="7753320" cy="14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Bronchodilators:  Nursing Implications</a:t>
            </a:r>
            <a:br>
              <a:rPr sz="3500"/>
            </a:b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Beta-Agonist Derivatives</a:t>
            </a: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62120" y="2423880"/>
            <a:ext cx="7635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atients should take medications exactly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 prescribed, with no omissions or double dos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atients should report insomnia, jitteriness, restlessness, palpitations, chest pain, or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y change in symptom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cholinergics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cetylcholine (ACh) causes bronchial constriction and narrowing of the airway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cholinergics bind to the ACh receptors, preventing ACh from binding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sult: bronchoconstriction is prevented, airways dilat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cholinergic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pratropium bromide (Atrovent) is the only   anticholinergic used for respiratory diseas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low and prolonged ac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to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prevent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bronchoconstric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T used for acute asthma exacerbations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cholinergics: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1760" y="1981080"/>
            <a:ext cx="741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39402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ry mouth or throat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Gastrointestinal distres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9402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eadache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ugh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9402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xiety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9402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39402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 known drug intera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lso called leukotriene receptor antagonists (LRTA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ew class of asthma medicatio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ree subcategories of agen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urrently available agents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montelukast (Singulai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zafirlukast (Accolat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zileuton (Zyflo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Leukotrienes are substances released when a trigger, such as cat hair or dust, starts a series of chemical reactions in the bod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Leukotrienes cause inflammation, bronchoconstriction, and mucus produc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sult:  coughing, wheezing, shortness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f breat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leukotriene agents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prevent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leukotrienes from attaching to receptors on cells in the lungs and in circul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flammation in the lungs is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blocked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, and asthma symptoms are reliev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" descr="https://classconnection.s3.amazonaws.com/142/flashcards/2070142/png/untitled1353817313110.png"/>
          <p:cNvPicPr/>
          <p:nvPr/>
        </p:nvPicPr>
        <p:blipFill>
          <a:blip r:embed="rId1"/>
          <a:stretch/>
        </p:blipFill>
        <p:spPr>
          <a:xfrm>
            <a:off x="0" y="98280"/>
            <a:ext cx="90345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:  Drug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y blocking leukotrienes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revent smooth muscle contraction of the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bronchial airway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ecrease mucus secre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revent vascular permeabil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ecrease neutrophil and leukocyte infiltration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o the lungs, preventing inflamm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: 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ophylaxis and chronic treatment of asthma in adults and children over age 1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T meant for management of acute asthmatic attack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ntelukast is approved for use in children age 2 and old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: 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zileuton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	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	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zafirluka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eadache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eadach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yspepsia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ause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ausea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iarrhe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izzines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Liver dysfunc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nsomn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Liver dysfunction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montelukast has fewer side effects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nsure that the drug is being used for chronic management of asthma, not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cute asthm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each the patient the purpose of the therap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mprovement should be seen in about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1 week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heck with physician before taking any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TC or prescribed medications—many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rug interaction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sess liver function before beginning therap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edications should be taken every night on a continuous schedule, even if symptoms improv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Corticosteroid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62120" y="1837800"/>
            <a:ext cx="76356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-inflammator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for CHRONIC asthm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o not relieve symptoms of acute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thmatic attack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ral or inhaled form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haled forms reduce systemic effec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ay take several weeks before full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ffects are se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Corticosteroid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abilize membranes of cells that release harmful bronchoconstricting substanc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se cells are leukocytes, or white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lood cel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lso increase responsiveness of bronchial smooth muscle to beta-adrenergic stimul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Inhaled Corticosteroid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clomethasone dipropionate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(Beclovent, Vanceri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riamcinolone acetonide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(Azmacor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xamethasone sodium phosphate (Decadron Phosphate Respihaler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lunisolide (AeroBi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Inhaled Corticosteroids: 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reatment of bronchospastic disorders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at are not controlled by conventional bronchodilator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T considered first-line agents for management of acute asthmatic attacks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r status asthmaticu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Inhaled Corticosteroid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haryngeal irrit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ugh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ry mout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ral fungal infectio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ystemic effects are rare because of the low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oses used for inhalation therap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Bronchodilators: Xanthine Derivatives</a:t>
            </a: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654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ant alkaloids:  caffeine, theobromine, and theophylli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654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nly theophylline is used as a bronchodilato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21654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amples: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minophylline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yphilline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xtriphylline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ophylline (Bronkodyl, Slo-bid,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o-Dur,Uniphy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Inhaled Corticosteroids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ntraindicated in patients with psychosis, fungal infections, AIDS, TB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autious use in patients with diabetes, glaucoma, osteoporosis, PUD, renal disease, CHF, edem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each patients to gargle and rinse the mouth with water afterward to prevent the development of oral fungal infection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Inhaled Corticosteroids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bruptly discontinuing these medications can lead to serious problem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f discontinuing, should be weaned for a period of 1 to 2 weeks, and only if recommended by physicia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PORT any weight gain of more than 5 pounds a week or the occurrence of chest pai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ast Cell Stabilizer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romolyn (Nasalcrom, Inta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edocromil (Tilad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ast Cell Stabilizer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direct-acting agents that prevent the release of the various substances that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ause bronchospas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abilize the cell membranes of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flammatory cells (mast cells, monocytes,  macrophages), thus preventing release of harmful cellular conten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 direct bronchodilator activi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prophylactical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ast Cell Stabilizer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djuncts to the overall management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f COP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solely for prophylaxis, NOT for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cute asthma attack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to prevent exercise-induced bronchospas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to prevent bronchospasm associated with exposure to known precipitating factors, such as cold, dry air or allerge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ast Cell Stabilizers: 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ughing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aste chang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ore throat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zzines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hiniti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eadach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ronchospas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ast Cell Stabilizer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prophylactic use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ntraindicated for acute exacerbatio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t recommended for children under age 5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rapeutic effects may not be seen for up to 4 week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each patients to gargle and rinse the mouth with water afterward to minimize irritation to the throat and oral mucos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0640" y="227448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estion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871040" cy="14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Bronchodilators: Xanthine Derivatives </a:t>
            </a:r>
            <a:br>
              <a:rPr sz="3500"/>
            </a:b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Drug Effects</a:t>
            </a: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62120" y="2333160"/>
            <a:ext cx="763560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ause bronchodilation by relaxing smooth muscles of the airway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esult: relief of bronchospasm and greater airflow into and out of the lung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lso causes CNS stimulati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lso causes cardiovascular stimulation:  increased force of contraction and increased HR, resulting in increased cardiac output and increased blood flow to the kidneys (diuretic effect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974000" cy="15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Bronchodilators: Xanthine Derivatives </a:t>
            </a:r>
            <a:br>
              <a:rPr sz="3500"/>
            </a:b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Therapeutic Uses</a:t>
            </a: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62120" y="2463480"/>
            <a:ext cx="7635600" cy="36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lation of airways in asthmas, chronic bronchitis, and emphysem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ild to moderate cases of asthm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djunct agent in the management of COP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djunct therapy for the relief of pulmonary edema and paroxysmal nocturnal edema in left-sided heart failur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40880" y="609120"/>
            <a:ext cx="78440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Bronchodilators: Xanthine Derivatives </a:t>
            </a:r>
            <a:br>
              <a:rPr sz="3500"/>
            </a:b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Side Effects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	</a:t>
            </a: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62120" y="2529000"/>
            <a:ext cx="7635600" cy="35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ausea, vomiting, anorexi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astroesophageal reflux during sl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nus tachycardia, extrasystole, palpitations, ventricular dysrhythmi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ransient increased urin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Bronchodilators:  Beta-Agonis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Large group, sympathomimetic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during acute phase of asthmatic attack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Quickly reduce airway constriction and restore normal airflow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imulate beta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adrenergic receptors throughout the lung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Bronchodilators:  Beta-Agonists Three typ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762120" y="19684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nselective adrenergic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timulate alpha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, beta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(cardiac), and beta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(respiratory) receptor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Example:  epinephrin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nselective beta-adrenergic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timulate both beta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and beta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receptor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Example:  isoproterenol (Isuprel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lective beta</a:t>
            </a:r>
            <a:r>
              <a:rPr b="0" lang="en-US" sz="24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drug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timulate only beta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receptor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Example:  albutero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1:00:27Z</dcterms:created>
  <dc:creator>Jonathan &amp; Julie Snyder</dc:creator>
  <dc:description/>
  <dc:language>en-US</dc:language>
  <cp:lastModifiedBy>Alharbi</cp:lastModifiedBy>
  <dcterms:modified xsi:type="dcterms:W3CDTF">2016-03-06T04:46:36Z</dcterms:modified>
  <cp:revision>60</cp:revision>
  <dc:subject/>
  <dc:title>PowerPoint Presentation</dc:title>
</cp:coreProperties>
</file>