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C181-9139-4F8F-8479-A8B4130B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DF8E-31D4-48A8-9DD5-7DE50FA0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2883-ABC4-43DE-A177-7F075BBDC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E19E-F608-4C46-AC70-26E85F12B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5938-CCCD-439D-82C7-3DC5A2028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F40B-9643-4D90-B7E9-88299E92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EAC8-D2B9-449B-9575-4C6CA69F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FCEC-A573-47A5-BB7C-3F946B89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160B-F91D-44C0-9A25-EE84A0DD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7C5E-512A-457B-8B07-9792927D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BA2C-15B9-41E7-A9E6-B93B5C68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3467-6CE4-485F-AF67-24B96CA7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22A2-57B5-4211-84CD-CEFC06DF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759B-2B30-49FB-B5CE-C1897CBC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EA76-B78F-4B0D-879C-30ECE768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29A7-3E7F-4439-A23D-C35BCD3C1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39BD-2DC7-4296-8BE5-8FB483D66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89BB9-1DF1-45EC-9391-48C75CB8C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865D1-9FD9-422C-A2DE-FBF00E35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D17F1-48D3-467A-B6FE-C7308B84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A79A0-C117-45CD-94FE-D1005303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456B8-6A26-4704-985C-63BC6452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BF02-D034-4CF5-9A77-99403582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E326D-A79B-4E20-B89D-A7BAFC29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8E0D9-0E16-4E30-8F77-DE41C99B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D7EC9-6E97-44F4-B523-9756D9A8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C6FA5-4D4D-44BF-8745-DF0D351D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AD746-84B3-4C9D-A3CD-2896C2E6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96DAB-3070-4D65-8322-7D70E3E25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99F7E-97DB-4CD0-9E86-79BE740A0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C91CA-5418-404A-8F8A-FB02BB052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A7C58-4E3C-4F6A-ABDB-B3C7D3C2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EDB72-ACBB-4963-A746-BCE7EEB7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A690-4640-4B27-9B8D-2A1570B4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DC103-0FA1-440D-BB49-939F9B14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971DD-B547-4115-A476-3007B717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ECF89-9BBA-4C5C-AD1D-895C50C2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A2D03-289C-4DA0-BF38-A2B6FDCD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25334-D929-48BC-9D99-20C1FBD4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E5720-A454-43D1-A7CA-F3E6CF69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00647-9F65-44F0-BAA8-C12E32C5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6B830-4CDF-4CB2-8D9A-4A041685B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9E5B1-9C78-44A3-910B-A313F7909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24FB-77BC-4BF6-B6DD-F0B8AA2D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77C8-826D-415E-976E-DAF0A3CF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994C-4348-4446-AF2C-9FEE296F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1D96-E7BC-4D46-AF85-FB9C7779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5255-21B2-4CD6-885E-5DF016A2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Chapter 16-</a:t>
            </a:r>
            <a:fld id="{1398762D-7EE9-41CD-AE30-4658F172A06A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Chapter 16-</a:t>
            </a:r>
            <a:fld id="{EAD5F3A9-5A74-4C4E-9284-EBB4F30B1E86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Chapter 16-</a:t>
            </a:r>
            <a:fld id="{5281D0D1-F334-4B3B-9336-D4D4B2100146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Chapter 16-</a:t>
            </a:r>
            <a:fld id="{32B0A532-CDE8-47AE-90BA-D2A9E26A34F7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37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rebuchet MS"/>
              </a:rPr>
              <a:t>Bronchodilators and Other Respiratory Agents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Bronchodilators:  Beta-Agonists 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egins at the specific receptor stimulat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nds with the dilation of the airway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ctivation of beta</a:t>
            </a:r>
            <a:r>
              <a:rPr b="0" lang="en-US" sz="24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receptors activate cAMP, which relaxes smooth muscles of the airway and results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in bronchial dilation and increased airflow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Bronchodilators:  Beta-Agonists Therapeutic U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246040"/>
            <a:ext cx="634860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Relief of bronchospasm, bronchial asthma, bronchitis, and other pulmonary diseas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Useful in treatment of acute attacks as well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s preventio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Used in hypotension and shock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Used to produce uterine relaxation to prevent premature labor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yperkalemia—stimulates potassium to shift into the cell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Bronchodilators:  Beta-Agonists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Side Effects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80028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2857680"/>
                <a:tab algn="l" pos="58849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404040"/>
                </a:solidFill>
                <a:uFillTx/>
                <a:latin typeface="Trebuchet MS"/>
              </a:rPr>
              <a:t>Alpha-Beta </a:t>
            </a:r>
            <a:r>
              <a:rPr b="0" lang="en-US" sz="2600" spc="-1" strike="noStrike" u="sng">
                <a:solidFill>
                  <a:srgbClr val="404040"/>
                </a:solidFill>
                <a:uFillTx/>
                <a:latin typeface="Trebuchet MS"/>
              </a:rPr>
              <a:t>	</a:t>
            </a:r>
            <a:r>
              <a:rPr b="0" lang="en-US" sz="2600" spc="-1" strike="noStrike" u="sng">
                <a:solidFill>
                  <a:srgbClr val="404040"/>
                </a:solidFill>
                <a:uFillTx/>
                <a:latin typeface="Trebuchet MS"/>
              </a:rPr>
              <a:t>Beta</a:t>
            </a:r>
            <a:r>
              <a:rPr b="0" lang="en-US" sz="2600" spc="-1" strike="noStrike" u="sng" baseline="-25000">
                <a:solidFill>
                  <a:srgbClr val="404040"/>
                </a:solidFill>
                <a:uFillTx/>
                <a:latin typeface="Trebuchet MS"/>
              </a:rPr>
              <a:t>1</a:t>
            </a:r>
            <a:r>
              <a:rPr b="0" lang="en-US" sz="2600" spc="-1" strike="noStrike" u="sng">
                <a:solidFill>
                  <a:srgbClr val="404040"/>
                </a:solidFill>
                <a:uFillTx/>
                <a:latin typeface="Trebuchet MS"/>
              </a:rPr>
              <a:t> and Beta</a:t>
            </a:r>
            <a:r>
              <a:rPr b="0" lang="en-US" sz="2600" spc="-1" strike="noStrike" u="sng" baseline="-25000">
                <a:solidFill>
                  <a:srgbClr val="404040"/>
                </a:solidFill>
                <a:uFillTx/>
                <a:latin typeface="Trebuchet MS"/>
              </a:rPr>
              <a:t>2</a:t>
            </a:r>
            <a:r>
              <a:rPr b="0" lang="en-US" sz="2600" spc="-1" strike="noStrike" u="sng">
                <a:solidFill>
                  <a:srgbClr val="404040"/>
                </a:solidFill>
                <a:uFillTx/>
                <a:latin typeface="Trebuchet MS"/>
              </a:rPr>
              <a:t>	</a:t>
            </a:r>
            <a:r>
              <a:rPr b="0" lang="en-US" sz="2600" spc="-1" strike="noStrike" u="sng">
                <a:solidFill>
                  <a:srgbClr val="404040"/>
                </a:solidFill>
                <a:uFillTx/>
                <a:latin typeface="Trebuchet MS"/>
              </a:rPr>
              <a:t>Beta</a:t>
            </a:r>
            <a:r>
              <a:rPr b="0" lang="en-US" sz="2600" spc="-1" strike="noStrike" u="sng" baseline="-25000">
                <a:solidFill>
                  <a:srgbClr val="404040"/>
                </a:solidFill>
                <a:uFillTx/>
                <a:latin typeface="Trebuchet MS"/>
              </a:rPr>
              <a:t>2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857680"/>
                <a:tab algn="l" pos="58849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(epinephrine)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(isoproterenol)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(albuterol)</a:t>
            </a:r>
            <a:br>
              <a:rPr sz="2200"/>
            </a:b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857680"/>
                <a:tab algn="l" pos="58849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insomnia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ardiac stimulation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hypotension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estlessness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remor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vascular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headache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norexia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nginal pain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remor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ardiac stimulation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vascular headache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vascular headach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Respiratory Agents: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General 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ncourage patients to take measures that promote a generally good state of health in order to prevent, relieve, or decrease symptoms of COPD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Avoid exposure to conditions that precipitate bronchospasms (allergens, smoking, stress, air pollutants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Adequate fluid intak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Compliance with medical treatmen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Avoid excessive fatigue, heat, extremes in temperature, caffein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Respiratory Agents: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General 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ncourage patients to get prompt treatment for flu or other illnesses, and to get vaccinated against pneumonia or flu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ncourage patients to always check with their physician before taking any other medication, including OTC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Respiratory Agents: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General 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erform a thorough assessment before beginning therapy, including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Skin color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Baseline vital sign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Respirations (should be &lt;12 or &gt;24 breaths/min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Respiratory assessment, including PO</a:t>
            </a:r>
            <a:r>
              <a:rPr b="0" lang="en-US" sz="16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Sputum productio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Allergie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History of respiratory problem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Other medications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Respiratory Agents: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General 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each patients to take bronchodilators exactly as prescribed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nsure that patients know how to use inhalers, MDIs, and have the patients demonstrate use of devic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onitor for side effect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Respiratory Agents: 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onitor for therapeutic effec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Decreased dyspnea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Decreased wheezing, restlessness, and anxiety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Improved respiratory patterns with return to normal rate and quality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Improved activity tolerance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ecreased symptoms and increased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ase of breath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41240" y="609480"/>
            <a:ext cx="7818480" cy="14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Bronchodilators:  Nursing Implications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Xanthine Derivatives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762120" y="2410920"/>
            <a:ext cx="763560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ontraindications:  history of PUD or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GI disorde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autious use:  cardiac diseas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imed-release preparations should not be crushed or chewed (causes gastric irritation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40880" y="609120"/>
            <a:ext cx="7804440" cy="15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Bronchodilators:  Nursing Implications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Xanthine Derivatives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762120" y="2514600"/>
            <a:ext cx="7635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092400"/>
                <a:tab algn="l" pos="514044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port to physicia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092400"/>
                <a:tab algn="l" pos="514044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alpitations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ausea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Vomit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092400"/>
                <a:tab algn="l" pos="514044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Weakness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izziness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hest pain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092400"/>
                <a:tab algn="l" pos="514044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onvuls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Drugs Affecting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the Respiratory System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ronchodilato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Xanthine derivative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Beta-agonist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nticholinergic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ntileukotriene agen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orticosteroid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ast cell stabilize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5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Bronchodilators: Nursing Implications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Xanthine Derivatives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762120" y="2516040"/>
            <a:ext cx="76356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e aware of drug interactions with: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imetidine and oral contraceptiv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Large amounts of caffeine can have deleterious effect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40880" y="609120"/>
            <a:ext cx="7804440" cy="14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Bronchodilators:  Nursing Implications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Beta-Agonist Derivatives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762120" y="2451240"/>
            <a:ext cx="7635600" cy="36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lbuterol, if used too frequently, loses its beta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-specific actions at larger dos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s a result, beta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Trebuchet MS"/>
              </a:rPr>
              <a:t>1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receptors are stimulated, causing nausea, increased anxiety, palpitations, tremors, and increased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eart rat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0880" y="609120"/>
            <a:ext cx="7753320" cy="14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Bronchodilators:  Nursing Implications</a:t>
            </a:r>
            <a:br>
              <a:rPr sz="3500"/>
            </a:b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Beta-Agonist Derivatives</a:t>
            </a: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762120" y="2423880"/>
            <a:ext cx="7635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atients should take medications exactly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s prescribed, with no omissions or double dos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atients should report insomnia, jitteriness, restlessness, palpitations, chest pain, or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ny change in symptom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Anticholinergics: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cetylcholine (ACh) causes bronchial constriction and narrowing of the airway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nticholinergics bind to the ACh receptors, preventing ACh from binding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sult: bronchoconstriction is prevented, airways dilat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Anticholinergic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pratropium bromide (Atrovent) is the only   anticholinergic used for respiratory diseas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low and prolonged ac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Used to 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prevent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bronchoconstric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T used for acute asthma exacerbations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Anticholinergics: Sid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61760" y="1981080"/>
            <a:ext cx="7413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39402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ry mouth or throat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Gastrointestinal distres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9402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eadache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ough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9402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nxiety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9402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39402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o known drug interac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Antileukotrien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lso called leukotriene receptor antagonists (LRTA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ew class of asthma medicatio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ree subcategories of agen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Antileukotrien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urrently available agents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montelukast (Singulai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zafirlukast (Accolate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zileuton (Zyflo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Antileukotrienes: 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Leukotrienes are substances released when a trigger, such as cat hair or dust, starts a series of chemical reactions in the bod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Leukotrienes cause inflammation, bronchoconstriction, and mucus product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sult:  coughing, wheezing, shortness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f breat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Antileukotrienes: 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ntileukotriene agents 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prevent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leukotrienes from attaching to receptors on cells in the lungs and in circulat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flammation in the lungs is 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blocked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, and asthma symptoms are relieved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" descr="https://classconnection.s3.amazonaws.com/142/flashcards/2070142/png/untitled1353817313110.png"/>
          <p:cNvPicPr/>
          <p:nvPr/>
        </p:nvPicPr>
        <p:blipFill>
          <a:blip r:embed="rId1"/>
          <a:stretch/>
        </p:blipFill>
        <p:spPr>
          <a:xfrm>
            <a:off x="0" y="98280"/>
            <a:ext cx="90345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Antileukotrienes:  Drug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y blocking leukotrienes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revent smooth muscle contraction of the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bronchial airway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ecrease mucus secre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revent vascular permeabilit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ecrease neutrophil and leukocyte infiltration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o the lungs, preventing inflamm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Antileukotrienes:  Therapeutic U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rophylaxis and chronic treatment of asthma in adults and children over age 12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T meant for management of acute asthmatic attack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ontelukast is approved for use in children age 2 and old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Antileukotrienes:  Sid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zileuton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	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	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zafirluka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eadache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eadach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yspepsia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ause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ausea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iarrhe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izziness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Liver dysfunc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Insomn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Liver dysfunction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montelukast has fewer side effects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Antileukotrienes: 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nsure that the drug is being used for chronic management of asthma, not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cute asthm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each the patient the purpose of the therap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mprovement should be seen in about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1 week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Antileukotrienes: 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heck with physician before taking any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TC or prescribed medications—many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rug interaction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ssess liver function before beginning therap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edications should be taken every night on a continuous schedule, even if symptoms improv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Corticosteroid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762120" y="1837800"/>
            <a:ext cx="763560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nti-inflammator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Used for CHRONIC asthm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o not relieve symptoms of acute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sthmatic attack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ral or inhaled form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haled forms reduce systemic effec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ay take several weeks before full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ffects are se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Corticosteroids: 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tabilize membranes of cells that release harmful bronchoconstricting substanc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se cells are leukocytes, or white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lood cell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lso increase responsiveness of bronchial smooth muscle to beta-adrenergic stimulat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Inhaled Corticosteroid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eclomethasone dipropionate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(Beclovent, Vanceril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riamcinolone acetonide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(Azmacort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examethasone sodium phosphate (Decadron Phosphate Respihaler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lunisolide (AeroBi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Inhaled Corticosteroids:  Therapeutic U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reatment of bronchospastic disorders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at are not controlled by conventional bronchodilator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T considered first-line agents for management of acute asthmatic attacks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r status asthmaticu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Inhaled Corticosteroids: 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Sid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haryngeal irrita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ough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ry mout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ral fungal infectio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ystemic effects are rare because of the low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oses used for inhalation therapy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Bronchodilators: Xanthine Derivatives</a:t>
            </a: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1654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lant alkaloids:  caffeine, theobromine, and theophyllin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1654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nly theophylline is used as a bronchodilato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21654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xamples: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minophylline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yphilline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xtriphylline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ophylline (Bronkodyl, Slo-bid,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o-Dur,Uniphyl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Inhaled Corticosteroids: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ontraindicated in patients with psychosis, fungal infections, AIDS, TB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autious use in patients with diabetes, glaucoma, osteoporosis, PUD, renal disease, CHF, edem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each patients to gargle and rinse the mouth with water afterward to prevent the development of oral fungal infection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Inhaled Corticosteroids: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bruptly discontinuing these medications can lead to serious problem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f discontinuing, should be weaned for a period of 1 to 2 weeks, and only if recommended by physicia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PORT any weight gain of more than 5 pounds a week or the occurrence of chest pai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Mast Cell Stabilizer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romolyn (Nasalcrom, Intal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edocromil (Tilade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Mast Cell Stabilizer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direct-acting agents that prevent the release of the various substances that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ause bronchospas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tabilize the cell membranes of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flammatory cells (mast cells, monocytes,  macrophages), thus preventing release of harmful cellular conten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 direct bronchodilator activi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Used prophylactical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Mast Cell Stabilizers: 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Therapeutic U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djuncts to the overall management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f COP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Used solely for prophylaxis, NOT for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cute asthma attack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Used to prevent exercise-induced bronchospas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Used to prevent bronchospasm associated with exposure to known precipitating factors, such as cold, dry air or allerge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Mast Cell Stabilizers:  Sid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oughing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aste chang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ore throat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zzines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hinitis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eadach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ronchospas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Mast Cell Stabilizers: 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r prophylactic use on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ontraindicated for acute exacerbatio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t recommended for children under age 5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rapeutic effects may not be seen for up to 4 week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each patients to gargle and rinse the mouth with water afterward to minimize irritation to the throat and oral mucos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0640" y="227448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uestion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871040" cy="14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Bronchodilators: Xanthine Derivatives </a:t>
            </a:r>
            <a:br>
              <a:rPr sz="3500"/>
            </a:b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Drug Effects</a:t>
            </a: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62120" y="2333160"/>
            <a:ext cx="7635600" cy="37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ause bronchodilation by relaxing smooth muscles of the airway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Result: relief of bronchospasm and greater airflow into and out of the lung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lso causes CNS stimulatio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lso causes cardiovascular stimulation:  increased force of contraction and increased HR, resulting in increased cardiac output and increased blood flow to the kidneys (diuretic effect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974000" cy="15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Bronchodilators: Xanthine Derivatives </a:t>
            </a:r>
            <a:br>
              <a:rPr sz="3500"/>
            </a:b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Therapeutic Uses</a:t>
            </a: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62120" y="2463480"/>
            <a:ext cx="7635600" cy="36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lation of airways in asthmas, chronic bronchitis, and emphysem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ild to moderate cases of asthm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djunct agent in the management of COP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djunct therapy for the relief of pulmonary edema and paroxysmal nocturnal edema in left-sided heart failur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40880" y="609120"/>
            <a:ext cx="784404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Bronchodilators: Xanthine Derivatives </a:t>
            </a:r>
            <a:br>
              <a:rPr sz="3500"/>
            </a:b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Side Effects</a:t>
            </a: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	</a:t>
            </a: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762120" y="2529000"/>
            <a:ext cx="7635600" cy="35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ausea, vomiting, anorexi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Gastroesophageal reflux during sle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nus tachycardia, extrasystole, palpitations, ventricular dysrhythmia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ransient increased urina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Bronchodilators:  Beta-Agonis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Large group, sympathomimetic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Used during acute phase of asthmatic attack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Quickly reduce airway constriction and restore normal airflow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timulate beta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adrenergic receptors throughout the lung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Bronchodilators:  Beta-Agonists Three typ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762120" y="19684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onselective adrenergic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timulate alpha</a:t>
            </a:r>
            <a:r>
              <a:rPr b="0" lang="en-US" sz="2000" spc="-1" strike="noStrike" baseline="-25000">
                <a:solidFill>
                  <a:srgbClr val="404040"/>
                </a:solidFill>
                <a:latin typeface="Trebuchet MS"/>
              </a:rPr>
              <a:t>1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, beta</a:t>
            </a:r>
            <a:r>
              <a:rPr b="0" lang="en-US" sz="2000" spc="-1" strike="noStrike" baseline="-25000">
                <a:solidFill>
                  <a:srgbClr val="404040"/>
                </a:solidFill>
                <a:latin typeface="Trebuchet MS"/>
              </a:rPr>
              <a:t>1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(cardiac), and beta</a:t>
            </a:r>
            <a:r>
              <a:rPr b="0" lang="en-US" sz="20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(respiratory) receptor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Example:  epinephrin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onselective beta-adrenergic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timulate both beta</a:t>
            </a:r>
            <a:r>
              <a:rPr b="0" lang="en-US" sz="2000" spc="-1" strike="noStrike" baseline="-25000">
                <a:solidFill>
                  <a:srgbClr val="404040"/>
                </a:solidFill>
                <a:latin typeface="Trebuchet MS"/>
              </a:rPr>
              <a:t>1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and beta</a:t>
            </a:r>
            <a:r>
              <a:rPr b="0" lang="en-US" sz="20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receptor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Example:  isoproterenol (Isuprel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lective beta</a:t>
            </a:r>
            <a:r>
              <a:rPr b="0" lang="en-US" sz="24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drug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timulate only beta</a:t>
            </a:r>
            <a:r>
              <a:rPr b="0" lang="en-US" sz="20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receptor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Example:  albutero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2T01:00:27Z</dcterms:created>
  <dc:creator>Jonathan &amp; Julie Snyder</dc:creator>
  <dc:description/>
  <dc:language>en-US</dc:language>
  <cp:lastModifiedBy>Alharbi</cp:lastModifiedBy>
  <dcterms:modified xsi:type="dcterms:W3CDTF">2016-03-06T04:46:36Z</dcterms:modified>
  <cp:revision>60</cp:revision>
  <dc:subject/>
  <dc:title>PowerPoint Presentation</dc:title>
</cp:coreProperties>
</file>