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AA7-0A6D-4BAC-94C0-273A0EF3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022-4973-49C4-8ADD-3D7D60C9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4AE-9E52-47BF-BF4D-2DFA5C1B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95D-A244-4C8D-86AB-740E3FF1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3479-3619-4246-A726-8E3D578F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423-B1DE-43AB-AA78-80472147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9C10-D074-4D20-AC52-E3652A98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8D82-D022-42CD-94CA-D8D93AF4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6CE5-53C7-493D-9915-46E930AD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2B37-E058-4206-BC5B-68695426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8CF2-8868-4074-8A0C-F50FA330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906-DE75-43A4-9839-55A03F7A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B0C1-EC21-4914-920A-C697D184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A165-39C8-4626-B52D-AB134290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FB05-39C0-48D0-92C1-0FE9A6E8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174F-CD88-4DB7-B37B-94C4F3BD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56BB-BE31-4778-9397-467ED679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BF41-E4D5-4EB4-AC51-A4D27891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65BF-0EC7-4D2B-9175-61933797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4211-FF45-4645-8543-E394F8FD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21F8-FAC4-4A7A-BE82-BB9E8612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C8E1-82D5-459E-9531-88CA664B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526-6C95-420C-95D5-4AF1DFD5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E7374-569B-4132-99AA-251852ED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02E0-643E-41AD-A3D4-B19123E4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2ADB-273B-42F3-B615-800679D3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6C95-A644-4D21-8BDE-0C77ABE7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05F1-237A-4E54-934B-DE51E86C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E0FF-BE1E-4C4F-A118-FBC399F5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61B2-FFCB-4F15-8B22-9D397633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04FC-F8CB-4B74-B2AA-B4393789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603C0-8F22-48DC-94AE-06B5FD0A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1B7D-B22A-4E54-9421-B38CA4B2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892-A32E-4353-8282-5CE2A029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9014-C00C-446E-B34F-742E798A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CF17-00CE-409C-BFE6-9DA7DA81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9ABC-876E-4E30-80D4-5E2E2FBF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5D59E-53A9-4458-9495-DDD545EC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F738-F77C-49F0-BF6D-73FAA676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4B9B8-3CD8-4471-89FC-BDA65CD0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1837-9E23-4188-9D91-38C2699F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3927-E552-4B96-AE14-1A41AC8E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AA51-04BE-4BE6-A665-59E16A91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513-E091-40B4-A59D-758FE4A9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818-A4CF-494B-AA24-AB376134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920-9691-4DB0-A2F3-C9DCD15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03E-4010-4178-A114-F545A316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C55-C14E-47F4-AEB2-2EDEB4AD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763-F6B3-451E-90FE-6540DE31B9D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B4A9-EF59-4437-BE8E-96772CE88FB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91DE-0314-469A-AED3-A11E5E6EAD3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7024-2609-4D67-9C0C-D9C9F30F2F3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CBC3-F455-43F7-8E7A-135C6BA52F4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74960" y="585720"/>
            <a:ext cx="7022880" cy="6336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A8A8-4874-4128-B0B8-0D99A5900E1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7717-DB99-4999-8B72-3EE3792F1B1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F1ED-B7F5-489B-A239-FFE0DB1B4F3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د أشرف مشالي</cp:lastModifiedBy>
  <dcterms:modified xsi:type="dcterms:W3CDTF">2013-09-01T08:15:31Z</dcterms:modified>
  <cp:revision>115</cp:revision>
  <dc:subject/>
  <dc:title>Slide 1</dc:title>
</cp:coreProperties>
</file>