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D3D-AF69-4F86-87A1-BD2709E2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BE5-BA7F-4E53-919B-47CE9316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27C-9A9F-4D63-978D-113C7A83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1AF-8D28-4C87-B5A5-88F34E20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3565-1881-468B-8C38-30A408D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E34F-1403-40EB-8688-46C95DB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180-1570-49E7-816C-F8847F8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3979-00F4-41E5-86A6-AFCC0DCB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B01-D78C-45E5-88A5-52C353A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33E7-2A82-4A70-A70D-05C67CD4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E486-6E68-4C1B-A247-D3E9B40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876-7F27-4790-AD9A-7926D728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F8D-F301-49C6-9D4D-0FA49BFF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C60E-B257-413F-AE6C-8E2CEF6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130C-78B6-4A6E-A197-F38A4E9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A47E-8AE1-44D0-B35E-DE632D6A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97F0-2F87-47B0-8417-F498F8EB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761A-9C22-4E0E-8514-849C24C6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F5EC-4004-4393-AFDF-3EE50A7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2EE1-105D-42B5-87BC-E08159C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A74F-03B7-4D73-B1E4-258A988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6467-11C2-43A9-8457-6CA0A38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6B2-AD28-4309-ABD2-8B3E107B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637E-2831-4C55-B3E1-1EE556A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66AF-3547-4638-86B8-46FFA92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D27A-0746-42DF-9666-D916BAF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73B5-6E65-4D4D-A1CB-F59DC22C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9519-1222-4E2E-9230-3DF0635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2086-3E45-49DE-A5CF-4FBCE6C9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6A54-E77E-45A0-858F-281964AD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3CE5-AFC0-45E6-8D7E-D777A5E2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A8A4-3FCF-4997-BC37-97F9E12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9621-E776-453D-AB4D-2F66BE7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93F-9B6B-491B-9DEB-81B7A25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DDB8-F1C7-4D49-A039-33492B9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D63C-9959-4690-8F9E-9D687E8D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CA5C4-EE24-455E-B0D0-E62634E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DF98-CB43-40E9-B8BA-2F418E3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E3D3-FED5-4E26-8D46-75A53A6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D67A-FAC1-46E7-ABE9-4FFD083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C2E5-AC73-4C0A-8646-93701D96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B3A4-1CA5-4597-8794-B461B14C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1B41-8FC3-4D1F-9F83-36BB8ADA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31B-2729-4402-9CC4-63BE08C8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B9C-9932-4352-ADC0-BA1D450F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459-9925-4432-AEE7-5E8AAA7C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132-82EB-4DFB-818A-3F32A45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B11-F772-45E5-A7B7-7CEDEF2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6D4-A945-467D-B0F0-DEEE8E76FF76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02C5-3483-4231-A00E-1B6238BB665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B3F5-F6F7-445D-A128-ADEE28B7A22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97FF-8DEF-49BE-AA5C-52B393A7259A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90720"/>
            <a:ext cx="91440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2860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IOSIS AND SEXUAL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4"/>
          <p:cNvGrpSpPr/>
          <p:nvPr/>
        </p:nvGrpSpPr>
        <p:grpSpPr>
          <a:xfrm>
            <a:off x="228600" y="2209680"/>
            <a:ext cx="8381880" cy="4495680"/>
            <a:chOff x="228600" y="2209680"/>
            <a:chExt cx="8381880" cy="4495680"/>
          </a:xfrm>
        </p:grpSpPr>
        <p:sp>
          <p:nvSpPr>
            <p:cNvPr id="200" name="Text Box 7"/>
            <p:cNvSpPr/>
            <p:nvPr/>
          </p:nvSpPr>
          <p:spPr>
            <a:xfrm>
              <a:off x="685800" y="22096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dbf5f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22"/>
            <p:cNvGrpSpPr/>
            <p:nvPr/>
          </p:nvGrpSpPr>
          <p:grpSpPr>
            <a:xfrm>
              <a:off x="228600" y="2895480"/>
              <a:ext cx="8267760" cy="3809880"/>
              <a:chOff x="228600" y="2895480"/>
              <a:chExt cx="8267760" cy="3809880"/>
            </a:xfrm>
          </p:grpSpPr>
          <p:pic>
            <p:nvPicPr>
              <p:cNvPr id="202" name="Picture 16" descr=""/>
              <p:cNvPicPr/>
              <p:nvPr/>
            </p:nvPicPr>
            <p:blipFill>
              <a:blip r:embed="rId1"/>
              <a:srcRect l="0" t="0" r="56038" b="5551"/>
              <a:stretch/>
            </p:blipFill>
            <p:spPr>
              <a:xfrm rot="16200000">
                <a:off x="2151000" y="135396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Rectangle 17"/>
              <p:cNvSpPr/>
              <p:nvPr/>
            </p:nvSpPr>
            <p:spPr>
              <a:xfrm>
                <a:off x="4419360" y="304776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57520" y="322560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Rectangle 19"/>
              <p:cNvSpPr/>
              <p:nvPr/>
            </p:nvSpPr>
            <p:spPr>
              <a:xfrm>
                <a:off x="228600" y="289548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 rot="5400000">
                <a:off x="-1333800" y="476208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380880" y="640080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Rectangle 23"/>
            <p:cNvSpPr/>
            <p:nvPr/>
          </p:nvSpPr>
          <p:spPr>
            <a:xfrm>
              <a:off x="507960" y="312408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5"/>
          <p:cNvSpPr/>
          <p:nvPr/>
        </p:nvSpPr>
        <p:spPr>
          <a:xfrm>
            <a:off x="2154240" y="152280"/>
            <a:ext cx="474048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7: Cell div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28600" y="91404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1150920" y="3886200"/>
            <a:ext cx="2239920" cy="289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76320" y="2071800"/>
            <a:ext cx="47242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مجموعة 10"/>
          <p:cNvGrpSpPr/>
          <p:nvPr/>
        </p:nvGrpSpPr>
        <p:grpSpPr>
          <a:xfrm>
            <a:off x="5181480" y="1905120"/>
            <a:ext cx="3810240" cy="4800600"/>
            <a:chOff x="5181480" y="1905120"/>
            <a:chExt cx="3810240" cy="4800600"/>
          </a:xfrm>
        </p:grpSpPr>
        <p:grpSp>
          <p:nvGrpSpPr>
            <p:cNvPr id="214" name="Group 11"/>
            <p:cNvGrpSpPr/>
            <p:nvPr/>
          </p:nvGrpSpPr>
          <p:grpSpPr>
            <a:xfrm>
              <a:off x="5181480" y="1905120"/>
              <a:ext cx="3810240" cy="4800600"/>
              <a:chOff x="5181480" y="1905120"/>
              <a:chExt cx="3810240" cy="4800600"/>
            </a:xfrm>
          </p:grpSpPr>
          <p:pic>
            <p:nvPicPr>
              <p:cNvPr id="215" name="Picture 4" descr=""/>
              <p:cNvPicPr/>
              <p:nvPr/>
            </p:nvPicPr>
            <p:blipFill>
              <a:blip r:embed="rId2"/>
              <a:srcRect l="0" t="0" r="0" b="3357"/>
              <a:stretch/>
            </p:blipFill>
            <p:spPr>
              <a:xfrm>
                <a:off x="5181480" y="1905120"/>
                <a:ext cx="3810240" cy="48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9"/>
              <p:cNvSpPr/>
              <p:nvPr/>
            </p:nvSpPr>
            <p:spPr>
              <a:xfrm>
                <a:off x="594216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6431040" y="5609880"/>
                <a:ext cx="134640" cy="69120"/>
              </a:xfrm>
              <a:prstGeom prst="rect">
                <a:avLst/>
              </a:prstGeom>
              <a:solidFill>
                <a:srgbClr val="ffe2c5"/>
              </a:solidFill>
              <a:ln w="9360">
                <a:solidFill>
                  <a:srgbClr val="ffe2c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مستطيل 9"/>
            <p:cNvSpPr/>
            <p:nvPr/>
          </p:nvSpPr>
          <p:spPr>
            <a:xfrm>
              <a:off x="5891040" y="5313600"/>
              <a:ext cx="338040" cy="69840"/>
            </a:xfrm>
            <a:prstGeom prst="rect">
              <a:avLst/>
            </a:prstGeom>
            <a:solidFill>
              <a:srgbClr val="ead4b4"/>
            </a:solidFill>
            <a:ln w="25560">
              <a:solidFill>
                <a:srgbClr val="ea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Meiosis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uction Division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إنقسام الإختزالى</a:t>
            </a:r>
            <a:r>
              <a:rPr b="1" lang="en-GB" sz="2500" spc="-1" strike="noStrike">
                <a:solidFill>
                  <a:srgbClr val="0000ff"/>
                </a:solidFill>
                <a:latin typeface="Calibri"/>
              </a:rPr>
              <a:t>       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duces chromosome number from diploid to haploid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: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8208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first division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000ff"/>
              </a:buClr>
              <a:buSzPct val="8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The second (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eios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FEE-BC85-491F-ADEB-86542BB0222E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608800" y="1523880"/>
            <a:ext cx="34779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981080" y="590400"/>
            <a:ext cx="701064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14300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019920" y="2514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04920" y="40384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4920" y="4632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0"/>
          <p:cNvGrpSpPr/>
          <p:nvPr/>
        </p:nvGrpSpPr>
        <p:grpSpPr>
          <a:xfrm>
            <a:off x="2133720" y="1143000"/>
            <a:ext cx="4952880" cy="1371600"/>
            <a:chOff x="2133720" y="1143000"/>
            <a:chExt cx="4952880" cy="1371600"/>
          </a:xfrm>
        </p:grpSpPr>
        <p:sp>
          <p:nvSpPr>
            <p:cNvPr id="230" name="Line 11"/>
            <p:cNvSpPr/>
            <p:nvPr/>
          </p:nvSpPr>
          <p:spPr>
            <a:xfrm>
              <a:off x="4724280" y="1143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2133720" y="19810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3505320" y="198108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8240" y="533520"/>
            <a:ext cx="891540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06CC-B546-4936-A4B0-4B01E29BF04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1090440"/>
            <a:ext cx="8915400" cy="5767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28240" y="985320"/>
            <a:ext cx="8381880" cy="23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Comparison between Mitosis and mei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hromosome number is reduced by half in meiosis, but not in mitos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52280" y="318780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126648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451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08B-4BD3-491B-8B5D-A25C6EB5A472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5D7-3AB2-4767-91B3-38FC010D1717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182736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33520" y="9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omparison between Mitosis and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65880" y="838080"/>
            <a:ext cx="77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that specify an organism’s inherited charac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9840" y="1371600"/>
            <a:ext cx="794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-protein complex which is organized into a lo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thin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21337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oso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ed from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and fol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2971800"/>
            <a:ext cx="8991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romati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ister arms (chromati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from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 duplic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chromosome. They contain identical copies of the chromosome’s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76320" y="4114800"/>
            <a:ext cx="8153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ntromer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rrow region at which the chromosomal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are connect togre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52280" y="4800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t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vision process which forms two daughter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52280" y="5334120"/>
            <a:ext cx="861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إنشطا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لو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the division stage of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ytopla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usually follow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200400" y="258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52280" y="6095880"/>
            <a:ext cx="86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vision process that occu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ona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اس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yiel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lf the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User</cp:lastModifiedBy>
  <dcterms:modified xsi:type="dcterms:W3CDTF">2015-03-11T03:46:22Z</dcterms:modified>
  <cp:revision>115</cp:revision>
  <dc:subject/>
  <dc:title>Slide 1</dc:title>
</cp:coreProperties>
</file>