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335-858A-488F-B6D6-6C7411FE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BAD-F99C-41BD-83EA-638D547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4B5-D9BD-4E27-8CDE-F5C8815C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375-7C98-4128-AA03-33827DAF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5710-7782-4B34-B02C-9DEB9E9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F9AE-9168-445E-97DF-3D47229B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EB5-BBBA-48BB-860B-4A5C0CB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DFDB-E909-4A1C-BF67-BDAAC25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9B5-80E4-46A1-AD68-7EA6879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F2D-6047-485E-B9C4-DF4D2651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65E-F478-4D74-9861-5F06CD8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7C0-8F21-4966-9619-8C9C17B2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388-C3D5-4696-B71A-03679A3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83A8-27D4-45FC-BBEE-FB60107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0E07-D0C5-479D-8A65-CAEBA0D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4CE4-BD7C-49BD-9849-88D586E6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69C9-C987-46E2-B469-1C75E13B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3EAE-F2CC-40DD-84C4-95AB41C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7EEC-1E59-489F-A5E3-2349008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0A19-8E0E-4437-A5C0-E7788E7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96EC-1932-4DA5-B8C7-5A2E7D5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67CF-2D18-4272-A7E4-85C8E92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E6C-73A3-4EC0-B845-32C3166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6BAC-5EE3-4F09-8BDC-323D5F1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19D6-8699-426E-AD9E-A7AFD5C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6DBD-4F54-4869-AA34-9354903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771B-98A7-4A6A-AB92-8D784524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7B21-1BD2-45A4-8F06-C8F2E48E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2E39-C132-4E98-8D7B-05284F8F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5A39-02DF-4B46-B472-F6220EDE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E16E-5984-4AEA-B82F-70BCAEF3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4E35-F972-4C68-90AA-6AF3BB5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B45B-E6D5-435E-8D09-959779D1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166-5B9C-4F23-A40C-5157E8A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EC0F-8120-4A91-994D-A2D75E9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6A72-A52B-4750-A709-D5C4D12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32BD-D799-4819-8AF7-63CB347A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EBB7-01F6-4476-B3BA-F17F328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791D-412E-4C4A-9C86-D8AB8B1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660E0-5EC4-47E6-8DEE-88E10A8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D1E6-44DC-4708-BD2E-F6929810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13A5-12A5-47AF-8F11-77E92C9A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F70D-62A7-4519-9A15-7FDB86B6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F0B-1477-4B8E-AC09-19643B89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A84-B6ED-4887-AB2F-35C05C67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7E3-7773-4CEC-8F59-1E6F3F7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019-32F3-43FD-AAB9-A3F87D9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359-EBDA-4CD4-BA50-8D495D9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646-196A-48A1-95DE-C04091BEF4B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693-8742-4309-A232-35657DBD3EB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A434-8B4E-43AB-8CEA-A918E42F22D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A75C-D3F9-46F4-9C98-B62398D4B1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506A-133E-4711-AEC5-C6C142F0B6D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81080" y="590400"/>
            <a:ext cx="701064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EB8-AD38-4D3D-8E0F-64696F10B36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846-2531-4416-980D-E32059A1242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84F-0CE2-426E-BB3A-D3BA4D86420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5-03-11T03:46:22Z</dcterms:modified>
  <cp:revision>115</cp:revision>
  <dc:subject/>
  <dc:title>Slide 1</dc:title>
</cp:coreProperties>
</file>