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178-3705-4703-B99C-E6A4CE5D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682-4E06-4D62-A6E6-D86A73FE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536-D9DF-4611-B642-85C511AD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640-398D-4E67-AE86-20E405DE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BDB2-3AA1-4A62-A71F-67389028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EDD0-9BF0-4F55-A88B-9DEF4886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F315-6749-4F9F-966F-E829986E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D82B-5377-4DC8-A33E-F6191B47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8954-AE1F-4BDE-8077-C5C25655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05EF-2739-4B76-9858-D478B4A1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4C63-DC20-46EE-96CC-5502441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3C1-57A3-4A03-B353-88BF4BA2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438A-BDD3-4C1C-B71C-7D9DC39D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EDE9-4274-40FF-A961-C22EFCCC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F7A4-A95D-4106-8CD7-3ABDA930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8850-5E6D-49CD-9FA3-16C7ABA6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65E5-E66F-4588-8E12-0771C40E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2E13-0D96-4A4E-A652-EB4A0B8B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6ABA-E647-4FE7-BBFA-405A7EA9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9CD5-0B9A-4ACD-844D-D6325377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B15A1-5964-4876-B522-07B4716D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2D2F-B57F-4C33-B7CA-EF2B9B4E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D3A-A660-487B-BE3E-ABFBDFFF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1987-0DA4-4992-92DE-C7C002FC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14BD-B4D2-4CAB-AED4-C6AB660A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2729-805B-4991-BC82-402D8384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D6DF-7576-4868-AB6B-F51FDBDA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BE7B-9371-47DD-8483-518F7832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7950-24F8-46BC-98E6-ECEEB3ED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3515-0387-4DAA-BFF0-B7C06B37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50EC-68DF-49A6-B465-AF951455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7663B-AE1A-4D59-8366-3E99006C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CFC8-6725-4A90-A952-57526911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B5C-16F0-4326-8751-E709ECC5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0CD7B-12AE-4BBC-A6F9-800ACE91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D1B6-DC6F-4999-A6A5-CBF768B3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47D30-3AF1-46DD-B6AB-4FFCFC69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9900-A209-4979-9705-8A5D0DAE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F93C3-2734-43B4-BD28-53994B47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22055-6C61-4A9B-890B-89049F74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F6FD-F67C-4FE0-A775-5584B8AA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02AB-D1C2-49A4-9550-3663EEB9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1D6E-C23E-4653-9C0C-D732D86B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603-D44A-4368-AA2A-986BD78D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538-3100-4550-9922-5F221274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173-136A-4B4F-847F-430779DF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CEB-DFB3-486E-A7B1-E0E715A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40B-B5F9-4415-A78B-4CCBBE0A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2B89-D8F2-4701-85DE-80391466825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E905-5C33-4985-81ED-AF8D60CEB54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3278-1DC9-4927-9E2B-452862CC822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17CC-442B-40F6-8DAF-AE5EF984B3E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5"/>
          <p:cNvSpPr/>
          <p:nvPr/>
        </p:nvSpPr>
        <p:spPr>
          <a:xfrm>
            <a:off x="152280" y="17524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905120" y="906480"/>
            <a:ext cx="502920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: 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52280" y="19051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Meiosis and sexual life cy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28600" y="255744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the sexual reproduc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كاثر الجنس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rocess, two gametes fuse during fertilization to produce a zyg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eiosis is a specialized type of cell division which reduces the chromosome number by half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reduces chromosome number from diploid to 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is process occurs in animals and pl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eiosis occurs only in sex gona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التناسلية الجنس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form game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225360" y="1619280"/>
            <a:ext cx="8613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units that specify an organism’s inherited characteristi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atin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DNA-protein complex which is organized into a long thin fi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osom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fold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roma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atid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sister chromat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h duplicated  chromosome. They contain identical copies of the chromosome’s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entromer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arrow region which the two sister chromati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connect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it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ype of cel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ivision that occurs in somatic cells and generates two identical daughter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ei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ype of cell division that occur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gonads, and yield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our non-identical daughter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048120" y="838080"/>
            <a:ext cx="30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240" y="990720"/>
            <a:ext cx="84582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ُعيد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ondition by combining two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ets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ametes, produced by meiosis, are the only haploid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443400"/>
            <a:ext cx="2583000" cy="3338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228600" y="2057400"/>
            <a:ext cx="4800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2880" indent="-272880" algn="just">
              <a:lnSpc>
                <a:spcPct val="10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Gametes undergo no divisions themselves, but fus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ندمج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form a diploid zygote that divides by mitosis to                                                           produce a multicellular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مجموعة 10"/>
          <p:cNvGrpSpPr/>
          <p:nvPr/>
        </p:nvGrpSpPr>
        <p:grpSpPr>
          <a:xfrm>
            <a:off x="5029200" y="2133720"/>
            <a:ext cx="3962520" cy="4647960"/>
            <a:chOff x="5029200" y="2133720"/>
            <a:chExt cx="3962520" cy="4647960"/>
          </a:xfrm>
        </p:grpSpPr>
        <p:grpSp>
          <p:nvGrpSpPr>
            <p:cNvPr id="203" name="Group 11"/>
            <p:cNvGrpSpPr/>
            <p:nvPr/>
          </p:nvGrpSpPr>
          <p:grpSpPr>
            <a:xfrm>
              <a:off x="5029200" y="2133720"/>
              <a:ext cx="3962520" cy="4647960"/>
              <a:chOff x="5029200" y="2133720"/>
              <a:chExt cx="3962520" cy="4647960"/>
            </a:xfrm>
          </p:grpSpPr>
          <p:pic>
            <p:nvPicPr>
              <p:cNvPr id="204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029200" y="2133720"/>
                <a:ext cx="3962520" cy="464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9"/>
              <p:cNvSpPr/>
              <p:nvPr/>
            </p:nvSpPr>
            <p:spPr>
              <a:xfrm>
                <a:off x="5820480" y="5720760"/>
                <a:ext cx="140040" cy="6696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0"/>
              <p:cNvSpPr/>
              <p:nvPr/>
            </p:nvSpPr>
            <p:spPr>
              <a:xfrm>
                <a:off x="6328440" y="5720760"/>
                <a:ext cx="140040" cy="6696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مستطيل 9"/>
            <p:cNvSpPr/>
            <p:nvPr/>
          </p:nvSpPr>
          <p:spPr>
            <a:xfrm>
              <a:off x="5767200" y="5434200"/>
              <a:ext cx="350640" cy="6660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52280" y="1071360"/>
            <a:ext cx="5105520" cy="63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and mitosis are preceded by the replication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عاقب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pying the chromosome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on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dividing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i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) The first division is known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 (a reductional divis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منصف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eparates homologous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) The second is known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I (an equational division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(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متساو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parates sister chromati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1F88-538D-4CFB-84FF-4A693542A5F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838080"/>
            <a:ext cx="3828960" cy="5872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73656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eiotic di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0" y="1523880"/>
            <a:ext cx="9144000" cy="4692600"/>
            <a:chOff x="0" y="1523880"/>
            <a:chExt cx="9144000" cy="4692600"/>
          </a:xfrm>
        </p:grpSpPr>
        <p:sp>
          <p:nvSpPr>
            <p:cNvPr id="213" name="Text Box 4"/>
            <p:cNvSpPr/>
            <p:nvPr/>
          </p:nvSpPr>
          <p:spPr>
            <a:xfrm>
              <a:off x="1600200" y="3297240"/>
              <a:ext cx="1563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1) Meiosis 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"/>
            <p:cNvSpPr/>
            <p:nvPr/>
          </p:nvSpPr>
          <p:spPr>
            <a:xfrm>
              <a:off x="6095880" y="329724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</a:rPr>
                <a:t>2) Meiosis </a:t>
              </a: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  <a:ea typeface="Times New Roman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0"/>
            <p:cNvGrpSpPr/>
            <p:nvPr/>
          </p:nvGrpSpPr>
          <p:grpSpPr>
            <a:xfrm>
              <a:off x="2361960" y="1773000"/>
              <a:ext cx="4564080" cy="1675080"/>
              <a:chOff x="2361960" y="1773000"/>
              <a:chExt cx="4564080" cy="1675080"/>
            </a:xfrm>
          </p:grpSpPr>
          <p:sp>
            <p:nvSpPr>
              <p:cNvPr id="216" name="Line 11"/>
              <p:cNvSpPr/>
              <p:nvPr/>
            </p:nvSpPr>
            <p:spPr>
              <a:xfrm>
                <a:off x="4711320" y="177300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2361960" y="2611080"/>
                <a:ext cx="456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3"/>
              <p:cNvSpPr/>
              <p:nvPr/>
            </p:nvSpPr>
            <p:spPr>
              <a:xfrm>
                <a:off x="2374560" y="26110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4"/>
              <p:cNvSpPr/>
              <p:nvPr/>
            </p:nvSpPr>
            <p:spPr>
              <a:xfrm>
                <a:off x="6921360" y="26110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5"/>
              <p:cNvSpPr/>
              <p:nvPr/>
            </p:nvSpPr>
            <p:spPr>
              <a:xfrm>
                <a:off x="3530520" y="2744280"/>
                <a:ext cx="2374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nstantia"/>
                    <a:ea typeface="Arial"/>
                  </a:rPr>
                  <a:t>Occurs in two step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Line 5"/>
            <p:cNvSpPr/>
            <p:nvPr/>
          </p:nvSpPr>
          <p:spPr>
            <a:xfrm>
              <a:off x="304560" y="1523880"/>
              <a:ext cx="876312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3"/>
            <p:cNvGrpSpPr/>
            <p:nvPr/>
          </p:nvGrpSpPr>
          <p:grpSpPr>
            <a:xfrm>
              <a:off x="0" y="3830760"/>
              <a:ext cx="9144000" cy="2385720"/>
              <a:chOff x="0" y="3830760"/>
              <a:chExt cx="9144000" cy="2385720"/>
            </a:xfrm>
          </p:grpSpPr>
          <p:sp>
            <p:nvSpPr>
              <p:cNvPr id="223" name="Line 18"/>
              <p:cNvSpPr/>
              <p:nvPr/>
            </p:nvSpPr>
            <p:spPr>
              <a:xfrm>
                <a:off x="6939000" y="3830760"/>
                <a:ext cx="0" cy="5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0"/>
              <p:cNvSpPr/>
              <p:nvPr/>
            </p:nvSpPr>
            <p:spPr>
              <a:xfrm>
                <a:off x="5262480" y="434808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22"/>
              <p:cNvSpPr/>
              <p:nvPr/>
            </p:nvSpPr>
            <p:spPr>
              <a:xfrm>
                <a:off x="5262480" y="43369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3"/>
              <p:cNvSpPr/>
              <p:nvPr/>
            </p:nvSpPr>
            <p:spPr>
              <a:xfrm>
                <a:off x="632952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4"/>
              <p:cNvSpPr/>
              <p:nvPr/>
            </p:nvSpPr>
            <p:spPr>
              <a:xfrm>
                <a:off x="7396200" y="4348080"/>
                <a:ext cx="0" cy="58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5"/>
              <p:cNvSpPr/>
              <p:nvPr/>
            </p:nvSpPr>
            <p:spPr>
              <a:xfrm>
                <a:off x="838692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27"/>
              <p:cNvSpPr/>
              <p:nvPr/>
            </p:nvSpPr>
            <p:spPr>
              <a:xfrm>
                <a:off x="4564080" y="5000760"/>
                <a:ext cx="140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Pro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29"/>
              <p:cNvSpPr/>
              <p:nvPr/>
            </p:nvSpPr>
            <p:spPr>
              <a:xfrm>
                <a:off x="5554800" y="5561280"/>
                <a:ext cx="1563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Meta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30"/>
              <p:cNvSpPr/>
              <p:nvPr/>
            </p:nvSpPr>
            <p:spPr>
              <a:xfrm>
                <a:off x="6710400" y="5000760"/>
                <a:ext cx="13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Ana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31"/>
              <p:cNvSpPr/>
              <p:nvPr/>
            </p:nvSpPr>
            <p:spPr>
              <a:xfrm>
                <a:off x="7637760" y="5573880"/>
                <a:ext cx="1506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Telo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2374920" y="3830760"/>
                <a:ext cx="0" cy="5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0"/>
              <p:cNvSpPr/>
              <p:nvPr/>
            </p:nvSpPr>
            <p:spPr>
              <a:xfrm>
                <a:off x="698400" y="434808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2"/>
              <p:cNvSpPr/>
              <p:nvPr/>
            </p:nvSpPr>
            <p:spPr>
              <a:xfrm>
                <a:off x="698400" y="43369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3"/>
              <p:cNvSpPr/>
              <p:nvPr/>
            </p:nvSpPr>
            <p:spPr>
              <a:xfrm>
                <a:off x="176508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24"/>
              <p:cNvSpPr/>
              <p:nvPr/>
            </p:nvSpPr>
            <p:spPr>
              <a:xfrm>
                <a:off x="2832120" y="4348080"/>
                <a:ext cx="0" cy="58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25"/>
              <p:cNvSpPr/>
              <p:nvPr/>
            </p:nvSpPr>
            <p:spPr>
              <a:xfrm>
                <a:off x="382284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27"/>
              <p:cNvSpPr/>
              <p:nvPr/>
            </p:nvSpPr>
            <p:spPr>
              <a:xfrm>
                <a:off x="0" y="5000760"/>
                <a:ext cx="140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Pro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990360" y="5561280"/>
                <a:ext cx="156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Meta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30"/>
              <p:cNvSpPr/>
              <p:nvPr/>
            </p:nvSpPr>
            <p:spPr>
              <a:xfrm>
                <a:off x="2146320" y="5000760"/>
                <a:ext cx="13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Ana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31"/>
              <p:cNvSpPr/>
              <p:nvPr/>
            </p:nvSpPr>
            <p:spPr>
              <a:xfrm>
                <a:off x="3073320" y="5573880"/>
                <a:ext cx="150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Telo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280" y="1676520"/>
            <a:ext cx="8686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ior to meiosis, chromosome duplication occurs during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interphase stage in order to double the sister chromatid pai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uring pro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omologous chromosomes (tetrad)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كروموسومات المتماثل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air up b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aptonemal complex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a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ap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pair of homologous chromosomes is known as 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bivalent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etr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pairs of chromosomes consist of four chromatids, with one chromosome coming from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rossing ov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tween homologous chromosomes occurs and DNA is exchanged between the bivalents in a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omolog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recombin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638360" y="838080"/>
            <a:ext cx="590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eiosi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6DF0-995C-44A9-AFF3-91F4D272382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781360" y="838080"/>
            <a:ext cx="3467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rossing ov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hyd8760x_0322"/>
          <p:cNvPicPr/>
          <p:nvPr/>
        </p:nvPicPr>
        <p:blipFill>
          <a:blip r:embed="rId1"/>
          <a:srcRect l="0" t="2869" r="0" b="0"/>
          <a:stretch/>
        </p:blipFill>
        <p:spPr>
          <a:xfrm>
            <a:off x="1523880" y="1905120"/>
            <a:ext cx="601992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52280" y="12664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. At meta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mologous pairs of chromosomes, not individual chromosomes are aligned along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728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humans, you would se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etra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. At ana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mologous chromosomes, not sister chromatids are separated from each other, but the sister chromatids remain attached to each other at the centromeres until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naphase I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cesses during the second meiotic division (meiosis II) are identical to those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B48F-59BA-4731-BC38-6F1E918ACD2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066D-CB12-4319-A456-295B0014543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98360" y="990720"/>
            <a:ext cx="871704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7B0D-F16A-47FB-8309-33684EDD283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rcRect l="0" t="9173" r="0" b="6302"/>
          <a:stretch/>
        </p:blipFill>
        <p:spPr>
          <a:xfrm>
            <a:off x="0" y="1752480"/>
            <a:ext cx="9144000" cy="4400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76320" y="914400"/>
            <a:ext cx="8991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Constantia"/>
                <a:ea typeface="Arial"/>
              </a:rPr>
              <a:t>Comparison between mitosis and meio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52280" y="16002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Dell</cp:lastModifiedBy>
  <dcterms:modified xsi:type="dcterms:W3CDTF">2015-09-30T14:08:12Z</dcterms:modified>
  <cp:revision>197</cp:revision>
  <dc:subject/>
  <dc:title>Slide 1</dc:title>
</cp:coreProperties>
</file>