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D0A-258D-4D62-8065-7574BD79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448-DE06-4DED-8FC2-800D722D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FF5-CCB6-4A1D-84CD-3F886E25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B18-AB6B-4ACB-867B-BAC357C1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FBB3-E10E-4759-A920-D17718D2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004D-EC4A-47DB-8BD1-97C9026E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10DF-50D3-4296-B14A-7FE1E127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8F33-E817-4BBD-817D-A708F510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2522-710A-4D1E-BB05-F9A76CE7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71B5-7514-40E2-8FB9-1FCC5268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0434-36B2-4F70-AC67-8C0D5966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C7D-829D-47DC-8649-951DF695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669A-FABC-4BEA-8524-88AE034B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86C8-B9CD-4858-AFD8-AD3D6862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8C83-57BF-4FBB-84CF-4C7398C6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9E16-7914-4291-84CF-3A522F20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1598-0D9E-4763-9396-4832F36E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3EBD-36B7-43F2-9F2A-85C51B67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F64B5-6A8E-45CD-A63C-94D35BD5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B18E-9817-4A66-89D9-EF45B2D5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94F7-F4B7-4192-BCCF-E4C556A3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D9C3E-1881-4C78-AA8E-19D52A73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CF9-D4D6-446B-85BA-8A58C025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BC796-F009-4995-B431-8D0D709D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EF0EA-BA41-420B-A38B-6DE930C8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AFE72-50E3-4B77-8D79-25983FE9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631D8-4628-4A4D-A12E-45928A39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5F25-B5C2-4090-9864-22CC8A2D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3A0E-5924-4DE4-BB3D-FEEED35C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DE1E-E474-4FCB-A083-07A301CB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2619-C657-45B3-89B0-84504F8A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3015E-67B9-4522-BA99-9D307FBE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389F5-C0A9-400D-8379-89A3C185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101-CEE9-4F78-8101-877959F0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39A10-45CD-4884-A597-8B53642B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79F1-36DC-4EA5-B708-FABEA2B8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42FC4-8947-4538-806F-6453C351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C4E8B-5558-460D-851F-709B13D8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2B479-1DDC-44A0-9FED-F0330EDD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06BEC-BB24-4F1D-A590-638CAC24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33597-3A62-44F0-9643-E0B531F1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41B9-3AF5-4DD6-BB56-44684721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A3B9-E4A8-4D66-9F28-7286F361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B38-5609-4360-B0AC-51B246B5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B9C-C71D-480B-834F-36F075E8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143-DDCA-455C-95B7-379AA52D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61E-EAAD-47B5-8EF5-B367271A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A9D-865B-432F-8022-8C2888E9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D01A-B79C-4D60-82A7-22A27E00010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FACD-66F7-45FB-A56A-78039450535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047A-D3B6-4C2E-9525-0E023C16FBA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1451-EA7F-41E6-839E-7AEF5DBF386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5"/>
          <p:cNvSpPr/>
          <p:nvPr/>
        </p:nvSpPr>
        <p:spPr>
          <a:xfrm>
            <a:off x="152280" y="17524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905120" y="906480"/>
            <a:ext cx="502920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: 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52280" y="19051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Meiosis and sexual life cy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28600" y="255744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the sexual reproduc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كاثر الجنس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rocess, two gametes fuse during fertilization to produce a zyg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eiosis is a specialized type of cell division which reduces the chromosome number by half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reduces chromosome number from diploid to ha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is process occurs in animals and pl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eiosis occurs only in sex gona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دد التناسلية الجنس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o form game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225360" y="1619280"/>
            <a:ext cx="8613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units that specify an organism’s inherited characteristi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hromatin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DNA-protein complex which is organized into a long thin fi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hromosom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fold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roma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hromatid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sister chromatid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h duplicated  chromosome. They contain identical copies of the chromosome’s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entromer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arrow region which the two sister chromati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connect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it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ype of cel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ivision that occurs in somatic cells and generates two identical daughter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ei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ype of cell division that occur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gonads, and yield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our non-identical daughter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048120" y="838080"/>
            <a:ext cx="30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240" y="990720"/>
            <a:ext cx="845820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ُعيد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condition by combining two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sets of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ametes, produced by meiosis, are the only haploid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443400"/>
            <a:ext cx="2583000" cy="3338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8"/>
          <p:cNvSpPr/>
          <p:nvPr/>
        </p:nvSpPr>
        <p:spPr>
          <a:xfrm>
            <a:off x="228600" y="2057400"/>
            <a:ext cx="4800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2880" indent="-272880" algn="just">
              <a:lnSpc>
                <a:spcPct val="10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Gametes undergo no divisions themselves, but fuse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ندمج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o form a diploid zygote that divides by mitosis to                                                           produce a multicellular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مجموعة 10"/>
          <p:cNvGrpSpPr/>
          <p:nvPr/>
        </p:nvGrpSpPr>
        <p:grpSpPr>
          <a:xfrm>
            <a:off x="5029200" y="2133720"/>
            <a:ext cx="3962520" cy="4647960"/>
            <a:chOff x="5029200" y="2133720"/>
            <a:chExt cx="3962520" cy="4647960"/>
          </a:xfrm>
        </p:grpSpPr>
        <p:grpSp>
          <p:nvGrpSpPr>
            <p:cNvPr id="203" name="Group 11"/>
            <p:cNvGrpSpPr/>
            <p:nvPr/>
          </p:nvGrpSpPr>
          <p:grpSpPr>
            <a:xfrm>
              <a:off x="5029200" y="2133720"/>
              <a:ext cx="3962520" cy="4647960"/>
              <a:chOff x="5029200" y="2133720"/>
              <a:chExt cx="3962520" cy="4647960"/>
            </a:xfrm>
          </p:grpSpPr>
          <p:pic>
            <p:nvPicPr>
              <p:cNvPr id="204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029200" y="2133720"/>
                <a:ext cx="3962520" cy="464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9"/>
              <p:cNvSpPr/>
              <p:nvPr/>
            </p:nvSpPr>
            <p:spPr>
              <a:xfrm>
                <a:off x="5820480" y="5720760"/>
                <a:ext cx="140040" cy="6696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0"/>
              <p:cNvSpPr/>
              <p:nvPr/>
            </p:nvSpPr>
            <p:spPr>
              <a:xfrm>
                <a:off x="6328440" y="5720760"/>
                <a:ext cx="140040" cy="6696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مستطيل 9"/>
            <p:cNvSpPr/>
            <p:nvPr/>
          </p:nvSpPr>
          <p:spPr>
            <a:xfrm>
              <a:off x="5767200" y="5434200"/>
              <a:ext cx="350640" cy="6660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52280" y="1071360"/>
            <a:ext cx="5105520" cy="63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and mitosis are preceded by the replication of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عاقب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pying the chromosome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on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dividing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i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) The first division is known a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 (a reductional divis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منصف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eparates homologous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) The second is known a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I (an equational division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(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متساو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parates sister chromati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3460-7C28-4CE0-8B4A-88EB9B808BD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838080"/>
            <a:ext cx="3828960" cy="5872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73656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phases of meiotic di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0" y="1523880"/>
            <a:ext cx="9144000" cy="4692600"/>
            <a:chOff x="0" y="1523880"/>
            <a:chExt cx="9144000" cy="4692600"/>
          </a:xfrm>
        </p:grpSpPr>
        <p:sp>
          <p:nvSpPr>
            <p:cNvPr id="213" name="Text Box 4"/>
            <p:cNvSpPr/>
            <p:nvPr/>
          </p:nvSpPr>
          <p:spPr>
            <a:xfrm>
              <a:off x="1600200" y="3297240"/>
              <a:ext cx="1563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1) Meiosis 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"/>
            <p:cNvSpPr/>
            <p:nvPr/>
          </p:nvSpPr>
          <p:spPr>
            <a:xfrm>
              <a:off x="6095880" y="329724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nstantia"/>
                </a:rPr>
                <a:t>2) Meiosis </a:t>
              </a:r>
              <a:r>
                <a:rPr b="1" lang="en-GB" sz="2000" spc="-1" strike="noStrike">
                  <a:solidFill>
                    <a:srgbClr val="ff0000"/>
                  </a:solidFill>
                  <a:latin typeface="Constantia"/>
                  <a:ea typeface="Times New Roman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10"/>
            <p:cNvGrpSpPr/>
            <p:nvPr/>
          </p:nvGrpSpPr>
          <p:grpSpPr>
            <a:xfrm>
              <a:off x="2361960" y="1773000"/>
              <a:ext cx="4564080" cy="1675080"/>
              <a:chOff x="2361960" y="1773000"/>
              <a:chExt cx="4564080" cy="1675080"/>
            </a:xfrm>
          </p:grpSpPr>
          <p:sp>
            <p:nvSpPr>
              <p:cNvPr id="216" name="Line 11"/>
              <p:cNvSpPr/>
              <p:nvPr/>
            </p:nvSpPr>
            <p:spPr>
              <a:xfrm>
                <a:off x="4711320" y="177300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2361960" y="2611080"/>
                <a:ext cx="456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3"/>
              <p:cNvSpPr/>
              <p:nvPr/>
            </p:nvSpPr>
            <p:spPr>
              <a:xfrm>
                <a:off x="2374560" y="26110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4"/>
              <p:cNvSpPr/>
              <p:nvPr/>
            </p:nvSpPr>
            <p:spPr>
              <a:xfrm>
                <a:off x="6921360" y="26110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5"/>
              <p:cNvSpPr/>
              <p:nvPr/>
            </p:nvSpPr>
            <p:spPr>
              <a:xfrm>
                <a:off x="3530520" y="2744280"/>
                <a:ext cx="2374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nstantia"/>
                    <a:ea typeface="Arial"/>
                  </a:rPr>
                  <a:t>Occurs in two step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Line 5"/>
            <p:cNvSpPr/>
            <p:nvPr/>
          </p:nvSpPr>
          <p:spPr>
            <a:xfrm>
              <a:off x="304560" y="1523880"/>
              <a:ext cx="876312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3"/>
            <p:cNvGrpSpPr/>
            <p:nvPr/>
          </p:nvGrpSpPr>
          <p:grpSpPr>
            <a:xfrm>
              <a:off x="0" y="3830760"/>
              <a:ext cx="9144000" cy="2385720"/>
              <a:chOff x="0" y="3830760"/>
              <a:chExt cx="9144000" cy="2385720"/>
            </a:xfrm>
          </p:grpSpPr>
          <p:sp>
            <p:nvSpPr>
              <p:cNvPr id="223" name="Line 18"/>
              <p:cNvSpPr/>
              <p:nvPr/>
            </p:nvSpPr>
            <p:spPr>
              <a:xfrm>
                <a:off x="6939000" y="3830760"/>
                <a:ext cx="0" cy="5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0"/>
              <p:cNvSpPr/>
              <p:nvPr/>
            </p:nvSpPr>
            <p:spPr>
              <a:xfrm>
                <a:off x="5262480" y="434808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22"/>
              <p:cNvSpPr/>
              <p:nvPr/>
            </p:nvSpPr>
            <p:spPr>
              <a:xfrm>
                <a:off x="5262480" y="43369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3"/>
              <p:cNvSpPr/>
              <p:nvPr/>
            </p:nvSpPr>
            <p:spPr>
              <a:xfrm>
                <a:off x="632952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4"/>
              <p:cNvSpPr/>
              <p:nvPr/>
            </p:nvSpPr>
            <p:spPr>
              <a:xfrm>
                <a:off x="7396200" y="4348080"/>
                <a:ext cx="0" cy="58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5"/>
              <p:cNvSpPr/>
              <p:nvPr/>
            </p:nvSpPr>
            <p:spPr>
              <a:xfrm>
                <a:off x="838692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27"/>
              <p:cNvSpPr/>
              <p:nvPr/>
            </p:nvSpPr>
            <p:spPr>
              <a:xfrm>
                <a:off x="4564080" y="5000760"/>
                <a:ext cx="140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Pro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29"/>
              <p:cNvSpPr/>
              <p:nvPr/>
            </p:nvSpPr>
            <p:spPr>
              <a:xfrm>
                <a:off x="5554800" y="5561280"/>
                <a:ext cx="1563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Meta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30"/>
              <p:cNvSpPr/>
              <p:nvPr/>
            </p:nvSpPr>
            <p:spPr>
              <a:xfrm>
                <a:off x="6710400" y="5000760"/>
                <a:ext cx="13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Ana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31"/>
              <p:cNvSpPr/>
              <p:nvPr/>
            </p:nvSpPr>
            <p:spPr>
              <a:xfrm>
                <a:off x="7637760" y="5573880"/>
                <a:ext cx="1506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Telo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2374920" y="3830760"/>
                <a:ext cx="0" cy="5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0"/>
              <p:cNvSpPr/>
              <p:nvPr/>
            </p:nvSpPr>
            <p:spPr>
              <a:xfrm>
                <a:off x="698400" y="434808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2"/>
              <p:cNvSpPr/>
              <p:nvPr/>
            </p:nvSpPr>
            <p:spPr>
              <a:xfrm>
                <a:off x="698400" y="43369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3"/>
              <p:cNvSpPr/>
              <p:nvPr/>
            </p:nvSpPr>
            <p:spPr>
              <a:xfrm>
                <a:off x="176508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24"/>
              <p:cNvSpPr/>
              <p:nvPr/>
            </p:nvSpPr>
            <p:spPr>
              <a:xfrm>
                <a:off x="2832120" y="4348080"/>
                <a:ext cx="0" cy="58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25"/>
              <p:cNvSpPr/>
              <p:nvPr/>
            </p:nvSpPr>
            <p:spPr>
              <a:xfrm>
                <a:off x="382284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27"/>
              <p:cNvSpPr/>
              <p:nvPr/>
            </p:nvSpPr>
            <p:spPr>
              <a:xfrm>
                <a:off x="0" y="5000760"/>
                <a:ext cx="140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Pro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990360" y="5561280"/>
                <a:ext cx="156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Meta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30"/>
              <p:cNvSpPr/>
              <p:nvPr/>
            </p:nvSpPr>
            <p:spPr>
              <a:xfrm>
                <a:off x="2146320" y="5000760"/>
                <a:ext cx="13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Ana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31"/>
              <p:cNvSpPr/>
              <p:nvPr/>
            </p:nvSpPr>
            <p:spPr>
              <a:xfrm>
                <a:off x="3073320" y="5573880"/>
                <a:ext cx="150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Telo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52280" y="1676520"/>
            <a:ext cx="8686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ior to meiosis, chromosome duplication occurs during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interphase stage in order to double the sister chromatid pai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uring prophas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Homologous chromosomes (tetrad)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Arial"/>
              </a:rPr>
              <a:t>الكروموسومات المتماثل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air up by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naptonemal complex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a proces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nap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pair of homologous chromosomes is known as a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bivalent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etr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pairs of chromosomes consist of four chromatids, with one chromosome coming from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rossing ov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etween homologous chromosomes occurs and DNA is exchanged between the bivalents in a proces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omolog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recombin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638360" y="838080"/>
            <a:ext cx="590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phases of meiosi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0A3D-B44C-494B-A627-59D54F9DF6B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781360" y="838080"/>
            <a:ext cx="3467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rossing ov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hyd8760x_0322"/>
          <p:cNvPicPr/>
          <p:nvPr/>
        </p:nvPicPr>
        <p:blipFill>
          <a:blip r:embed="rId1"/>
          <a:srcRect l="0" t="2869" r="0" b="0"/>
          <a:stretch/>
        </p:blipFill>
        <p:spPr>
          <a:xfrm>
            <a:off x="1523880" y="1905120"/>
            <a:ext cx="601992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52280" y="12664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27288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. At metaphas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mologous pairs of chromosomes, not individual chromosomes are aligned along the metaphase pla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728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humans, you would se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etra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. At anaphas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mologous chromosomes, not sister chromatids are separated from each other, but the sister chromatids remain attached to each other at the centromeres until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naphase I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cesses during the second meiotic division (meiosis II) are identical to those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E2C0-A7AE-473C-A192-37DA0E48244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8CF5-82B2-4B5B-B130-D4015F94FFE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98360" y="990720"/>
            <a:ext cx="871704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6C3A-6708-44F1-82FD-D0FF0445D81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rcRect l="0" t="9173" r="0" b="6302"/>
          <a:stretch/>
        </p:blipFill>
        <p:spPr>
          <a:xfrm>
            <a:off x="0" y="1752480"/>
            <a:ext cx="9144000" cy="4400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76320" y="914400"/>
            <a:ext cx="8991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Constantia"/>
                <a:ea typeface="Arial"/>
              </a:rPr>
              <a:t>Comparison between mitosis and meio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52280" y="16002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Dell</cp:lastModifiedBy>
  <dcterms:modified xsi:type="dcterms:W3CDTF">2015-09-30T14:08:12Z</dcterms:modified>
  <cp:revision>197</cp:revision>
  <dc:subject/>
  <dc:title>Slide 1</dc:title>
</cp:coreProperties>
</file>