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BE1-7B75-4501-8327-981D57C3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D71-621D-40AA-A7AF-FD2B4461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055-935E-41CA-8474-CAD1666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DD4-1C6A-4494-A8A3-84DFC2AB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650-1BB9-4E43-AD98-E33180BC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9D3A-D830-4AA5-BF6D-9FB3FA89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D573-62F6-4924-B87B-37EC6DF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E7DE-D40C-485D-8EEF-6D2FF0F7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BAF-C58B-4458-80F6-BD8EF2F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895-8BAE-411A-A1B1-D70E7D6B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CE4-887D-41C3-BB19-6642546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596-F7D4-4B56-BA36-5E07C6C4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13C8-B7D8-459D-A021-FFE1D6F2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D71-4F16-4007-B5A0-6A7C6F1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803-0A02-4E7F-898D-7BAC9231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950-AE21-4987-8619-079E6760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F509-9832-4EFB-B6FE-71DB5664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5088-85B8-4262-9547-658A85C4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8AAC-22F0-447A-9CE2-E5AB1ABA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6426-4013-4667-8F16-C8D9457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7CD2-E22F-49F4-B47E-787D5CFE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F2A0-C5E5-4E47-9222-781BC31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71C-871F-4E11-8CAE-A12B0F4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B3CF-8BF3-4E06-BD2F-B4FD341F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1418-D9CB-4C8F-8AE7-862DCD5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00AB-39AD-48C9-944B-27F2C6C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A930-E9D1-4594-B7F4-DDB9857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1553-F6C4-4216-8029-F992A98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8A11-520D-44F8-96C2-7478F60D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0362-7061-41F9-B8A5-6C94942A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732F-1C06-4A73-81D1-F3A47529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C2AA-EDB6-4310-9783-8E887AF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A68E-2612-4AE7-9CE8-6538B30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A78-7AA1-4DBC-89A9-F772B041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2EC2-D915-4A37-A6BA-6839ADEA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B71A-1351-4085-8252-9469652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4F52-3F9B-40DC-931F-6DA49FE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4CAF1-84D0-47AD-B141-134D5D3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947D-15E7-4AD9-9D6B-84040397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D487-3839-4BEB-B6DF-12B7CDF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8268-8572-418C-8661-B211C27C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C89A-74EF-4C09-A44E-089A033B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5633-F17B-4D38-8DA7-B4A2545C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069-F6C7-4DA9-8335-725B7BB8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C00-E80F-4414-B6CA-0F4BD5F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006-814F-4B89-95C3-43F53FFF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EBA-1502-405E-A84C-4BD8160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8C2-58B5-4235-B612-A73BD047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47D-D67A-4CEC-A6EC-20FE0041FCB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152-4F13-4A35-8383-512B7828B90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340A-2663-4316-9EA7-5D7D8454205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37F9-FB41-4A8F-A77F-1E88D9C0D11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05120" y="906480"/>
            <a:ext cx="5029200" cy="143460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r>
              <a:rPr b="1" lang="en-GB" sz="4400" spc="-1" strike="noStrike">
                <a:solidFill>
                  <a:srgbClr val="ff0000"/>
                </a:solidFill>
                <a:latin typeface="Constantia"/>
                <a:ea typeface="Arial"/>
              </a:rPr>
              <a:t>: 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52280" y="19051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Meiosis and sexual life cy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8600" y="255744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the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cess, two gametes fus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ندم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uring fertilization to produce a zyg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is a specialized type of cell division which reduces the chromosome number by half 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educes chromosome number from diploid to 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is process occurs in animals and pl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eiosis occurs only in sex gon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تناسلية الجن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game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5360" y="1619280"/>
            <a:ext cx="8613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units that specify an organism’s inherited characteristi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n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DNA-protein complex which is organized into a long thin fi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osom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fold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a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hromatid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sister chromatid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h duplicated  chromosome. They contain identical copies of the chromosome’s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entromere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narrow region which the two sister chromat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connect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it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that occurs in somatic cells and generates two identical daughte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Mei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type of cell division that occur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gonads, and yield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non-identical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048120" y="838080"/>
            <a:ext cx="30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240" y="990720"/>
            <a:ext cx="84582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يُعي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dition by combining two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sets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metes, produced by meiosis, are the only haploid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443400"/>
            <a:ext cx="2583000" cy="3338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8"/>
          <p:cNvSpPr/>
          <p:nvPr/>
        </p:nvSpPr>
        <p:spPr>
          <a:xfrm>
            <a:off x="228600" y="2057400"/>
            <a:ext cx="4800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0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ametes undergo no divisions themselves, but fuse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ندم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form a diploid zygote that divides by mitosis to                                                           produce a multicellular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0"/>
          <p:cNvGrpSpPr/>
          <p:nvPr/>
        </p:nvGrpSpPr>
        <p:grpSpPr>
          <a:xfrm>
            <a:off x="5029200" y="2133720"/>
            <a:ext cx="3962520" cy="4647960"/>
            <a:chOff x="5029200" y="2133720"/>
            <a:chExt cx="3962520" cy="4647960"/>
          </a:xfrm>
        </p:grpSpPr>
        <p:grpSp>
          <p:nvGrpSpPr>
            <p:cNvPr id="203" name="Group 11"/>
            <p:cNvGrpSpPr/>
            <p:nvPr/>
          </p:nvGrpSpPr>
          <p:grpSpPr>
            <a:xfrm>
              <a:off x="5029200" y="2133720"/>
              <a:ext cx="3962520" cy="4647960"/>
              <a:chOff x="5029200" y="2133720"/>
              <a:chExt cx="3962520" cy="4647960"/>
            </a:xfrm>
          </p:grpSpPr>
          <p:pic>
            <p:nvPicPr>
              <p:cNvPr id="204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029200" y="2133720"/>
                <a:ext cx="396252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9"/>
              <p:cNvSpPr/>
              <p:nvPr/>
            </p:nvSpPr>
            <p:spPr>
              <a:xfrm>
                <a:off x="582048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6328440" y="5720760"/>
                <a:ext cx="140040" cy="6696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مستطيل 9"/>
            <p:cNvSpPr/>
            <p:nvPr/>
          </p:nvSpPr>
          <p:spPr>
            <a:xfrm>
              <a:off x="5767200" y="5434200"/>
              <a:ext cx="350640" cy="6660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52280" y="1071360"/>
            <a:ext cx="510552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and mitosis are preceded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سبوق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y the replication of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تال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pying the chromosome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o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dividing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i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The first division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 (a reductional di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نصف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eparates homologous chrom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5252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The second is known a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ios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II (an equational divis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Times New Roman"/>
              </a:rPr>
              <a:t>(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سام المتساو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parates sister chromati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79D-2E31-4C18-B42D-BEFEE5801D8C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838080"/>
            <a:ext cx="3828960" cy="587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3656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tic divis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0" y="1523880"/>
            <a:ext cx="9144000" cy="4692600"/>
            <a:chOff x="0" y="1523880"/>
            <a:chExt cx="9144000" cy="4692600"/>
          </a:xfrm>
        </p:grpSpPr>
        <p:sp>
          <p:nvSpPr>
            <p:cNvPr id="213" name="Text Box 4"/>
            <p:cNvSpPr/>
            <p:nvPr/>
          </p:nvSpPr>
          <p:spPr>
            <a:xfrm>
              <a:off x="1600200" y="3297240"/>
              <a:ext cx="15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1) Meiosis 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6095880" y="3297240"/>
              <a:ext cx="167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2) Meiosis </a:t>
              </a: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  <a:ea typeface="Times New Roman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361960" y="1773000"/>
              <a:ext cx="4564080" cy="1675080"/>
              <a:chOff x="2361960" y="1773000"/>
              <a:chExt cx="4564080" cy="1675080"/>
            </a:xfrm>
          </p:grpSpPr>
          <p:sp>
            <p:nvSpPr>
              <p:cNvPr id="216" name="Line 11"/>
              <p:cNvSpPr/>
              <p:nvPr/>
            </p:nvSpPr>
            <p:spPr>
              <a:xfrm>
                <a:off x="4711320" y="177300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2361960" y="2611080"/>
                <a:ext cx="456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"/>
              <p:cNvSpPr/>
              <p:nvPr/>
            </p:nvSpPr>
            <p:spPr>
              <a:xfrm>
                <a:off x="23745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4"/>
              <p:cNvSpPr/>
              <p:nvPr/>
            </p:nvSpPr>
            <p:spPr>
              <a:xfrm>
                <a:off x="6921360" y="261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5"/>
              <p:cNvSpPr/>
              <p:nvPr/>
            </p:nvSpPr>
            <p:spPr>
              <a:xfrm>
                <a:off x="3530520" y="2744280"/>
                <a:ext cx="2374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nstantia"/>
                    <a:ea typeface="Arial"/>
                  </a:rPr>
                  <a:t>Occurs in two step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Line 5"/>
            <p:cNvSpPr/>
            <p:nvPr/>
          </p:nvSpPr>
          <p:spPr>
            <a:xfrm>
              <a:off x="304560" y="1523880"/>
              <a:ext cx="876312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3"/>
            <p:cNvGrpSpPr/>
            <p:nvPr/>
          </p:nvGrpSpPr>
          <p:grpSpPr>
            <a:xfrm>
              <a:off x="0" y="3830760"/>
              <a:ext cx="9144000" cy="2385720"/>
              <a:chOff x="0" y="3830760"/>
              <a:chExt cx="9144000" cy="2385720"/>
            </a:xfrm>
          </p:grpSpPr>
          <p:sp>
            <p:nvSpPr>
              <p:cNvPr id="223" name="Line 18"/>
              <p:cNvSpPr/>
              <p:nvPr/>
            </p:nvSpPr>
            <p:spPr>
              <a:xfrm>
                <a:off x="693900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526248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2"/>
              <p:cNvSpPr/>
              <p:nvPr/>
            </p:nvSpPr>
            <p:spPr>
              <a:xfrm>
                <a:off x="526248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3"/>
              <p:cNvSpPr/>
              <p:nvPr/>
            </p:nvSpPr>
            <p:spPr>
              <a:xfrm>
                <a:off x="63295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"/>
              <p:cNvSpPr/>
              <p:nvPr/>
            </p:nvSpPr>
            <p:spPr>
              <a:xfrm>
                <a:off x="739620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5"/>
              <p:cNvSpPr/>
              <p:nvPr/>
            </p:nvSpPr>
            <p:spPr>
              <a:xfrm>
                <a:off x="838692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27"/>
              <p:cNvSpPr/>
              <p:nvPr/>
            </p:nvSpPr>
            <p:spPr>
              <a:xfrm>
                <a:off x="4564080" y="5000760"/>
                <a:ext cx="140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Pr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29"/>
              <p:cNvSpPr/>
              <p:nvPr/>
            </p:nvSpPr>
            <p:spPr>
              <a:xfrm>
                <a:off x="5554800" y="5561280"/>
                <a:ext cx="156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Met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0"/>
              <p:cNvSpPr/>
              <p:nvPr/>
            </p:nvSpPr>
            <p:spPr>
              <a:xfrm>
                <a:off x="671040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Ana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31"/>
              <p:cNvSpPr/>
              <p:nvPr/>
            </p:nvSpPr>
            <p:spPr>
              <a:xfrm>
                <a:off x="7637760" y="5573880"/>
                <a:ext cx="150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nstantia"/>
                  </a:rPr>
                  <a:t>Telophase 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374920" y="3830760"/>
                <a:ext cx="0" cy="5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698400" y="43480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"/>
              <p:cNvSpPr/>
              <p:nvPr/>
            </p:nvSpPr>
            <p:spPr>
              <a:xfrm>
                <a:off x="698400" y="43369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3"/>
              <p:cNvSpPr/>
              <p:nvPr/>
            </p:nvSpPr>
            <p:spPr>
              <a:xfrm>
                <a:off x="176508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4"/>
              <p:cNvSpPr/>
              <p:nvPr/>
            </p:nvSpPr>
            <p:spPr>
              <a:xfrm>
                <a:off x="2832120" y="4348080"/>
                <a:ext cx="0" cy="58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25"/>
              <p:cNvSpPr/>
              <p:nvPr/>
            </p:nvSpPr>
            <p:spPr>
              <a:xfrm>
                <a:off x="3822840" y="4348080"/>
                <a:ext cx="0" cy="117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0" y="5000760"/>
                <a:ext cx="140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Pr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990360" y="5561280"/>
                <a:ext cx="15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Met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30"/>
              <p:cNvSpPr/>
              <p:nvPr/>
            </p:nvSpPr>
            <p:spPr>
              <a:xfrm>
                <a:off x="2146320" y="5000760"/>
                <a:ext cx="13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Ana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31"/>
              <p:cNvSpPr/>
              <p:nvPr/>
            </p:nvSpPr>
            <p:spPr>
              <a:xfrm>
                <a:off x="3073320" y="5573880"/>
                <a:ext cx="150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Constantia"/>
                  </a:rPr>
                  <a:t>Telophase 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280" y="1676520"/>
            <a:ext cx="868680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339933"/>
              </a:buClr>
              <a:buSzPct val="140000"/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ior to meiosis, chromosome duplication occurs during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the interphase stage in order to double the sister chromatid pai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ff0000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uring pro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omologous chromosomes (tetrad)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كروموسومات المتماثل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air up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tonemal complex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protein structure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na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pair of homologous chromosomes is known as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bivalent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etr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airs of chromosomes consist of four chromatids, with one chromosome coming 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43080" algn="just">
              <a:lnSpc>
                <a:spcPct val="13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homologous chromosomes occurs and DNA is exchanged between the bivalents in a proces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omolo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recombina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638360" y="838080"/>
            <a:ext cx="590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e phases of meiosi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5CA-810F-44C8-B5DB-C7A755A7BDE5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781360" y="838080"/>
            <a:ext cx="3467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rossing ov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hyd8760x_0322"/>
          <p:cNvPicPr/>
          <p:nvPr/>
        </p:nvPicPr>
        <p:blipFill>
          <a:blip r:embed="rId1"/>
          <a:srcRect l="0" t="2869" r="0" b="0"/>
          <a:stretch/>
        </p:blipFill>
        <p:spPr>
          <a:xfrm>
            <a:off x="1523880" y="19051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2664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. At met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pairs of chromosomes, not individual chromosomes are aligned along the metaphase pla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728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humans, you would se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etra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. At anaphas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mologous chromosomes, not sister chromatids are separated from each other, but the sister chromatids remain attached to each other at the centromeres until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3972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rocesses during the second meiotic division (meiosis II) are identical to those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FF2-928E-457A-A380-22D5C109725D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5F7E-7E9E-4D24-86F0-5FF5C1157B41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98360" y="990720"/>
            <a:ext cx="87170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2133-F6B4-48D9-BB95-11FD038E1D05}" type="slidenum">
              <a:rPr b="0" lang="ar-SA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rcRect l="0" t="9173" r="0" b="6302"/>
          <a:stretch/>
        </p:blipFill>
        <p:spPr>
          <a:xfrm>
            <a:off x="0" y="175248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76320" y="9144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onstantia"/>
                <a:ea typeface="Arial"/>
              </a:rPr>
              <a:t>Comparison between mitosis and meio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52280" y="16002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Mohammed Albeshr</cp:lastModifiedBy>
  <dcterms:modified xsi:type="dcterms:W3CDTF">2017-10-16T21:05:32Z</dcterms:modified>
  <cp:revision>200</cp:revision>
  <dc:subject/>
  <dc:title>Slide 1</dc:title>
</cp:coreProperties>
</file>