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DE2-F488-4E0B-97B0-537FBF55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B72-B8B4-439A-8EAD-AB187B8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AAC-B2CA-43AE-9E87-ADAE071F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DEE-D764-4B37-A620-DF52906B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9C0-E2A7-497A-AA53-3228A33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F26-CCBB-425F-A92B-72110FD9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3F56-3BAA-463E-BCF2-7EDF309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B160-C718-4909-A827-9EC7977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A43-94D7-402A-83B2-0D57A0FC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7C1-AD78-4A44-B36C-99B3B44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E37-F825-4B01-86B1-94B5FE7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453-6272-4007-BF1D-1FDA51E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4FB4-BA03-493B-AAFF-3412FF76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E90-A122-44DE-9AAD-0FA9188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A1CC-C74D-4B4B-B8FD-31E921C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CCA7-74F2-4ECD-87FB-91A0AD52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CB56-A71C-47D8-B82F-5BF99F0E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A707-2123-4A1A-B1CC-125BB9DF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19F3-1759-439C-9DBF-5FAB664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70BF-2361-4D62-B0B1-302D89C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B62C-5BCC-410A-9A99-5176192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2A18-9EA2-44FC-8FEC-F633FE5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53B-FDC5-41A5-B192-76844718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1CE1-5B0B-4C9A-9D6D-06EAACE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B335-E465-41D6-9FEE-94E30B5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F18F-0DA0-426F-9382-FC0405EA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444B-AF7B-4CDD-8496-E2EA090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C137-5B30-475E-B133-504AE9F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E391-AC01-4C95-8359-D9B87C12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6A4F-1E42-40EC-8C8C-D11AA367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08E1-E31C-47CD-95D3-AA7E5C33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D92F-FF79-4374-816E-8C4223B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5D56-9910-4E1F-9DD0-AC04FED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DDE-618F-45C8-8DB8-8DB0A951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6CEE-B56F-4E5A-86ED-4BF28F80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5343-CF49-408F-866A-C4B3717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3ABF6-DBEC-47AD-9750-6FE3A32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724E-66EF-4BAF-BA62-678ECB7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58B7-3C13-45ED-81D4-E026649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B019-3FCD-4C45-B050-CF09682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8F57-5251-462C-AEB6-4E7D19E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131F-225B-4A1F-BF18-E43DA4B7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8301-0989-4435-B0E0-B4E0343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CE3-2FAB-48C6-B100-4E3865ED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3FA-9BD0-4A16-ABC1-0CA74F8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DC7-43AD-4822-9670-CA8C27C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9A3-FE92-42CB-B510-FBF9DB7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133-E046-4417-A97C-8670DA4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8A0D-3C3E-45CF-B255-2388E80AD3A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B16-9012-4CE9-9AF2-3242EE8642E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BE35-FF57-410D-B5F5-C243296916C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6EC-7690-4F62-B6C7-84BF8B30B3A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05120" y="906480"/>
            <a:ext cx="50292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52280" y="1905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Meiosis and sexual life cy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55744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cess, two gametes fus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ندم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uring fertilization to produce a zyg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is a specialized type of cell division which reduces the chromosome number by half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educes chromosome number from diploid to 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is process occurs in animals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occurs only in sex gon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تناسلية الجن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game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5360" y="1619280"/>
            <a:ext cx="8613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units that specify an organism’s inherited characteris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n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DNA-protein complex which is organized into a long thin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osom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fold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d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sister chromat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h duplicated  chromosome. They contain 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entromer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ich the two sister chromat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connect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that occurs in somatic cells and generates two identical daught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ei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 division that occur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gonads, and yield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non-identical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048120" y="838080"/>
            <a:ext cx="30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990720"/>
            <a:ext cx="84582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ُعي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dition by combining two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t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metes, produced by meiosis, are the only haploid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443400"/>
            <a:ext cx="2583000" cy="3338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228600" y="2057400"/>
            <a:ext cx="4800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0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ametes undergo no divisions themselves, but fus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ندم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a diploid zygote that divides by mitosis to                                                           produce a multicellular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0"/>
          <p:cNvGrpSpPr/>
          <p:nvPr/>
        </p:nvGrpSpPr>
        <p:grpSpPr>
          <a:xfrm>
            <a:off x="5029200" y="2133720"/>
            <a:ext cx="3962520" cy="4647960"/>
            <a:chOff x="5029200" y="2133720"/>
            <a:chExt cx="3962520" cy="4647960"/>
          </a:xfrm>
        </p:grpSpPr>
        <p:grpSp>
          <p:nvGrpSpPr>
            <p:cNvPr id="203" name="Group 11"/>
            <p:cNvGrpSpPr/>
            <p:nvPr/>
          </p:nvGrpSpPr>
          <p:grpSpPr>
            <a:xfrm>
              <a:off x="5029200" y="2133720"/>
              <a:ext cx="3962520" cy="4647960"/>
              <a:chOff x="5029200" y="2133720"/>
              <a:chExt cx="3962520" cy="46479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029200" y="2133720"/>
                <a:ext cx="396252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9"/>
              <p:cNvSpPr/>
              <p:nvPr/>
            </p:nvSpPr>
            <p:spPr>
              <a:xfrm>
                <a:off x="582048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632844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مستطيل 9"/>
            <p:cNvSpPr/>
            <p:nvPr/>
          </p:nvSpPr>
          <p:spPr>
            <a:xfrm>
              <a:off x="5767200" y="5434200"/>
              <a:ext cx="350640" cy="6660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280" y="1071360"/>
            <a:ext cx="510552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and mitosis are preceded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سبوق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replication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ت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pying the chromosome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dividing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i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The first division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 (a reductional di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نصف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parates homologous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The second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 (an equational divis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(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تساو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parates sister chromati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86A5-E61E-4124-BFFA-0E82D69E2389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838080"/>
            <a:ext cx="3828960" cy="587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3656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1523880"/>
            <a:ext cx="9144000" cy="4692600"/>
            <a:chOff x="0" y="1523880"/>
            <a:chExt cx="9144000" cy="4692600"/>
          </a:xfrm>
        </p:grpSpPr>
        <p:sp>
          <p:nvSpPr>
            <p:cNvPr id="213" name="Text Box 4"/>
            <p:cNvSpPr/>
            <p:nvPr/>
          </p:nvSpPr>
          <p:spPr>
            <a:xfrm>
              <a:off x="1600200" y="3297240"/>
              <a:ext cx="15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1) Meiosis 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6095880" y="329724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2) Meiosis </a:t>
              </a: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361960" y="1773000"/>
              <a:ext cx="4564080" cy="1675080"/>
              <a:chOff x="2361960" y="1773000"/>
              <a:chExt cx="4564080" cy="1675080"/>
            </a:xfrm>
          </p:grpSpPr>
          <p:sp>
            <p:nvSpPr>
              <p:cNvPr id="216" name="Line 11"/>
              <p:cNvSpPr/>
              <p:nvPr/>
            </p:nvSpPr>
            <p:spPr>
              <a:xfrm>
                <a:off x="4711320" y="17730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2361960" y="2611080"/>
                <a:ext cx="456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>
                <a:off x="23745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69213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3530520" y="2744280"/>
                <a:ext cx="2374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nstantia"/>
                    <a:ea typeface="Arial"/>
                  </a:rPr>
                  <a:t>Occurs in two ste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Line 5"/>
            <p:cNvSpPr/>
            <p:nvPr/>
          </p:nvSpPr>
          <p:spPr>
            <a:xfrm>
              <a:off x="304560" y="1523880"/>
              <a:ext cx="87631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"/>
            <p:cNvGrpSpPr/>
            <p:nvPr/>
          </p:nvGrpSpPr>
          <p:grpSpPr>
            <a:xfrm>
              <a:off x="0" y="3830760"/>
              <a:ext cx="9144000" cy="2385720"/>
              <a:chOff x="0" y="3830760"/>
              <a:chExt cx="9144000" cy="2385720"/>
            </a:xfrm>
          </p:grpSpPr>
          <p:sp>
            <p:nvSpPr>
              <p:cNvPr id="223" name="Line 18"/>
              <p:cNvSpPr/>
              <p:nvPr/>
            </p:nvSpPr>
            <p:spPr>
              <a:xfrm>
                <a:off x="693900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526248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2"/>
              <p:cNvSpPr/>
              <p:nvPr/>
            </p:nvSpPr>
            <p:spPr>
              <a:xfrm>
                <a:off x="526248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3"/>
              <p:cNvSpPr/>
              <p:nvPr/>
            </p:nvSpPr>
            <p:spPr>
              <a:xfrm>
                <a:off x="63295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"/>
              <p:cNvSpPr/>
              <p:nvPr/>
            </p:nvSpPr>
            <p:spPr>
              <a:xfrm>
                <a:off x="739620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5"/>
              <p:cNvSpPr/>
              <p:nvPr/>
            </p:nvSpPr>
            <p:spPr>
              <a:xfrm>
                <a:off x="83869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7"/>
              <p:cNvSpPr/>
              <p:nvPr/>
            </p:nvSpPr>
            <p:spPr>
              <a:xfrm>
                <a:off x="4564080" y="5000760"/>
                <a:ext cx="140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Pr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9"/>
              <p:cNvSpPr/>
              <p:nvPr/>
            </p:nvSpPr>
            <p:spPr>
              <a:xfrm>
                <a:off x="5554800" y="5561280"/>
                <a:ext cx="15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Met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0"/>
              <p:cNvSpPr/>
              <p:nvPr/>
            </p:nvSpPr>
            <p:spPr>
              <a:xfrm>
                <a:off x="671040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An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1"/>
              <p:cNvSpPr/>
              <p:nvPr/>
            </p:nvSpPr>
            <p:spPr>
              <a:xfrm>
                <a:off x="7637760" y="5573880"/>
                <a:ext cx="150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Tel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37492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69840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"/>
              <p:cNvSpPr/>
              <p:nvPr/>
            </p:nvSpPr>
            <p:spPr>
              <a:xfrm>
                <a:off x="69840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3"/>
              <p:cNvSpPr/>
              <p:nvPr/>
            </p:nvSpPr>
            <p:spPr>
              <a:xfrm>
                <a:off x="176508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4"/>
              <p:cNvSpPr/>
              <p:nvPr/>
            </p:nvSpPr>
            <p:spPr>
              <a:xfrm>
                <a:off x="283212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5"/>
              <p:cNvSpPr/>
              <p:nvPr/>
            </p:nvSpPr>
            <p:spPr>
              <a:xfrm>
                <a:off x="382284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0" y="5000760"/>
                <a:ext cx="140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Pr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990360" y="5561280"/>
                <a:ext cx="15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Met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214632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An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3073320" y="5573880"/>
                <a:ext cx="150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Tel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280" y="1676520"/>
            <a:ext cx="868680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or to meiosis, chromosome duplication occurs duri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interphase stage in order to double the sister chromatid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uring pro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omologous chromosomes (tetrad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كروموسومات المتماثل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ir up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tonemal complex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rotein structure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ir of homologous chromosomes is known as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bivalent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etr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airs of chromosomes consist of four chromatids, with one chromosome coming 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homologous chromosomes occurs and DNA is exchanged between the bivalents 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omolo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ombin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638360" y="838080"/>
            <a:ext cx="590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si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939-DB09-4938-9CCB-5BE7187BD945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781360" y="838080"/>
            <a:ext cx="3467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hyd8760x_0322"/>
          <p:cNvPicPr/>
          <p:nvPr/>
        </p:nvPicPr>
        <p:blipFill>
          <a:blip r:embed="rId1"/>
          <a:srcRect l="0" t="2869" r="0" b="0"/>
          <a:stretch/>
        </p:blipFill>
        <p:spPr>
          <a:xfrm>
            <a:off x="1523880" y="19051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2664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. At met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pairs of chromosomes, not individual chromosomes are aligned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humans, you would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etra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. At an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chromosomes, not sister chromatids are separated from each other, but the sister chromatids remain attached to each other at the centromeres until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es during the second meiotic division (meiosis II) are identical to those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06B-FB4C-4DDB-A63B-E1015BE507D8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52B-25D8-4732-8B15-ED7D442EC1FC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98360" y="990720"/>
            <a:ext cx="87170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054B-EC60-4811-A78C-2D42B0E0A851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rcRect l="0" t="9173" r="0" b="6302"/>
          <a:stretch/>
        </p:blipFill>
        <p:spPr>
          <a:xfrm>
            <a:off x="0" y="175248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76320" y="9144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mitosis and meio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52280" y="16002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Mohammed Albeshr</cp:lastModifiedBy>
  <dcterms:modified xsi:type="dcterms:W3CDTF">2017-10-16T21:05:32Z</dcterms:modified>
  <cp:revision>200</cp:revision>
  <dc:subject/>
  <dc:title>Slide 1</dc:title>
</cp:coreProperties>
</file>