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017-335C-4ECB-B64C-C19AB033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24F-029E-4396-B79E-D1832ACB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F71-6811-4148-9FD7-1121800E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E73-0956-47F7-8F52-06D8B6FC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5B65-D3B7-4306-856C-957FA2A9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4343-ED00-4229-8FCE-5A12B158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9CE8-DB8D-4561-970C-34C52382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6084-559B-4EFE-9A76-C37920EA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46A9-2CBE-4F21-A06C-FA2C7FF6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4A2E-7850-46A5-B624-11D2F60F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C16C-1D5E-4025-9A06-4BF8DA0A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C64-23D8-4D47-B770-565A5870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A328-297C-4D6F-ACAB-6BFCD02A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02EA-2CFE-4379-91EA-C2B85865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6423-1190-4255-94E7-D8A7DEA7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0ED5-CCB9-4108-982C-470AA217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7D55-C0A8-4D27-AAB2-1C6203F5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8DB5-B6DE-4970-8324-A905DC28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9EDC-A001-4D6F-ADEA-F2CC015C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F739-EC9C-40DB-81C7-1FF31484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DF0E-0ECD-4EDF-9EDD-D8459D9E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8BEF-FA14-4238-8127-5589FC95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93D-5012-4966-8018-9084EB4C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7138-886C-4B16-8353-4D08B04E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43CD-02B4-4884-8B76-D0B6C2FE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5556-EF35-4C74-A982-F9C1755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CB83-1EFC-4765-A9F7-98B09273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D9C9-C21A-42E3-A634-41C151D5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176D-A697-4C50-BA22-4B1CDDB0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E8F6-1A55-4358-9720-9A04F9B9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7C880-7199-49E6-ADD1-20E75D7E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AE6D-FED2-4A6E-826F-C55FE41C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D5B3-ACC4-42FE-BE91-9E57C2E7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DA2-6839-4FA3-A4E2-00999D7C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53CB-AC31-451A-BADB-4A865D06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DA9A5-30E5-43BA-8957-373B7DD2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27E6-8FE6-420B-9CFB-71BDC473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5D970-1C3C-408F-8858-8CF114C8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2009-97E0-49F0-AA63-ECCE8936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F704-B12F-486D-99AD-173D3194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1190-A80C-4A5E-B098-C92634C0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97EA-8E03-4EFA-91B3-10C273F5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4710-D765-46A7-9D7D-DCCD73BF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E51-78D3-4657-A556-FFA5F32D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EB6-0CB3-4252-8639-130FDBAD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608-4039-4A96-8B84-7DBA9543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7DC-3236-48D6-840E-6B4056A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A18-A60B-430D-B7F0-EFD823AF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90A9-7631-4DC9-84D6-5FD9665CE68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9BDC-35A3-4CCB-BEB9-1EDCEBCED6A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894-BE04-4F0B-934E-3F3E515A2C4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1207-7201-4F4F-B389-DA8A5FEED3E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شبه الخطو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A074-A020-48D6-95B3-84403292837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81080" y="590400"/>
            <a:ext cx="701064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A2C5-872B-40DA-A4FE-4EF308F7661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FA3F-CB49-4598-8137-53FB714A573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3653-9099-44FB-8659-8329082FCEF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User</cp:lastModifiedBy>
  <dcterms:modified xsi:type="dcterms:W3CDTF">2015-10-12T19:03:18Z</dcterms:modified>
  <cp:revision>118</cp:revision>
  <dc:subject/>
  <dc:title>Slide 1</dc:title>
</cp:coreProperties>
</file>