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F1D-C271-49E6-95DF-F92D745C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F5E-9418-493A-8653-AB0FBC4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4B5-29AF-48E5-A07D-77CF6C26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402-5D39-4FAC-A5BF-B5DDE51C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16DC-9F71-41E5-BA1A-A48DA1CF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0B0B-F4C0-47D1-8C45-26D177E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19BB-B7A0-47AF-809F-C10982E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031-A610-49D0-99AC-4EB3A4B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2172-52D9-461D-B33E-A8529EEF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0718-D9C3-4D24-B312-99EE0AD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AD1-5C32-4D46-A0FA-447412C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B4C-53C0-45D7-BF0E-6CAE3D9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A8B-9872-4A93-AF68-476EACB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5618-6610-4793-BC6F-5A71F91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3E43-DC9D-4958-A5F1-F42E28F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3C0C-FE98-4D3F-9BD1-C298D277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26C-93DF-47B9-90A9-1C2FE901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F57F-D802-4753-BBFE-1F0BE4B4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12F1-EC18-4D7D-B6D7-D6B051F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BC23-0AE8-4FBE-877E-DAC93DDE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D7C0-9216-4952-81DF-C249AB42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DCE0-B002-45EF-B128-359827F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1C0-264C-4784-9A9F-A975DAE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ED61-0037-4015-A93E-C5AD2C4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5EE1-76C4-4145-80EE-9396A97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C96E-7065-4795-BDEA-A7F0655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7D05-8781-49B0-88FC-FC3F30A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C7F9-8DFD-44BB-BB24-5905E4F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1D9D-07F4-49A2-9ED1-C6BE68EB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9CE2-AB28-4FDA-9D01-1AFDA5B4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EF5B-7547-40C7-BAD1-EAC20632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748E-7597-4206-A036-431E9DC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AEAE-2E6B-49EA-87E9-3C53E6B5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B2F-D9DB-406C-8023-82D92C4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39A6-41C2-41AA-86C1-5DD4146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9507-E7C2-4FF5-8E2E-11259E3E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47EE-2023-4EF2-BC60-F9FB1F84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0E700-FF6A-4924-B0D5-1A79085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871B-FE3B-4400-99AD-B29811F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EF8C6-AED1-4D69-87B1-2D9ABAB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0650-347F-4CA4-BD64-DA2BF772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690B-A6A9-415A-B218-65407D78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06EE-38DD-42DA-9D12-0C1F1AED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873-57E2-42B8-9EED-754D01F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87C-B763-4490-8048-A7C33BD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2D6-4073-48D3-86D9-CCFA22BA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74E-00A5-4D91-8297-187AFA6F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ED1-ADE9-47BD-9DF9-281FA6D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0C4-E002-4C79-A47B-88A099F2646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01B-2EDE-4D36-B871-E4A96621645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536A-5BD6-4BA5-8B75-6AB0C280D60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770-FC39-4F4C-96B7-2917AB46B4F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شبه الخطو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DCBA-B462-4AF0-888B-C83AC56F27B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81080" y="590400"/>
            <a:ext cx="701064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5159-3B02-4674-B941-DB569B23EC1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0A25-8F20-4954-A913-D98F2C65A34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86F-CFF6-4619-9261-EA58BA2C22E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5-10-12T19:03:18Z</dcterms:modified>
  <cp:revision>118</cp:revision>
  <dc:subject/>
  <dc:title>Slide 1</dc:title>
</cp:coreProperties>
</file>