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C682-CE07-4EA8-A901-8A6B1DB8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B22-332C-42C6-922A-F9D75FE7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960D-0AA0-4355-800B-9B692E19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6E1E-3576-42A1-BC96-01002198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7E82-9653-45C8-9BCC-AFA723E2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5DEF-073E-48A1-9D94-C22D9870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A1AB-5C7A-417F-B101-8D540498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034C-4D05-4A76-B7E2-07A85371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7268-17AE-477B-8744-C1F35BB3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D3C6-767B-4EB4-8EA9-02E436E7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1ADA-6411-4575-97A6-55A25C60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61AB-2A29-43B6-AA6E-9A761F65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4EFD-B2F0-4A1A-91FF-945234E8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905E-8FFA-4F38-B8F3-82123255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BC3E-0136-48BB-BC77-8359E521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BB01-D02D-4B5A-87A3-870EFB47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6579-56B5-4574-B8A2-6067BA45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CFD89-055F-448D-975B-2B02C2B3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FFF9B-D5EE-4272-86A0-93279E9B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7E67B-F1DB-4143-B175-FAE7E7B5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31570-0B44-401F-9C1A-58DFC1C2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EEDDB-D533-47B9-94B7-9711B2AC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7F51-C717-40A0-8452-FFF5AAB4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32586-1C29-4ABE-BA1D-3372519C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63A1B-80C3-4553-A7FF-F9F711C5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A86FC-E8C9-40C1-9207-7337CF92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412D2-8A0A-43DA-B070-F963C719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B30CB-8DBA-4314-9AC9-3D74EB7E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44F3D-369C-469D-826D-7D0D328D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327CA-4302-4E96-9B93-8615D039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C1227-424B-4D94-81D1-8EA02FEB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2B3A0-BA06-4514-B569-C79CBDBE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E6F5C-F92A-40A4-A482-48CB3399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9224-6E97-42EB-8C41-8CCD4FC7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1541B-B6D5-47D8-9529-2B5DE89F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E32FD-1727-4B4C-9031-624AF316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2834C-4812-4664-88D2-E291ED0C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4E26B-2ED2-44CA-AF80-B19C7F4E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9773B-97F7-4AF9-AF26-C12AC450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1037B-271C-47BC-B9C8-41D841E7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89EEB-3B67-4475-BFBD-5C5400F7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FD2E9-D6BF-4405-ACDD-5098A1B8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46C15-875D-4A2B-8549-791830FC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347E-8602-4461-BE67-EFD6F5BD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371-A47A-4CE7-8A5A-1E8757DB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C653-1B7E-4246-A5FF-078F80C8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BC66-EB12-4584-92C3-CCC7C5A2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6EAA-86D1-44F4-A503-28BD4ADC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6F73-0AAE-4ABD-9997-978D41BE753E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5CE0-5F7C-4546-984D-22DCBE115D9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24F1-F674-4174-AEC6-D501E31C00E0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0EF4-FB9F-46D1-9D54-74AB6A44F76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Oval 2"/>
          <p:cNvSpPr/>
          <p:nvPr/>
        </p:nvSpPr>
        <p:spPr>
          <a:xfrm rot="18849000">
            <a:off x="437760" y="1869840"/>
            <a:ext cx="2581200" cy="208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99072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228600" y="13255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IOSIS AND SEXUAL LIF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4"/>
          <p:cNvGrpSpPr/>
          <p:nvPr/>
        </p:nvGrpSpPr>
        <p:grpSpPr>
          <a:xfrm>
            <a:off x="228600" y="2209680"/>
            <a:ext cx="8381880" cy="4495680"/>
            <a:chOff x="228600" y="2209680"/>
            <a:chExt cx="8381880" cy="4495680"/>
          </a:xfrm>
        </p:grpSpPr>
        <p:sp>
          <p:nvSpPr>
            <p:cNvPr id="200" name="Text Box 7"/>
            <p:cNvSpPr/>
            <p:nvPr/>
          </p:nvSpPr>
          <p:spPr>
            <a:xfrm>
              <a:off x="685800" y="2209680"/>
              <a:ext cx="7785000" cy="6426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cc"/>
              </a:solidFill>
              <a:miter/>
            </a:ln>
            <a:effectLst>
              <a:outerShdw dist="107932" dir="8100000" blurRad="0" rotWithShape="0">
                <a:srgbClr val="dbf5f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he Role of Meiosis in Sexual Life Cy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22"/>
            <p:cNvGrpSpPr/>
            <p:nvPr/>
          </p:nvGrpSpPr>
          <p:grpSpPr>
            <a:xfrm>
              <a:off x="228600" y="2895480"/>
              <a:ext cx="8267760" cy="3809880"/>
              <a:chOff x="228600" y="2895480"/>
              <a:chExt cx="8267760" cy="3809880"/>
            </a:xfrm>
          </p:grpSpPr>
          <p:pic>
            <p:nvPicPr>
              <p:cNvPr id="202" name="Picture 16" descr=""/>
              <p:cNvPicPr/>
              <p:nvPr/>
            </p:nvPicPr>
            <p:blipFill>
              <a:blip r:embed="rId1"/>
              <a:srcRect l="0" t="0" r="56038" b="5551"/>
              <a:stretch/>
            </p:blipFill>
            <p:spPr>
              <a:xfrm rot="16200000">
                <a:off x="2151000" y="1353960"/>
                <a:ext cx="3556080" cy="69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Rectangle 17"/>
              <p:cNvSpPr/>
              <p:nvPr/>
            </p:nvSpPr>
            <p:spPr>
              <a:xfrm>
                <a:off x="4419360" y="3047760"/>
                <a:ext cx="3122640" cy="358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4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57520" y="3225600"/>
                <a:ext cx="4038840" cy="316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Rectangle 19"/>
              <p:cNvSpPr/>
              <p:nvPr/>
            </p:nvSpPr>
            <p:spPr>
              <a:xfrm>
                <a:off x="228600" y="2895480"/>
                <a:ext cx="42670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20"/>
              <p:cNvSpPr/>
              <p:nvPr/>
            </p:nvSpPr>
            <p:spPr>
              <a:xfrm rot="5400000">
                <a:off x="-1333800" y="4762080"/>
                <a:ext cx="35812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21"/>
              <p:cNvSpPr/>
              <p:nvPr/>
            </p:nvSpPr>
            <p:spPr>
              <a:xfrm>
                <a:off x="380880" y="6400800"/>
                <a:ext cx="42670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Rectangle 23"/>
            <p:cNvSpPr/>
            <p:nvPr/>
          </p:nvSpPr>
          <p:spPr>
            <a:xfrm>
              <a:off x="507960" y="3124080"/>
              <a:ext cx="8102520" cy="3352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5"/>
          <p:cNvSpPr/>
          <p:nvPr/>
        </p:nvSpPr>
        <p:spPr>
          <a:xfrm>
            <a:off x="2154240" y="152280"/>
            <a:ext cx="474048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7: Cell div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28600" y="914040"/>
            <a:ext cx="9067680" cy="9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ertilization restor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ُعيد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dipl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زوج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ondition by combining two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apl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ets of chrom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ertilization and meiosis alternate in sexual life cycle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rcRect l="0" t="0" r="54040" b="51124"/>
          <a:stretch/>
        </p:blipFill>
        <p:spPr>
          <a:xfrm>
            <a:off x="1150920" y="3886200"/>
            <a:ext cx="2239920" cy="28954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76320" y="2071800"/>
            <a:ext cx="47242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metes, produced by meiosis, are the only haploid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metes undergo no divisions themselves, but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ندم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form a diploid                                                 zygote that divides by mitosis to                                                           produce a multicellular orga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مجموعة 10"/>
          <p:cNvGrpSpPr/>
          <p:nvPr/>
        </p:nvGrpSpPr>
        <p:grpSpPr>
          <a:xfrm>
            <a:off x="5181480" y="1905120"/>
            <a:ext cx="3810240" cy="4800600"/>
            <a:chOff x="5181480" y="1905120"/>
            <a:chExt cx="3810240" cy="4800600"/>
          </a:xfrm>
        </p:grpSpPr>
        <p:grpSp>
          <p:nvGrpSpPr>
            <p:cNvPr id="214" name="Group 11"/>
            <p:cNvGrpSpPr/>
            <p:nvPr/>
          </p:nvGrpSpPr>
          <p:grpSpPr>
            <a:xfrm>
              <a:off x="5181480" y="1905120"/>
              <a:ext cx="3810240" cy="4800600"/>
              <a:chOff x="5181480" y="1905120"/>
              <a:chExt cx="3810240" cy="4800600"/>
            </a:xfrm>
          </p:grpSpPr>
          <p:pic>
            <p:nvPicPr>
              <p:cNvPr id="215" name="Picture 4" descr=""/>
              <p:cNvPicPr/>
              <p:nvPr/>
            </p:nvPicPr>
            <p:blipFill>
              <a:blip r:embed="rId2"/>
              <a:srcRect l="0" t="0" r="0" b="3357"/>
              <a:stretch/>
            </p:blipFill>
            <p:spPr>
              <a:xfrm>
                <a:off x="5181480" y="1905120"/>
                <a:ext cx="3810240" cy="480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Rectangle 9"/>
              <p:cNvSpPr/>
              <p:nvPr/>
            </p:nvSpPr>
            <p:spPr>
              <a:xfrm>
                <a:off x="5942160" y="5609880"/>
                <a:ext cx="134640" cy="6912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6431040" y="5609880"/>
                <a:ext cx="134640" cy="6912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مستطيل 9"/>
            <p:cNvSpPr/>
            <p:nvPr/>
          </p:nvSpPr>
          <p:spPr>
            <a:xfrm>
              <a:off x="5891040" y="5313600"/>
              <a:ext cx="338040" cy="69840"/>
            </a:xfrm>
            <a:prstGeom prst="rect">
              <a:avLst/>
            </a:prstGeom>
            <a:solidFill>
              <a:srgbClr val="ead4b4"/>
            </a:solidFill>
            <a:ln w="25560">
              <a:solidFill>
                <a:srgbClr val="ea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Meiosis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Reduction Division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)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إنقسام الإختزالى</a:t>
            </a:r>
            <a:r>
              <a:rPr b="1" lang="en-GB" sz="2500" spc="-1" strike="noStrike">
                <a:solidFill>
                  <a:srgbClr val="0000ff"/>
                </a:solidFill>
                <a:latin typeface="Calibri"/>
              </a:rPr>
              <a:t>       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R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educes chromosome number from diploid to haploid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: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6320" y="1820880"/>
            <a:ext cx="5486400" cy="49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ny steps of meiosis resemble steps in mitos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oth are preceded by the replication of chrom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owever, in meiosis, chromosomes replicate once followed by two consecutiv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عاقب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ell divisions,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which results in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four daughter cell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ach final daughter cell has only half chromosomes number (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haploid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eiosis reduces chromosome number by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pying the chromosomes once, but dividing twic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The first division (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eios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) separates homologous chromosom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The second (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eios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) separates sister chromat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778A-257F-4E4E-9AEF-C58D9C99D26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22860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608800" y="1523880"/>
            <a:ext cx="347796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1974960" y="585720"/>
            <a:ext cx="7022880" cy="6336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1143000" y="2514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6019920" y="2514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B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04920" y="40384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occurs mainly in sex gonads to form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Gamet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sperms and 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304920" y="46324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of the resulting cells has half number of chromosomes of the original cell (23 in human). Thus, it 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duction Divis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0"/>
          <p:cNvGrpSpPr/>
          <p:nvPr/>
        </p:nvGrpSpPr>
        <p:grpSpPr>
          <a:xfrm>
            <a:off x="2133720" y="1143000"/>
            <a:ext cx="4952880" cy="1371600"/>
            <a:chOff x="2133720" y="1143000"/>
            <a:chExt cx="4952880" cy="1371600"/>
          </a:xfrm>
        </p:grpSpPr>
        <p:sp>
          <p:nvSpPr>
            <p:cNvPr id="230" name="Line 11"/>
            <p:cNvSpPr/>
            <p:nvPr/>
          </p:nvSpPr>
          <p:spPr>
            <a:xfrm>
              <a:off x="4724280" y="1143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2"/>
            <p:cNvSpPr/>
            <p:nvPr/>
          </p:nvSpPr>
          <p:spPr>
            <a:xfrm>
              <a:off x="2133720" y="19810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4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5"/>
            <p:cNvSpPr/>
            <p:nvPr/>
          </p:nvSpPr>
          <p:spPr>
            <a:xfrm>
              <a:off x="3505320" y="198108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ccurs in two ste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228240" y="533520"/>
            <a:ext cx="891540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itosis produces two identical daughter cells, but meiosis produces 4 very different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84FE-745B-44B4-8C46-FC075CFF81F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rcRect l="0" t="0" r="0" b="4484"/>
          <a:stretch/>
        </p:blipFill>
        <p:spPr>
          <a:xfrm>
            <a:off x="152280" y="1090440"/>
            <a:ext cx="8915400" cy="5767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28240" y="985320"/>
            <a:ext cx="8381880" cy="234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    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Comparison between Mitosis and meios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chromosome number is reduced by half in meiosis, but not in mitosi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itosis produces daughter cells that are genetically identical to the parent and to each oth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eiosis produces cells that differ from the parent and each oth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52280" y="3187800"/>
            <a:ext cx="8839440" cy="34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vents, unique to meiosis, occur during the first division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During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prophas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homologous chromosomes pair up in a proces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ap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r in prophase I, the joined homologous chromosomes are visible as a tetr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X-shaped regions call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hiasm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sections of nonsister chromatids are excha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asmata is the physical manifestation of crossing over, a form of genetic rearran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0" y="1266480"/>
            <a:ext cx="9067680" cy="43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2.  At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met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homologous pairs of chromosomes, not individual chromosomes are aligned along the metaphase pla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451"/>
              </a:spcBef>
              <a:buClr>
                <a:srgbClr val="339933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humans, you would see 23 tetrad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3.  At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n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it is homologous chromosomes, not sister chromatids, that separate and are carried to opposite poles of the cell.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ister chromatids remain attached at the centromere until anaphase I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processes during the second meiotic division are virtually identical to those of mitos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D11B-EC3B-438C-A068-9BF3BA67038E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875F-12D8-4008-9C53-0FB5FC31FB0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rcRect l="0" t="0" r="0" b="6302"/>
          <a:stretch/>
        </p:blipFill>
        <p:spPr>
          <a:xfrm>
            <a:off x="0" y="1827360"/>
            <a:ext cx="9144000" cy="4878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"/>
          <p:cNvSpPr/>
          <p:nvPr/>
        </p:nvSpPr>
        <p:spPr>
          <a:xfrm>
            <a:off x="533520" y="928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omparison between Mitosis and me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65880" y="838080"/>
            <a:ext cx="77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en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ts that specify an organism’s inherited charac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69840" y="1371600"/>
            <a:ext cx="794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ati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-protein complex which is organized into a lo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thin 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76320" y="21337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osom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formed from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ensed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i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and fold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omat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76320" y="2971800"/>
            <a:ext cx="8991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atid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ister arms (chromatid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ed from 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 duplica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chromosome. They contain identical copies of the chromosome’s D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76320" y="4114800"/>
            <a:ext cx="8153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entromer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rrow region at which the chromosomal stran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are connect togre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52280" y="4800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ito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vision process which forms two daughter nuc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52280" y="5334120"/>
            <a:ext cx="8610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tokine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إنشطا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لو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the division stage of 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ytopla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usually follow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t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200400" y="2588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152280" y="6095880"/>
            <a:ext cx="8610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eio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vision process that occu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gona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ناس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yiel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our daughter 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alf the chrom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16:12:15Z</dcterms:created>
  <dc:creator>User</dc:creator>
  <dc:description/>
  <dc:language>en-US</dc:language>
  <cp:lastModifiedBy>د أشرف مشالي</cp:lastModifiedBy>
  <dcterms:modified xsi:type="dcterms:W3CDTF">2013-09-01T08:15:31Z</dcterms:modified>
  <cp:revision>115</cp:revision>
  <dc:subject/>
  <dc:title>Slide 1</dc:title>
</cp:coreProperties>
</file>