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3C2-2BD0-4F0C-B803-CCA1503F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F9F-262D-448A-BB2E-76B2877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219-4824-4FD8-B08C-7BDB9AC6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270-F9E5-4516-9DA1-08750AD1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E7B-0AFF-4A79-9589-B08B8632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C716-9126-4702-A363-E5CA5B3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226B-1159-4D87-9A39-61E0B22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E0ED-4D59-466F-A8AE-91E5CD53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32F6-6251-4A42-848B-1EE1BFB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ED74-0750-4738-9DAA-B329247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3177-4FC7-4734-A476-688351A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090-EC12-4436-BD7E-BA10603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F4C-9544-4EF1-98A3-60420CD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B60-8293-4D7E-8A3B-A5481578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4E0D-21A7-42EB-9780-744BEEF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72DC-BFCF-4F19-AB48-AFAF03E2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DAC-20F0-4073-81C1-93A3D9B0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79EE-112D-44F9-B490-11DF4D1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01A5-B6D9-486A-99FC-1731448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B708-6FB4-4EC5-9EAF-1E13E9CE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BEA7-4AAF-4215-8AA1-C08F095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106F-7263-490C-94DC-3087425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53F-F444-4DF4-B16B-42F9116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E29B-76A2-4F24-A1E8-710CAE9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1131-4785-43EA-8230-DD91C0B6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8870-236D-49BC-9D97-D2B5C06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F70E-C928-4A06-9308-B0BDF83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6685-8676-4588-BE06-CEF4090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E143-89E2-44CE-95CB-BF1E4042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D4BF-4ABC-417B-A7EB-38709F12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47D9-AB98-48A9-8A6F-E8B44CCD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B4B6-0D86-4651-ADE3-EF6838E8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183F-688D-4661-B2AB-D867155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AB0-E36C-4353-B4C5-58F0ADA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58ED-133F-4A13-8398-2D5BCBD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8693-FD0D-4032-91E8-69547DB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B36C-726A-4B5A-B185-3345A39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3138-A49C-470F-A57C-5F73043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4814-84FE-45B7-8521-B6DD505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D52A-61C8-4F33-AFF7-04311C4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97D3-9460-4678-AB0D-D356DF4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D3DA-61B8-498B-9713-BFF9174B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956C-FF86-42D2-BC5D-9671D200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FF1-BA06-4BA7-9B0F-3FC4B30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4F5-A0B6-4A72-9142-60DB2161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414-1592-48FC-80D6-028700D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D1-FFA4-491E-8541-E06311A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4BE-6140-41E0-942A-A51680E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872-6169-4B67-8898-F26A9568195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060-1708-48BC-80ED-964BB7D4912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D79-18AF-4174-B021-7A9946112E0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B827-C82A-4357-B29A-3E514DCDEDD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AF9-5CA9-400B-BA66-319975AE99D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912-4B8B-40E0-9E52-0CDF9C09E74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549-5B93-40AB-A0AA-B67CBD1E3E2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3712-8F54-4D89-9AD8-8F60821A56D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4-08-27T10:14:58Z</dcterms:modified>
  <cp:revision>115</cp:revision>
  <dc:subject/>
  <dc:title>Slide 1</dc:title>
</cp:coreProperties>
</file>