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5D65-8CD1-4BFD-8730-2FC92F740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5EE1-8367-42FD-AAE4-327194D0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3030-C2CA-481B-8029-2BD0D3748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0972-DA21-4EFF-8E65-B72910496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D702-2008-43F2-8B7C-9369032E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4FA0-3125-44C3-9257-9A1D93A3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3DBC-DE17-4706-9852-E668BAD1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1033-5F31-485E-B01C-4723A849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9E3C-21B9-469F-B260-DA326D46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04D8-8F4F-4666-A433-BD05F5A0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288D-356A-43AD-A398-F46FA58E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A3B8-B513-4119-A922-52BEAC61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81CD-BA5C-45C9-9F60-055D4408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F7F0-8B7C-4828-A27C-CF3DA87D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B079-A94B-4482-B1C2-D3764F15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9BA4-0F96-4476-AE7F-B0A0627FA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D67E-D214-4D72-B42A-EC63CBBA1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1B1D9-4C2C-4647-950C-0A52CB2A6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554AA-61A9-45D1-B349-E19968D7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7437F-7713-4796-B1BD-F0738155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24A66-3DED-47D8-8DDE-93584CB0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17FA4-B1C8-48A8-9F19-63ACFF4C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299B-0C78-46E6-8CB3-4497B77C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D554A-A730-444D-920F-10BA7364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EBB9D-4664-44D0-BF19-89DFD5A6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DA60D-8081-4836-A6DC-BD297D16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1458F-578A-459A-8F9F-6064AB7A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BC114-ADB1-4155-B4FE-689173FA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54981-13D6-415C-BD7B-0E8FEB4BC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16135-5BB0-4564-B0F6-6BB41F8F0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FDD0F-8763-400D-A4C2-AFED1E1C4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9BA26-DC1D-4D13-BF95-B41EBA92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B823A-8902-4A23-B2C9-B4920FE9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5BAE-4011-4DC1-8B8C-5044B35A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53682-38B7-4466-A4EA-86FAAE5F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E547F-62B5-4147-B2F6-52CC9FA0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2D736-5FB4-408C-8B79-A0AC5A38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E6CDD-D9F0-49B7-83A8-26A0A2C2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60410-FF3F-4227-BFDD-CCCFD2B0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D5647-CE93-4EAB-93DE-29CE9BE8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FF9EB-0B36-420C-B352-A25F29EE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0696D-C94B-4A06-937B-B13FB31D5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641D1-A0F9-4171-A3EE-FD73DA855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F881-0855-49C4-8128-59D87FC7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50C1-A3F9-4785-8551-455A36E4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3CC4-BEAA-4BEE-9577-66424A5C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A51C-42AD-4881-9436-B1CD3435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99C2-FAEA-4FB5-B2C9-27092574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74BA-7062-4D9D-892F-E2F5230843D3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1D90-69A1-45A7-B818-45CFFCC9C1F0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D9D9-1B3E-4B45-A1AA-769F2FEFE250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489B-AFE8-480A-BEAC-ED0961C02ABC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Oval 2"/>
          <p:cNvSpPr/>
          <p:nvPr/>
        </p:nvSpPr>
        <p:spPr>
          <a:xfrm rot="18849000">
            <a:off x="437760" y="1869840"/>
            <a:ext cx="2581200" cy="2085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0" y="990720"/>
            <a:ext cx="9144000" cy="1143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228600" y="13255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IOSIS AND SEXUAL LIFE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24"/>
          <p:cNvGrpSpPr/>
          <p:nvPr/>
        </p:nvGrpSpPr>
        <p:grpSpPr>
          <a:xfrm>
            <a:off x="228600" y="2209680"/>
            <a:ext cx="8381880" cy="4495680"/>
            <a:chOff x="228600" y="2209680"/>
            <a:chExt cx="8381880" cy="4495680"/>
          </a:xfrm>
        </p:grpSpPr>
        <p:sp>
          <p:nvSpPr>
            <p:cNvPr id="200" name="Text Box 7"/>
            <p:cNvSpPr/>
            <p:nvPr/>
          </p:nvSpPr>
          <p:spPr>
            <a:xfrm>
              <a:off x="685800" y="2209680"/>
              <a:ext cx="7785000" cy="64260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00cc"/>
              </a:solidFill>
              <a:miter/>
            </a:ln>
            <a:effectLst>
              <a:outerShdw dist="107932" dir="8100000" blurRad="0" rotWithShape="0">
                <a:srgbClr val="dbf5f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spcBef>
                  <a:spcPts val="1500"/>
                </a:spcBef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he Role of Meiosis in Sexual Life Cy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Group 22"/>
            <p:cNvGrpSpPr/>
            <p:nvPr/>
          </p:nvGrpSpPr>
          <p:grpSpPr>
            <a:xfrm>
              <a:off x="228600" y="2895480"/>
              <a:ext cx="8267760" cy="3809880"/>
              <a:chOff x="228600" y="2895480"/>
              <a:chExt cx="8267760" cy="3809880"/>
            </a:xfrm>
          </p:grpSpPr>
          <p:pic>
            <p:nvPicPr>
              <p:cNvPr id="202" name="Picture 16" descr=""/>
              <p:cNvPicPr/>
              <p:nvPr/>
            </p:nvPicPr>
            <p:blipFill>
              <a:blip r:embed="rId1"/>
              <a:srcRect l="0" t="0" r="56038" b="5551"/>
              <a:stretch/>
            </p:blipFill>
            <p:spPr>
              <a:xfrm rot="16200000">
                <a:off x="2151000" y="1353960"/>
                <a:ext cx="3556080" cy="694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Rectangle 17"/>
              <p:cNvSpPr/>
              <p:nvPr/>
            </p:nvSpPr>
            <p:spPr>
              <a:xfrm>
                <a:off x="4419360" y="3047760"/>
                <a:ext cx="3122640" cy="358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4" name="Picture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57520" y="3225600"/>
                <a:ext cx="4038840" cy="316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Rectangle 19"/>
              <p:cNvSpPr/>
              <p:nvPr/>
            </p:nvSpPr>
            <p:spPr>
              <a:xfrm>
                <a:off x="228600" y="2895480"/>
                <a:ext cx="426708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20"/>
              <p:cNvSpPr/>
              <p:nvPr/>
            </p:nvSpPr>
            <p:spPr>
              <a:xfrm rot="5400000">
                <a:off x="-1333800" y="4762080"/>
                <a:ext cx="358128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21"/>
              <p:cNvSpPr/>
              <p:nvPr/>
            </p:nvSpPr>
            <p:spPr>
              <a:xfrm>
                <a:off x="380880" y="6400800"/>
                <a:ext cx="426708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Rectangle 23"/>
            <p:cNvSpPr/>
            <p:nvPr/>
          </p:nvSpPr>
          <p:spPr>
            <a:xfrm>
              <a:off x="507960" y="3124080"/>
              <a:ext cx="8102520" cy="33526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Rectangle 15"/>
          <p:cNvSpPr/>
          <p:nvPr/>
        </p:nvSpPr>
        <p:spPr>
          <a:xfrm>
            <a:off x="2154240" y="152280"/>
            <a:ext cx="4740480" cy="5814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cture 7: Cell divi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228600" y="914040"/>
            <a:ext cx="9067680" cy="9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Fertilization restor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ُعيد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diploi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زوج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ondition by combining two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haploi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رد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sets of chromosom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Fertilization and meiosis alternate in sexual life cycles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9" descr=""/>
          <p:cNvPicPr/>
          <p:nvPr/>
        </p:nvPicPr>
        <p:blipFill>
          <a:blip r:embed="rId1"/>
          <a:srcRect l="0" t="0" r="54040" b="51124"/>
          <a:stretch/>
        </p:blipFill>
        <p:spPr>
          <a:xfrm>
            <a:off x="1150920" y="3886200"/>
            <a:ext cx="2239920" cy="28954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8"/>
          <p:cNvSpPr/>
          <p:nvPr/>
        </p:nvSpPr>
        <p:spPr>
          <a:xfrm>
            <a:off x="76320" y="2071800"/>
            <a:ext cx="472428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ametes, produced by meiosis, are the only haploid ce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ametes undergo no divisions themselves, but fus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تندم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o form a diploid                                                 zygote that divides by mitosis to                                                           produce a multicellular organ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مجموعة 10"/>
          <p:cNvGrpSpPr/>
          <p:nvPr/>
        </p:nvGrpSpPr>
        <p:grpSpPr>
          <a:xfrm>
            <a:off x="5181480" y="1905120"/>
            <a:ext cx="3810240" cy="4800600"/>
            <a:chOff x="5181480" y="1905120"/>
            <a:chExt cx="3810240" cy="4800600"/>
          </a:xfrm>
        </p:grpSpPr>
        <p:grpSp>
          <p:nvGrpSpPr>
            <p:cNvPr id="214" name="Group 11"/>
            <p:cNvGrpSpPr/>
            <p:nvPr/>
          </p:nvGrpSpPr>
          <p:grpSpPr>
            <a:xfrm>
              <a:off x="5181480" y="1905120"/>
              <a:ext cx="3810240" cy="4800600"/>
              <a:chOff x="5181480" y="1905120"/>
              <a:chExt cx="3810240" cy="4800600"/>
            </a:xfrm>
          </p:grpSpPr>
          <p:pic>
            <p:nvPicPr>
              <p:cNvPr id="215" name="Picture 4" descr=""/>
              <p:cNvPicPr/>
              <p:nvPr/>
            </p:nvPicPr>
            <p:blipFill>
              <a:blip r:embed="rId2"/>
              <a:srcRect l="0" t="0" r="0" b="3357"/>
              <a:stretch/>
            </p:blipFill>
            <p:spPr>
              <a:xfrm>
                <a:off x="5181480" y="1905120"/>
                <a:ext cx="3810240" cy="480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Rectangle 9"/>
              <p:cNvSpPr/>
              <p:nvPr/>
            </p:nvSpPr>
            <p:spPr>
              <a:xfrm>
                <a:off x="5942160" y="5609880"/>
                <a:ext cx="134640" cy="69120"/>
              </a:xfrm>
              <a:prstGeom prst="rect">
                <a:avLst/>
              </a:prstGeom>
              <a:solidFill>
                <a:srgbClr val="ffe2c5"/>
              </a:solidFill>
              <a:ln w="9360">
                <a:solidFill>
                  <a:srgbClr val="ffe2c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"/>
              <p:cNvSpPr/>
              <p:nvPr/>
            </p:nvSpPr>
            <p:spPr>
              <a:xfrm>
                <a:off x="6431040" y="5609880"/>
                <a:ext cx="134640" cy="69120"/>
              </a:xfrm>
              <a:prstGeom prst="rect">
                <a:avLst/>
              </a:prstGeom>
              <a:solidFill>
                <a:srgbClr val="ffe2c5"/>
              </a:solidFill>
              <a:ln w="9360">
                <a:solidFill>
                  <a:srgbClr val="ffe2c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مستطيل 9"/>
            <p:cNvSpPr/>
            <p:nvPr/>
          </p:nvSpPr>
          <p:spPr>
            <a:xfrm>
              <a:off x="5891040" y="5313600"/>
              <a:ext cx="338040" cy="69840"/>
            </a:xfrm>
            <a:prstGeom prst="rect">
              <a:avLst/>
            </a:prstGeom>
            <a:solidFill>
              <a:srgbClr val="ead4b4"/>
            </a:solidFill>
            <a:ln w="25560">
              <a:solidFill>
                <a:srgbClr val="ea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Meiosis 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Reduction Division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)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إنقسام الإختزالى</a:t>
            </a:r>
            <a:r>
              <a:rPr b="1" lang="en-GB" sz="2500" spc="-1" strike="noStrike">
                <a:solidFill>
                  <a:srgbClr val="0000ff"/>
                </a:solidFill>
                <a:latin typeface="Calibri"/>
              </a:rPr>
              <a:t>       </a:t>
            </a:r>
            <a:br>
              <a:rPr sz="2500"/>
            </a:b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R</a:t>
            </a: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educes chromosome number from diploid to haploid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: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76320" y="1820880"/>
            <a:ext cx="5486400" cy="49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any steps of meiosis resemble steps in mitosi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Both are preceded by the replication of chromosom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However, in meiosis, chromosomes replicate once followed by two consecutive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تعاقب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ell divisions,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meiosis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meiosis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which results in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four daughter cell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Each final daughter cell has only half chromosomes number (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haploid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رد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eiosis reduces chromosome number by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copying the chromosomes once, but dividing twice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00"/>
              </a:spcBef>
              <a:buClr>
                <a:srgbClr val="0000ff"/>
              </a:buClr>
              <a:buSzPct val="8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The first division (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meiosi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) separates homologous chromosome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00"/>
              </a:spcBef>
              <a:buClr>
                <a:srgbClr val="0000ff"/>
              </a:buClr>
              <a:buSzPct val="8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The second (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meiosi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) separates sister chromatid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88B0-EAA8-49D2-8752-05074B9B64E5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5"/>
          <p:cNvSpPr/>
          <p:nvPr/>
        </p:nvSpPr>
        <p:spPr>
          <a:xfrm>
            <a:off x="228600" y="1143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608800" y="1523880"/>
            <a:ext cx="3477960" cy="53341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1974960" y="585720"/>
            <a:ext cx="7022880" cy="6336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4"/>
          <p:cNvSpPr/>
          <p:nvPr/>
        </p:nvSpPr>
        <p:spPr>
          <a:xfrm>
            <a:off x="1143000" y="25146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A)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Meiosis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6019920" y="25146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B)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Meiosis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304920" y="403848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occurs mainly in sex gonads to form 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Gamet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sperms and o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304920" y="46324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ach of the resulting cells has half number of chromosomes of the original cell (23 in human). Thus, it called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Reduction Divis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10"/>
          <p:cNvGrpSpPr/>
          <p:nvPr/>
        </p:nvGrpSpPr>
        <p:grpSpPr>
          <a:xfrm>
            <a:off x="2133720" y="1143000"/>
            <a:ext cx="4952880" cy="1371600"/>
            <a:chOff x="2133720" y="1143000"/>
            <a:chExt cx="4952880" cy="1371600"/>
          </a:xfrm>
        </p:grpSpPr>
        <p:sp>
          <p:nvSpPr>
            <p:cNvPr id="230" name="Line 11"/>
            <p:cNvSpPr/>
            <p:nvPr/>
          </p:nvSpPr>
          <p:spPr>
            <a:xfrm>
              <a:off x="4724280" y="1143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2"/>
            <p:cNvSpPr/>
            <p:nvPr/>
          </p:nvSpPr>
          <p:spPr>
            <a:xfrm>
              <a:off x="2133720" y="198108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4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5"/>
            <p:cNvSpPr/>
            <p:nvPr/>
          </p:nvSpPr>
          <p:spPr>
            <a:xfrm>
              <a:off x="3505320" y="1981080"/>
              <a:ext cx="25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ccurs in two ste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amond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228240" y="533520"/>
            <a:ext cx="891540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itosis produces two identical daughter cells, but meiosis produces 4 very different cell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F12E-CFED-4FD2-9A91-3AD7EA135644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rcRect l="0" t="0" r="0" b="4484"/>
          <a:stretch/>
        </p:blipFill>
        <p:spPr>
          <a:xfrm>
            <a:off x="152280" y="1090440"/>
            <a:ext cx="8915400" cy="57675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228240" y="985320"/>
            <a:ext cx="8381880" cy="234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      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Comparison between Mitosis and meiosi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chromosome number is reduced by half in meiosis, but not in mitosi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itosis produces daughter cells that are genetically identical to the parent and to each othe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eiosis produces cells that differ from the parent and each othe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152280" y="3187800"/>
            <a:ext cx="8839440" cy="34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vents, unique to meiosis, occur during the first division cy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During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prophas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homologous chromosomes pair up in a proces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ynap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ter in prophase I, the joined homologous chromosomes are visible as a tetr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X-shaped regions calle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chiasma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sections of nonsister chromatids are exchang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iasmata is the physical manifestation of crossing over, a form of genetic rearrang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0" y="1266480"/>
            <a:ext cx="9067680" cy="43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2.  At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metaphas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homologous pairs of chromosomes, not individual chromosomes are aligned along the metaphase pla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45880">
              <a:spcBef>
                <a:spcPts val="451"/>
              </a:spcBef>
              <a:buClr>
                <a:srgbClr val="339933"/>
              </a:buClr>
              <a:buSzPct val="70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humans, you would see 23 tetrad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3.  At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anaphas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it is homologous chromosomes, not sister chromatids, that separate and are carried to opposite poles of the cell.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ister chromatids remain attached at the centromere until anaphase II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processes during the second meiotic division are virtually identical to those of mitosi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1B10-471E-4C71-B6E4-80EE44F462F5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374A-8F0E-4667-8059-F307114FB320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rcRect l="0" t="0" r="0" b="6302"/>
          <a:stretch/>
        </p:blipFill>
        <p:spPr>
          <a:xfrm>
            <a:off x="0" y="1827360"/>
            <a:ext cx="9144000" cy="48783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6"/>
          <p:cNvSpPr/>
          <p:nvPr/>
        </p:nvSpPr>
        <p:spPr>
          <a:xfrm>
            <a:off x="533520" y="9288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Comparison between Mitosis and me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"/>
          <p:cNvSpPr/>
          <p:nvPr/>
        </p:nvSpPr>
        <p:spPr>
          <a:xfrm>
            <a:off x="65880" y="838080"/>
            <a:ext cx="775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ene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nits that specify an organism’s inherited charac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69840" y="1371600"/>
            <a:ext cx="7948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hromati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NA-protein complex which is organized into a lo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thin fi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76320" y="2133720"/>
            <a:ext cx="8686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hromosom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formed from 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ensed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il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and fold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omat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76320" y="2971800"/>
            <a:ext cx="8991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hromatid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sister arms (chromatid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med from 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h duplicat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chromosome. They contain identical copies of the chromosome’s D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76320" y="4114800"/>
            <a:ext cx="8153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entromer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rrow region at which the chromosomal strand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are connect togre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52280" y="4800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itosi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division process which forms two daughter nucl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152280" y="5334120"/>
            <a:ext cx="8610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ytokinesi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إنشطار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خلو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the division stage of 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ytoplas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i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usually follow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to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3200400" y="2588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152280" y="6095880"/>
            <a:ext cx="8610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eiosi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vision process that occu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gonad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ناس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yield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our daughter cel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ach wi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alf the chrom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16:12:15Z</dcterms:created>
  <dc:creator>User</dc:creator>
  <dc:description/>
  <dc:language>en-US</dc:language>
  <cp:lastModifiedBy>User</cp:lastModifiedBy>
  <dcterms:modified xsi:type="dcterms:W3CDTF">2014-08-27T10:14:58Z</dcterms:modified>
  <cp:revision>115</cp:revision>
  <dc:subject/>
  <dc:title>Slide 1</dc:title>
</cp:coreProperties>
</file>