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2F4-9CF2-4ABD-9135-A77C39CD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AF5-5750-458B-AFF9-A7B8B33E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EB4-FB99-4420-A0F1-B87B50D5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28A-A994-48B7-AF0E-4B769305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9E3C-C776-48A0-A7F3-68CC9839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9D0-9A70-4714-B97A-CEAAC5FD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CB0-921D-4EB0-99B7-FAA1AF7C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B79A-97C6-4730-8579-A583AC8C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D9D6-2279-4F3D-92E1-F031990A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D406-58F6-49C0-9CBC-CCF8F94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E6F-7901-4CCD-9BE0-3398D25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B76-7614-400C-BAC6-5C2BE2FE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4B67-5BA7-482E-8C93-9739847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4EF4-560F-46F6-8430-F268B00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A321-6153-40DC-8A78-97AE22D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EF60-7B63-4A6B-8DF5-B5C0668A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356-E5C9-45D8-8CD2-A8F69F00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5CE7-F9BC-4305-AD1D-1CA26B6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0DB8-E3E0-47A9-96F5-25797FC6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005C-C69B-49CC-A645-3ADBB94C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9DAD-CB66-4CFE-9FF4-62CBCB41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5B2B-9EC3-4A54-9E26-38C691B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F2B-240D-48A8-8A47-8D3C06A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58AB-2EAC-4082-9376-31A588C4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5A3F-6903-4C4E-A1E8-0B312AF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5644-3AF7-4D5E-8080-D644E30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326D-C0FD-48E4-B931-0D0548E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B7E4-7839-4D3D-942E-9DBFDF86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B932-7881-4C2C-8217-1B11C2AB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0EE1-8A0D-4DFC-AB6E-D487151C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1A51-F014-4B4E-9402-6371F748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7417-A3C2-4A86-9550-E0899641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A062-9A22-4B3D-B704-3922F1DF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31E-DC71-49E8-93A4-197A22F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7CDC-6F9B-4A80-BA71-9AA4BD96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E187-FED1-4ABE-9847-5248881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DF0C-8E20-43A8-A35A-4D30037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6A5A-5EC3-412E-A9CB-EF1A2E8F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F692-51F2-4CAC-9E96-97EE247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2092-2BCC-4470-AF76-097F823D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D7ED-9A41-4871-82B8-30CC700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09DD-04DD-4DF0-989C-C7F62449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F503-577E-4D15-BB7A-7DD813E8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660-6FB8-4792-856D-A9E7F2CE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079-FB21-4148-81F3-47ADD8A6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2F2-9BB7-4D97-8193-13FAA05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D16-C4B6-4501-B258-D9E5237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514-BC46-4004-BF48-512280F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17C-0F24-4F4E-BA88-8B3B58FAEC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9687-DD24-495A-AE76-A95A955A3C7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FAAB-8151-4FA1-B7F1-D013F306DD2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3B1-A369-470C-9BC5-11F4D2D67A4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40AF-7076-4B9C-B842-AAEBD72F94C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74960" y="585720"/>
            <a:ext cx="7022880" cy="63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337C-58DA-472C-AAB1-6F4B60F0E56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3872-497A-40A7-B8C3-ED68BF2CC75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5617-39D6-4499-A031-49881D861F1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د أشرف مشالي</cp:lastModifiedBy>
  <dcterms:modified xsi:type="dcterms:W3CDTF">2013-09-01T08:15:31Z</dcterms:modified>
  <cp:revision>115</cp:revision>
  <dc:subject/>
  <dc:title>Slide 1</dc:title>
</cp:coreProperties>
</file>