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0561-337F-4D20-BCDE-EF354036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F8EA-1945-4BF1-8213-AAA03680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ACD1-3413-4CD6-A1E7-232B47C8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FB25-2267-4AE3-9AB9-B6CA40F1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B168-C09B-49A4-9D52-DB9FEDBC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870F-EB46-4CFB-B409-7C373B04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0F5E-C3A9-4692-BFE9-D08DC942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6CEE-ED41-4A7C-B9F2-C385568D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1E1B-E615-491E-9B84-56DEF735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11E3-54BB-425F-9CEC-D26EC76E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4417-C0F5-4671-A0CD-06FB97F9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318B-C647-46FC-A5DB-913A399B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E8CE-62DA-4A8D-AABA-7A6407B1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6D42-86E2-4221-B957-373D947F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0711-1175-403F-AC3F-79E5DD26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ACBB-6697-40B9-AD78-5A7D39FA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6A8E-D847-4DC8-89B4-D703F3DD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4E7C1-F8DE-419B-9639-F17C6F8C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5224E-4603-48FE-8DFC-737995CC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702F2-A9BD-4DA2-969F-3C346CDB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52F94-6B4C-4784-87AF-A460C4DE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F6F39-AA86-4619-BE36-5BE67682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466-1420-410E-9A89-EB51D46E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0A797-22DF-4ACE-86FA-86F71191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295BD-06D7-49A8-8DEA-35B2745C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73B5B-B432-4782-A0A4-DDD20D20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E5E33-3913-4358-A2BA-109576F8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BAB93-BED0-4ECC-A92D-48F60BDA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0797A-B39E-4934-A2AF-57B1C06F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65E2B-40A2-4CC7-9357-2F7DFD6B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319FF-C870-49D3-B363-63D83B8F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351B8-7D2F-4D22-8F7E-B7A6E5A2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ADE55-1B9E-441E-A12F-4AB8B238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3E7-2A45-4D47-B1E2-31387896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50793-4AEB-4157-AC78-04A74443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F47DD-7F1E-43ED-88D3-CC9DB2C9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D1E87-1D26-4AB4-94A2-0703B7EE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54EAC-0DEE-4ADF-B612-F6BAE4AE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3DE7B-B76C-4565-A256-5E2DB6FC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33FAB-23CC-4146-A4DE-F94B89B5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2DB75-BF05-46EF-9AD7-C4C0FDBA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38C1C-914F-4140-9DA9-1A2C541C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428E0-4ED9-44DB-90A4-371C9711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09C6-45B3-47EB-9FC7-2377A76C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F2D-AD13-4783-8511-501E6B9E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C002-9167-47BC-AD25-CB80E5D7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746B-C6C4-418D-978F-3E51FC7F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E76A-4441-4160-89A9-25595BCE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669D-B4AB-48C6-BA4B-C0FC4483313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33B4-39B6-4D02-B5C5-0E3FBDF08A7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DE53-7B4C-4730-AE51-05F1CDA7D50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3C64-D363-440D-A316-DEF7357FB9F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Oval 2"/>
          <p:cNvSpPr/>
          <p:nvPr/>
        </p:nvSpPr>
        <p:spPr>
          <a:xfrm rot="18849000">
            <a:off x="437760" y="1869840"/>
            <a:ext cx="2581200" cy="208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99072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228600" y="13255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IOSIS AND SEXUAL LIF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4"/>
          <p:cNvGrpSpPr/>
          <p:nvPr/>
        </p:nvGrpSpPr>
        <p:grpSpPr>
          <a:xfrm>
            <a:off x="228600" y="2209680"/>
            <a:ext cx="8381880" cy="4495680"/>
            <a:chOff x="228600" y="2209680"/>
            <a:chExt cx="8381880" cy="4495680"/>
          </a:xfrm>
        </p:grpSpPr>
        <p:sp>
          <p:nvSpPr>
            <p:cNvPr id="200" name="Text Box 7"/>
            <p:cNvSpPr/>
            <p:nvPr/>
          </p:nvSpPr>
          <p:spPr>
            <a:xfrm>
              <a:off x="685800" y="2209680"/>
              <a:ext cx="7785000" cy="6426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cc"/>
              </a:solidFill>
              <a:miter/>
            </a:ln>
            <a:effectLst>
              <a:outerShdw dist="107932" dir="8100000" blurRad="0" rotWithShape="0">
                <a:srgbClr val="dbf5f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he Role of Meiosis in Sexual Life Cy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22"/>
            <p:cNvGrpSpPr/>
            <p:nvPr/>
          </p:nvGrpSpPr>
          <p:grpSpPr>
            <a:xfrm>
              <a:off x="228600" y="2895480"/>
              <a:ext cx="8267760" cy="3809880"/>
              <a:chOff x="228600" y="2895480"/>
              <a:chExt cx="8267760" cy="3809880"/>
            </a:xfrm>
          </p:grpSpPr>
          <p:pic>
            <p:nvPicPr>
              <p:cNvPr id="202" name="Picture 16" descr=""/>
              <p:cNvPicPr/>
              <p:nvPr/>
            </p:nvPicPr>
            <p:blipFill>
              <a:blip r:embed="rId1"/>
              <a:srcRect l="0" t="0" r="56038" b="5551"/>
              <a:stretch/>
            </p:blipFill>
            <p:spPr>
              <a:xfrm rot="16200000">
                <a:off x="2151000" y="1353960"/>
                <a:ext cx="3556080" cy="69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Rectangle 17"/>
              <p:cNvSpPr/>
              <p:nvPr/>
            </p:nvSpPr>
            <p:spPr>
              <a:xfrm>
                <a:off x="4419360" y="3047760"/>
                <a:ext cx="3122640" cy="358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4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57520" y="3225600"/>
                <a:ext cx="4038840" cy="316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Rectangle 19"/>
              <p:cNvSpPr/>
              <p:nvPr/>
            </p:nvSpPr>
            <p:spPr>
              <a:xfrm>
                <a:off x="228600" y="2895480"/>
                <a:ext cx="42670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20"/>
              <p:cNvSpPr/>
              <p:nvPr/>
            </p:nvSpPr>
            <p:spPr>
              <a:xfrm rot="5400000">
                <a:off x="-1333800" y="4762080"/>
                <a:ext cx="35812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21"/>
              <p:cNvSpPr/>
              <p:nvPr/>
            </p:nvSpPr>
            <p:spPr>
              <a:xfrm>
                <a:off x="380880" y="6400800"/>
                <a:ext cx="42670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Rectangle 23"/>
            <p:cNvSpPr/>
            <p:nvPr/>
          </p:nvSpPr>
          <p:spPr>
            <a:xfrm>
              <a:off x="507960" y="3124080"/>
              <a:ext cx="8102520" cy="3352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5"/>
          <p:cNvSpPr/>
          <p:nvPr/>
        </p:nvSpPr>
        <p:spPr>
          <a:xfrm>
            <a:off x="2154240" y="152280"/>
            <a:ext cx="474048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7: Cell div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28600" y="914040"/>
            <a:ext cx="9067680" cy="9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ertilization restor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ُعيد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dipl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زوج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ondition by combining two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apl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ets of chrom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ertilization and meiosis alternate in sexual life cycle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rcRect l="0" t="0" r="54040" b="51124"/>
          <a:stretch/>
        </p:blipFill>
        <p:spPr>
          <a:xfrm>
            <a:off x="1150920" y="3886200"/>
            <a:ext cx="2239920" cy="28954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76320" y="2071800"/>
            <a:ext cx="47242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metes, produced by meiosis, are the only haploid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metes undergo no divisions themselves, but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ندم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form a diploid                                                 zygote that divides by mitosis to                                                           produce a multicellular orga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مجموعة 10"/>
          <p:cNvGrpSpPr/>
          <p:nvPr/>
        </p:nvGrpSpPr>
        <p:grpSpPr>
          <a:xfrm>
            <a:off x="5181480" y="1905120"/>
            <a:ext cx="3810240" cy="4800600"/>
            <a:chOff x="5181480" y="1905120"/>
            <a:chExt cx="3810240" cy="4800600"/>
          </a:xfrm>
        </p:grpSpPr>
        <p:grpSp>
          <p:nvGrpSpPr>
            <p:cNvPr id="214" name="Group 11"/>
            <p:cNvGrpSpPr/>
            <p:nvPr/>
          </p:nvGrpSpPr>
          <p:grpSpPr>
            <a:xfrm>
              <a:off x="5181480" y="1905120"/>
              <a:ext cx="3810240" cy="4800600"/>
              <a:chOff x="5181480" y="1905120"/>
              <a:chExt cx="3810240" cy="4800600"/>
            </a:xfrm>
          </p:grpSpPr>
          <p:pic>
            <p:nvPicPr>
              <p:cNvPr id="215" name="Picture 4" descr=""/>
              <p:cNvPicPr/>
              <p:nvPr/>
            </p:nvPicPr>
            <p:blipFill>
              <a:blip r:embed="rId2"/>
              <a:srcRect l="0" t="0" r="0" b="3357"/>
              <a:stretch/>
            </p:blipFill>
            <p:spPr>
              <a:xfrm>
                <a:off x="5181480" y="1905120"/>
                <a:ext cx="3810240" cy="480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Rectangle 9"/>
              <p:cNvSpPr/>
              <p:nvPr/>
            </p:nvSpPr>
            <p:spPr>
              <a:xfrm>
                <a:off x="5942160" y="5609880"/>
                <a:ext cx="134640" cy="6912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6431040" y="5609880"/>
                <a:ext cx="134640" cy="6912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مستطيل 9"/>
            <p:cNvSpPr/>
            <p:nvPr/>
          </p:nvSpPr>
          <p:spPr>
            <a:xfrm>
              <a:off x="5891040" y="5313600"/>
              <a:ext cx="338040" cy="69840"/>
            </a:xfrm>
            <a:prstGeom prst="rect">
              <a:avLst/>
            </a:prstGeom>
            <a:solidFill>
              <a:srgbClr val="ead4b4"/>
            </a:solidFill>
            <a:ln w="25560">
              <a:solidFill>
                <a:srgbClr val="ea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Meiosis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Reduction Division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)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إنقسام الإختزالى</a:t>
            </a:r>
            <a:r>
              <a:rPr b="1" lang="en-GB" sz="2500" spc="-1" strike="noStrike">
                <a:solidFill>
                  <a:srgbClr val="0000ff"/>
                </a:solidFill>
                <a:latin typeface="Calibri"/>
              </a:rPr>
              <a:t>       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R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educes chromosome number from diploid to haploid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: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6320" y="1820880"/>
            <a:ext cx="5486400" cy="49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ny steps of meiosis resemble steps in mitos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oth are preceded by the replication of chrom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owever, in meiosis, chromosomes replicate once followed by two consecutiv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عاقب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ell divisions,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which results in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four daughter cell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ach final daughter cell has only half chromosomes number (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haploid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eiosis reduces chromosome number by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pying the chromosomes once, but dividing twic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The first division (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eios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) separates homologous chromosom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The second (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eios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) separates sister chromat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BEB5-CFDF-4B88-B647-EE11A54079E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22860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608800" y="1523880"/>
            <a:ext cx="347796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1974960" y="585720"/>
            <a:ext cx="7022880" cy="6336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1143000" y="2514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6019920" y="2514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B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04920" y="40384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occurs mainly in sex gonads to form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Gamet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sperms and 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304920" y="46324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of the resulting cells has half number of chromosomes of the original cell (23 in human). Thus, it 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duction Divis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0"/>
          <p:cNvGrpSpPr/>
          <p:nvPr/>
        </p:nvGrpSpPr>
        <p:grpSpPr>
          <a:xfrm>
            <a:off x="2133720" y="1143000"/>
            <a:ext cx="4952880" cy="1371600"/>
            <a:chOff x="2133720" y="1143000"/>
            <a:chExt cx="4952880" cy="1371600"/>
          </a:xfrm>
        </p:grpSpPr>
        <p:sp>
          <p:nvSpPr>
            <p:cNvPr id="230" name="Line 11"/>
            <p:cNvSpPr/>
            <p:nvPr/>
          </p:nvSpPr>
          <p:spPr>
            <a:xfrm>
              <a:off x="4724280" y="1143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2"/>
            <p:cNvSpPr/>
            <p:nvPr/>
          </p:nvSpPr>
          <p:spPr>
            <a:xfrm>
              <a:off x="2133720" y="19810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4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5"/>
            <p:cNvSpPr/>
            <p:nvPr/>
          </p:nvSpPr>
          <p:spPr>
            <a:xfrm>
              <a:off x="3505320" y="198108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ccurs in two ste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228240" y="533520"/>
            <a:ext cx="891540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itosis produces two identical daughter cells, but meiosis produces 4 very different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D08A-A691-49BF-8C0D-9304D5639AF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rcRect l="0" t="0" r="0" b="4484"/>
          <a:stretch/>
        </p:blipFill>
        <p:spPr>
          <a:xfrm>
            <a:off x="152280" y="1090440"/>
            <a:ext cx="8915400" cy="5767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28240" y="985320"/>
            <a:ext cx="8381880" cy="234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    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Comparison between Mitosis and meios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chromosome number is reduced by half in meiosis, but not in mitosi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itosis produces daughter cells that are genetically identical to the parent and to each oth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eiosis produces cells that differ from the parent and each oth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52280" y="3187800"/>
            <a:ext cx="8839440" cy="34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vents, unique to meiosis, occur during the first division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During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prophas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homologous chromosomes pair up in a proces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ap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r in prophase I, the joined homologous chromosomes are visible as a tetr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X-shaped regions call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hiasm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sections of nonsister chromatids are excha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asmata is the physical manifestation of crossing over, a form of genetic rearran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0" y="1266480"/>
            <a:ext cx="9067680" cy="43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2.  At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met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homologous pairs of chromosomes, not individual chromosomes are aligned along the metaphase pla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451"/>
              </a:spcBef>
              <a:buClr>
                <a:srgbClr val="339933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humans, you would see 23 tetrad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3.  At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n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it is homologous chromosomes, not sister chromatids, that separate and are carried to opposite poles of the cell.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ister chromatids remain attached at the centromere until anaphase I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processes during the second meiotic division are virtually identical to those of mitos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09B2-7D2A-4EB9-9A9B-9D7D3D0EAE4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B8CC-923B-4391-ADB5-C6BA1386FE1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rcRect l="0" t="0" r="0" b="6302"/>
          <a:stretch/>
        </p:blipFill>
        <p:spPr>
          <a:xfrm>
            <a:off x="0" y="1827360"/>
            <a:ext cx="9144000" cy="4878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"/>
          <p:cNvSpPr/>
          <p:nvPr/>
        </p:nvSpPr>
        <p:spPr>
          <a:xfrm>
            <a:off x="533520" y="928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omparison between Mitosis and me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65880" y="838080"/>
            <a:ext cx="77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en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ts that specify an organism’s inherited charac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69840" y="1371600"/>
            <a:ext cx="794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ati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-protein complex which is organized into a lo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thin 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76320" y="21337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osom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formed from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ensed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i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and fold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omat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76320" y="2971800"/>
            <a:ext cx="8991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atid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ister arms (chromatid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ed from 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 duplica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chromosome. They contain identical copies of the chromosome’s D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76320" y="4114800"/>
            <a:ext cx="8153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entromer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rrow region at which the chromosomal stran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are connect togre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52280" y="4800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ito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vision process which forms two daughter nuc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52280" y="5334120"/>
            <a:ext cx="8610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tokine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إنشطا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لو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the division stage of 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ytopla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usually follow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t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200400" y="2588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152280" y="6095880"/>
            <a:ext cx="8610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eio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vision process that occu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gona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ناس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yiel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our daughter 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alf the chrom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16:12:15Z</dcterms:created>
  <dc:creator>User</dc:creator>
  <dc:description/>
  <dc:language>en-US</dc:language>
  <cp:lastModifiedBy>د أشرف مشالي</cp:lastModifiedBy>
  <dcterms:modified xsi:type="dcterms:W3CDTF">2013-09-01T08:15:31Z</dcterms:modified>
  <cp:revision>115</cp:revision>
  <dc:subject/>
  <dc:title>Slide 1</dc:title>
</cp:coreProperties>
</file>