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C373-A5ED-4A9D-9C9E-83541D7FB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4FD8-DD87-4404-930E-228342FF0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E4D4-8798-48C4-9A03-44DE0A97F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AF3F-C4A7-4622-BC9C-EF1261B53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2EFD-F84A-4152-A1B3-2BFDB4137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2410-8BE8-4531-A35A-4A5B1167E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BBB8-DD4C-49BA-B11D-5C99DBC84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9CFD-C90D-401B-A720-6A29F6785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EC6B-F846-47D3-8E73-8732E0C09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02CC-4FC5-4A35-A99A-FBD52359A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cy Master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6656-CB8C-47D6-AE9C-420A55F6E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CFCB-70F7-4D1E-AAD8-A2A6D92C8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BF1D-6043-4F88-8C5A-E24DBCB69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D89F-568A-4718-A49E-5B5E4F2A9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6373-C85F-4D1B-8E1D-2F51228E7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3BED-542E-4597-AD86-621FB0D2C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BBC8-38BA-4791-9B5A-2DC9B9170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5663-6FB4-47EA-A2C7-662656D00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4318-79A1-4CC1-9919-884EA7276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BFD2-FD9D-404D-B872-B787FF500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23A9-4BB8-478D-B4D7-EDFE890D0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4FAC-3858-410E-812F-80868934C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29C2-519A-41B5-85BA-11C7616A7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AA31-38C1-4F8C-AD8D-C0A603F53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1CFE-43C8-4194-A652-7C678F980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cy Master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06EA-C781-4413-A216-4D0BE2353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cy Master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F286-F56A-4CD5-B17A-9C1BAA710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E995-FDE0-46A4-88CD-A739A8C18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1516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944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2"/>
          <p:cNvSpPr/>
          <p:nvPr/>
        </p:nvSpPr>
        <p:spPr>
          <a:xfrm>
            <a:off x="0" y="6397560"/>
            <a:ext cx="9144000" cy="457200"/>
          </a:xfrm>
          <a:prstGeom prst="rect">
            <a:avLst/>
          </a:prstGeom>
          <a:solidFill>
            <a:srgbClr val="f05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392040" y="6553080"/>
            <a:ext cx="539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2014 Pearson Education, Inc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8229600" y="6553080"/>
            <a:ext cx="51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16-</a:t>
            </a:r>
            <a:fld id="{D14D90B7-E21A-4965-9CEE-CF44088BD5A5}" type="slidenum">
              <a:rPr b="0" lang="en-GB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4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Rejda_cropped cover"/>
          <p:cNvPicPr/>
          <p:nvPr/>
        </p:nvPicPr>
        <p:blipFill>
          <a:blip r:embed="rId2"/>
          <a:stretch/>
        </p:blipFill>
        <p:spPr>
          <a:xfrm>
            <a:off x="0" y="0"/>
            <a:ext cx="54770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86400" y="137160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MS PGothic"/>
              </a:rPr>
              <a:t>Chapter 1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Employee Benefits: Group Life and Health Insu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Life Insurance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Many group life insurance plans also provi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group accidental death and dismemberment (AD&amp;D) insu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ays additional benefits if the employee dies in an accident or incurs certain types of bodily inju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 benefit is some multiple of the group life insurance benef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 full benefit, called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principal s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, is paid if the employee dies in an accid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Life Insurance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Group universal life insuran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is a voluntary life insurance product paid entirely by the employee through payroll de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In the single plan approach, the employee who wants only term insurance pays only the mortality and expense char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In the two plan approach, the employee who wants only term insurance pays into the term insurance plan; the employee who wants universal life insurance must pay higher premiums to accumulate cash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Life Insurance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group insurers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worksite marketing program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which allow an insurer to offer its insurance products to interested employ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vidual producers conduct sales interviews with employees on s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ide range of products are sold, including life insurance, AD&amp;D insurance, and annu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miums are paid by payroll de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Medical Expens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Group medical expense insuran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is an employee benefit that pays the cost of hospital care, physicians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and surgeons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fees, and related medical expe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Coverage is available through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Commercial insur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Blue Cross and Blue Shield Pl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Managed Care organiz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elf-insured employer pl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Medical Expens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ercial life &amp; health insurers sell both individual and group medical expense pl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individuals and families insured by commercial insurers are covered under group pl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mall number of health insurers dominate the mark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nearly half of the U.S. metropolitan areas, one insurer controls 50 percent or more of the commercial market (AMA, 201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Medical Expens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Blue Cross and Blue Shield plan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medical expense plans that cover hospital expenses, physician and surgeon fees, ancillary charges, and other medical expe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 Cross plans cover hospital expen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 Shield plans cover physicians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surgeons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plans include both BC and B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most states, plans operate as non-profit organizations, but some have converted to for-profit status to raise capi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Medical Expens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219320"/>
            <a:ext cx="8294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Managed care organization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are generally for-profit organizations that offer managed care to employ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lans offer medical expense benefits in a cost effective man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lans emphasize cost control and carefully monitor the medical care provided by 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Medical Expens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employers self-insure part or all of the benefits provided to their employ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elf insur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ans the employer pays part or all of the cost of providing health insurance to the employe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ns are usually established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top-loss insur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hereby a commercial insurer will pay claims that exceed a certain lim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employers have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dministrative services onl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ASO) contract with a commercial in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insured plans are exempt from state laws that require insured plans to offer certain state-mandated benefi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hibit 16.1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centage of Covered Workers in Partially or Completely Self-Funded Plans, 1999-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2" descr="ex16_01.gif"/>
          <p:cNvPicPr/>
          <p:nvPr/>
        </p:nvPicPr>
        <p:blipFill>
          <a:blip r:embed="rId1"/>
          <a:stretch/>
        </p:blipFill>
        <p:spPr>
          <a:xfrm>
            <a:off x="682560" y="1295280"/>
            <a:ext cx="785196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raditional Indemnity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 a traditional indemnity pla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 are paid a fee for each covered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ureds can select their own physici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ns pay indemnity benefits for covered services up to certain lim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-containment has not been heavily stres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plans have declined in importance over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Meaning of Employee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Fundamentals of Group Insu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Group Life Insurance Pl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Group Medical Expense Insu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Traditional Indemnity Pl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Managed Care Pl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Key Features of Group Medical Expense Insu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Affordable Care Act Requirements and Group Medical Expense Insu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aged Care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Managed care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  <a:ea typeface="MS PGothic"/>
              </a:rPr>
              <a:t> is a generic name for medical expense plans that provide covered services to the members in a cost-effective manne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MS PGothic"/>
              </a:rPr>
              <a:t>An employee</a:t>
            </a:r>
            <a:r>
              <a:rPr b="0" lang="ja-JP" sz="23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MS PGothic"/>
              </a:rPr>
              <a:t>s choice of physicians and hospitals may be limit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MS PGothic"/>
              </a:rPr>
              <a:t>Cost control and cost reduction are heavily emphasiz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MS PGothic"/>
              </a:rPr>
              <a:t>Utilization review is done at all level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MS PGothic"/>
              </a:rPr>
              <a:t>The quality of care provided by physicians is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MS PGothic"/>
              </a:rPr>
              <a:t>Health care providers share in the financial results through risk-sharing techniqu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MS PGothic"/>
              </a:rPr>
              <a:t>Emphasis on preventive care and healthy lifestyl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aged Care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health maintenance organiz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HMO) is an organized system of health care that provides comprehensive medical services to its members on a prepaid ba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MOs negotiate rates and enter into agreements with hospitals and physicians to provide medical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oad, comprehensive medical services are provi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oice of providers is limi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 sharing provisions are impo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aged Care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HMOs place heavy emphasis on controlling co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 common method to pay network physicians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modified fee-for-servi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, where payments are based on a negotiated fee sche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roviders may receive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capitation fe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, which is a fixed annual payment for each plan member regardless of the frequency or type of service provi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gatekeeper physicia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is a primary care physician who determines whether medical care from a specialist is  necess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aged Care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There are several types of HM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Under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staff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, physicians are employees of the HMO and are paid a salary or a salary and an incentive bonus to hold down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Under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group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, physicians are employees of another group that has a contract with the HM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Under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network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, the HMO contracts with two or more independent group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individual practice associ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(IPA) is an open panel of physicians who work out of their own offices and treat HMO members at reduced fees, on a fee-for-service ba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aged Care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preferred provider organiz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(PPO) is a plan that contracts with health-care providers to provide certain medical services to members at discounted f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PO providers typically are paid on a fee-for-service ba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atients are not required to use a preferred provider, but the deductible and co-payments are lower if they 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Most PPOs do not use a gatekeeper physician, and employees do not have to get permission from a primary care physician to see a special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aged Care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point-of-service pla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(POS) is typically structured as an HMO, but members are allowed to go outside the network for medical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If patients see providers who are in the network, they pay little or nothing out of poc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Deductibles and co-payments are higher if patients see providers outside the 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ey Features of Group Medical Expens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New group medical expense plans sold today generally have the following featur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Comprehensive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Calendar year deduct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Coinsurance and copayment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nnual limit on out-of-pocket expen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No cost-sharing for certain preventive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Noncovered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920" y="1295280"/>
            <a:ext cx="8294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sions of the Act that are now in effect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ention of coverage until age 2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hibition on lifetime and annual lim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hibition on preexisting cond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 employer tax cred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cost sharing for certain preventive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minimum loss rat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ffordable Care Act Requirements and Group Medical Expense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ffordable Care Act Requirements and Group Medical Expense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520" y="1371600"/>
            <a:ext cx="82947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Provisions, continued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Grandfathered pl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Flexible spending account lim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Out-of-network claim payments for emergency room vis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Uniform coverage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Employer W-2 reporting oblig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ffordable Care Act Requirements and Group Medical Expense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provisions that will go into effect in 2014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aranteed iss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vidual man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fordable insurance ex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loyer requirements/penal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x on high-value poli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enda - continu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Consumer-directed Health Pl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Recent Developments in Employer-Sponsored Health Pl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Group Medical Expense Contractual Provi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Group Dental Insu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Group Disability-Income Insu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Cafeteria Pl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sumer-Directed Health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consumer-directed health pla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is a generic term for a plan that combines a high-deductible health plan with a health savings account (HAS) or health reimbursement arrangement (HR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high-deductible health pla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is a medical expense plan with a high annual deduct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health reimbursement arrange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is an employer-funded plan with favorable tax advantages, which reimburses employees for medical expenses not covered by the employer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 standard insurance pl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MS PGothic"/>
              </a:rPr>
              <a:t>Recent Developments in Employer-Sponsored Health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Health insurance premiums continue to r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Employers are shifting more cost to employees through higher deductib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Preferred provider organizations continue to dominate group health insurance marke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Continued growth of high-deductible health plans with a savings op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Coverage for early retirees continues to decl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Establishment of tiered or high-performance networ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Establishment of tiered pricing for prescription dru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Increase in employers offering of wellness benef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Use of health risk assess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Establishment of onsite health clin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Exhibit 16.2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Average Annual Premiums for Single and Family Coverage,1999–2011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" descr="ex16_02.gif"/>
          <p:cNvPicPr/>
          <p:nvPr/>
        </p:nvPicPr>
        <p:blipFill>
          <a:blip r:embed="rId1"/>
          <a:stretch/>
        </p:blipFill>
        <p:spPr>
          <a:xfrm>
            <a:off x="838080" y="1181160"/>
            <a:ext cx="754380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Exhibit 16.3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Distribution of Health Plan Enrollment for Covered Workers, by Plan Type, 1988-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2" descr="ex16_03.gif"/>
          <p:cNvPicPr/>
          <p:nvPr/>
        </p:nvPicPr>
        <p:blipFill>
          <a:blip r:embed="rId1"/>
          <a:stretch/>
        </p:blipFill>
        <p:spPr>
          <a:xfrm>
            <a:off x="1447920" y="1143000"/>
            <a:ext cx="6629400" cy="52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Medical Expense Contractual Provis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Health Insurance Portability and Accountability Act (1996) placed restrictions on the rights of insurers to limit coverage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reexisting condi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iod is restricted to 12 month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800280" indent="-34308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ct also established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portabilit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f insurance coverage, whereby insurers must give an employee credit for previous coverag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Medical Expense Contractual Provis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ffordable Care Act changed the preexisting conditions under HIPA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, individual policies and job-based health insurance plans cannot exclude coverage for preexisting conditions in children under age 19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ginning in 2014, insurers are prohibited from denying or limiting coverage for preexisting conditions to adults as w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Medical Expense Contractual Provis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coordination-of-benefits provis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specifies the order of payment when an insured is covered under two or more group health insurance pl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Coverage as an employee is usually primary to coverage as a depend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With respect to dependent children, the plan of the parent whose birthday occurs first during the year is prim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Consolidated Omnibus Budget Reconciliation A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of 1985 (COBRA) gives employees the right to remain in the employer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 plan for a limited period after leaving employ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Dental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oup dental insuran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helps pay the cost of normal dental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ns cover x-rays, cleaning, filling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vered employee or family must satisfy a deductible each calendar y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insurance requirements vary depending on the type of service provi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plans have maximum limits on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dental services are exclu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edetermination-of-benefits provis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forms the employee of the amount that the insurer will pay for a service before the service is perform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Disability-Income Insurance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Group disability-income insuran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pays weekly or monthly cash payments to employees who are disabled from accidents or ill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Under a short-term plan, benefit payments range from 13 weeks to two ye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Most cover on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nonoccupational disabil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, which means that an accident or illness must occur off the jo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Employee must be totally disabled to qualif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You are considered totally disabled if you are unable to perform each and every duty of your regular occup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Disability-Income Insurance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560" y="12193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Under a long-term plan, the benefit period ranges from 2-65 ye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For the first two years, you are considered disabled if you are unable to perform all of the material duties of your own occupat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fter two years, you are still considered disabled if you are unable to work in any occupation for which you are reasonably fitted by education, training, and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lans typically cover occupational and non-occupational dis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If the disabled worker is receiving Social Security or other disability benefits, the payments are reduced to discourage malinge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ning of Employee Benefi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Employee benefits are employer-sponsored benefits, other than wages, which enhance the economic security of individuals and families and are partly or fully paid for by employ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se benefits inclu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Group life, medical and dental insu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aid holidays, vacations, medical le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Educational assistance, employee discou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Employer contributions to Social Security and Medi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Disability-Income Insurance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2193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Some long-term plans have additional supplemental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Under a cost-of-living adjustment, benefits are adjusted annually for increases in the cost of li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Under the pension accrual benefit, the plan makes a pension contribution so that the disable employee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 pension benefit remains int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 survivor income benefits provision makes monthly payments to an eligible surviving spouse or children for a limited period following the disabled worker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 dea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feteria Plan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afeteria pla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llows employees to select those benefits that meet their specific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many plans, the employer gives each employee a certain number of dollars or credits to spend on benefits, or take as cas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plans allow employees to make their premium contributions with before-tax doll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der a full choice, or full flex plan, employees select from a full range of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feteria Plan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294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emium conversion pla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llows employees to make their premium contributions for plan benefits with before-tax doll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plans include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lexible spending accou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hich is an arrangement that permits employees to pay for certain unreimbursed medical expenses with before-tax doll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advantage of cafeteria plans is that employees can select those benefits that best meet their specific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isadvantage is that the employer may incur higher development cos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MS PGothic"/>
              </a:rPr>
              <a:t>Fundamentals of Group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insurance differs from individual insurance in several way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people are covered under one contract;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ster contra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formed between the group and in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verage usually costs less than comparable insurance purchased individu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vidual evidence of insurability is usually not requi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ence rating is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Group insurers observe certain princi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 group should not be formed for the sole purpose of obtaining insur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re should be a flow of persons through the gro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Benefits should be automatically determined by a formu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 minimum percentage of eligible employees must particip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Individual members should not pay the entire c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 plan should be easy to adminis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Eligibility for group status depends on insurance company policy and state la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Usually a minimum size is requi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Employees must meet certain participation requirement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Be a full time employ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atisfy a probationary peri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pply for coverage during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eligibility peri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Be actively at work when the coverage beg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Life Insurance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The most important form of group insuranc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group term life insu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rovides low-cost protection to employe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Coverage is yearly renewable te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 amount of coverage can be based on the workers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earnings, position, or it can be a flat amount for 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Coverage usually ends when the employee leaves the comp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Life Insurance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s of Group Term Coverages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asic amount of term coverage, which is usually a multiple of salary or ear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lunt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upplemental term insur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whereby employees can purchase additional amounts without evidence of insur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rtable term insur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ption that allows employees to continue their term insurance protection if they lose their eligibility for group cover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08:00:35Z</dcterms:created>
  <dc:creator>Rejda / McNamara</dc:creator>
  <dc:description/>
  <dc:language>en-US</dc:language>
  <cp:lastModifiedBy>Emad Ismail</cp:lastModifiedBy>
  <dcterms:modified xsi:type="dcterms:W3CDTF">2015-02-05T04:53:16Z</dcterms:modified>
  <cp:revision>139</cp:revision>
  <dc:subject>Employee Benefits: Group Life and Health Insurance</dc:subject>
  <dc:title>Chapter 16</dc:title>
</cp:coreProperties>
</file>