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8AF9-5E7A-4363-9BCD-827991D06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1794-24CE-4D92-B085-1789EE91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0315-85B2-43D9-87F0-79F3BE8FC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2184-6612-403B-820A-77B90686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8165-F1C0-4AD3-A9BA-72EC44F0F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84D0-45A7-4CBD-AF21-462993CDB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D60A-70F5-4753-8A5E-3C8802C3B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5052-02EE-4D7B-8D0C-1DDD31CF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84A7-D53D-4D8E-97C3-77F815C7B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FAFE-AD1A-4F99-A1C9-CE9308FE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D79-2911-4DC1-97AA-2CDDEDCA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A4AD-C847-4485-B606-7AECD5820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B762-1D63-435F-981D-0BD6CDE0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9E44-6723-4EF5-BD30-D73019710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5613-A3BF-4762-936B-7B30B8495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466-155A-4371-9E24-3DCD0ACD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72C6-0B16-49F8-B51F-14EB0E84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AAAC-6034-4BF5-8EA9-05EDB933D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887E-9B0E-4ED1-A4A6-4A5238FBC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5231-57D4-4DCA-8ECC-040174D9C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91A-6469-4C5B-A25F-2B93E7CDF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002D-575B-47CD-A81C-5FF6CEE93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12A-0B82-43DE-AF1E-8B08EAF76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8564-08AF-4F89-B3B4-5556BC20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BD3-BC19-4EB6-BED5-2BBA4DE12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A490-02FB-413E-91D7-F3DDC07B4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DEF0-1389-4B99-AC00-CF5B2B1A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F177-4981-4634-8A7B-2BA2F7647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516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440" y="3875400"/>
            <a:ext cx="26989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7540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75400"/>
            <a:ext cx="8382240" cy="221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2"/>
          <p:cNvSpPr/>
          <p:nvPr/>
        </p:nvSpPr>
        <p:spPr>
          <a:xfrm>
            <a:off x="0" y="6397560"/>
            <a:ext cx="9144000" cy="457200"/>
          </a:xfrm>
          <a:prstGeom prst="rect">
            <a:avLst/>
          </a:prstGeom>
          <a:solidFill>
            <a:srgbClr val="f05a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92040" y="6553080"/>
            <a:ext cx="5399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  <a:ea typeface="Arial"/>
              </a:rPr>
              <a:t>Copyright ©2014 Pearson Education, Inc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229600" y="6553080"/>
            <a:ext cx="512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16-</a:t>
            </a:r>
            <a:fld id="{23DB4C0E-FA00-4A4A-A2DB-C5CDC14E1694}" type="slidenum">
              <a:rPr b="0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4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Rejda_cropped cover"/>
          <p:cNvPicPr/>
          <p:nvPr/>
        </p:nvPicPr>
        <p:blipFill>
          <a:blip r:embed="rId2"/>
          <a:stretch/>
        </p:blipFill>
        <p:spPr>
          <a:xfrm>
            <a:off x="0" y="0"/>
            <a:ext cx="54770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86400" y="137160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Chapter 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mployee Benefits: Group Life and Health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any group life insurance plans also provi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accidental death and dismemberment (AD&amp;D)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ys additional benefits if the employee dies in an accident or incurs certain types of bodily inju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benefit is some multiple of the group life insurance bene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full benefit, calle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rincipal s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is paid if the employee dies in an acci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universal lif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 voluntary life insurance product paid entirely by the employee through payroll de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 the single plan approach, the employee who wants only term insurance pays only the mortality and expense char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 the two plan approach, the employee who wants only term insurance pays into the term insurance plan; the employee who wants universal life insurance must pay higher premiums to accumulate cash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group insurers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orksite marketing program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which allow an insurer to offer its insurance products to interested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producers conduct sales interviews with employees on 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ide range of products are sold, including life insurance, AD&amp;D insurance, and annu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miums are paid by payroll de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medical expens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n employee benefit that pays the cost of hospital care, physician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and surgeon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fees, and related medic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is available through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mmercial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lue Cross and Blue Shiel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anaged Care organiz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elf-insured employer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rcial life &amp; health insurers sell both individual and group medical expens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individuals and families insured by commercial insurers are covered under group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mall number of health insurers dominate the mark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nearly half of the U.S. metropolitan areas, one insurer controls 50 percent or more of the commercial market (AMA, 201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Blue Cross and Blue Shield pla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medical expense plans that cover hospital expenses, physician and surgeon fees, ancillary charges, and other medical expen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Cross plans cover hospital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 Shield plans cover physician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urgeon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lans include both BC and 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ost states, plans operate as non-profit organizations, but some have converted to for-profit status to raise capi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219320"/>
            <a:ext cx="8294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anaged care organization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are generally for-profit organizations that offer managed care to emplo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lans offer medical expense benefits in a cost effective m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lans emphasize cost control and carefully monitor the medical care provided by 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employers self-insure part or all of the benefits provided to their employ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elf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e employer pays part or all of the cost of providing health insurance to the employe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are usually establish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op-loss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reby a commercial insurer will pay claims that exceed a certain lim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employers have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ministrative services on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SO) contract with a commercial in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insured plans are exempt from state laws that require insured plans to offer certain state-mandated benefi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hibit 16.1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ntage of Covered Workers in Partially or Completely Self-Funded Plans, 1999-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2" descr="ex16_01.gif"/>
          <p:cNvPicPr/>
          <p:nvPr/>
        </p:nvPicPr>
        <p:blipFill>
          <a:blip r:embed="rId1"/>
          <a:stretch/>
        </p:blipFill>
        <p:spPr>
          <a:xfrm>
            <a:off x="682560" y="1295280"/>
            <a:ext cx="785196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aditional Indemnity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r a traditional indemnity pl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 are paid a fee for each covered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eds can select their own physic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pay indemnity benefits for covered services up to certain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-containment has not been heavily stres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se plans have declined in importance over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eaning of Employee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Fundamentals of Group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Life Insuranc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Medical Expens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raditional Indemnity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Managed Car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Key Features of Group Medical Expens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ffordable Care Act Requirements and Group Medical Expens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687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anaged care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  <a:ea typeface="MS PGothic"/>
              </a:rPr>
              <a:t> is a generic name for medical expense plans that provide covered services to the members in a cost-effective manne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An employee</a:t>
            </a:r>
            <a:r>
              <a:rPr b="0" lang="ja-JP" sz="23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s choice of physicians and hospitals may be limit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Cost control and cost reduction are heavily emphasiz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Utilization review is done at all leve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The quality of care provided by physicians is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Health care providers share in the financial results through risk-sharing techniqu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  <a:ea typeface="MS PGothic"/>
              </a:rPr>
              <a:t>Emphasis on preventive care and healthy lifestyl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health maintenance organiz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HMO) is an organized system of health care that provides comprehensive medical services to its members on a prepaid ba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MOs negotiate rates and enter into agreements with hospitals and physicians to provide medical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, comprehensive medical services are provi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ce of providers is limi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sharing provisions are imp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HMOs place heavy emphasis on controlling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common method to pay network physician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modified fee-for-serv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ere payments are based on a negotiated fee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viders may receiv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apitation fe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ich is a fixed annual payment for each plan member regardless of the frequency or type of service provi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atekeeper physici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 primary care physician who determines whether medical care from a specialist is  necess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re are several types of HM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staff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physicians are employees of the HMO and are paid a salary or a salary and an incentive bonus to hold down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physicians are employees of another group that has a contract with the H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etwork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the HMO contracts with two or more independent group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individual practice assoc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(IPA) is an open panel of physicians who work out of their own offices and treat HMO members at reduced fees, on a fee-for-service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referred provider organiz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PPO) is a plan that contracts with health-care providers to provide certain medical services to members at discounted fe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PO providers typically are paid on a fee-for-service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tients are not required to use a preferred provider, but the deductible and co-payments are lower if they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ost PPOs do not use a gatekeeper physician, and employees do not have to get permission from a primary care physician to see a special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aged Car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point-of-service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(POS) is typically structured as an HMO, but members are allowed to go outside the network for medic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f patients see providers who are in the network, they pay little or nothing out of po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eductibles and co-payments are higher if patients see providers outside the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ey Features of Group Medical Expens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New group medical expense plans sold today generally have the following featu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mprehensive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alendar year deduct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insurance and copayment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nnual limit on out-of-pocket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No cost-sharing for certain prevent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Noncovered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95280"/>
            <a:ext cx="8294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sions of the Act that are now in effect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 of coverage until age 2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ion on lifetime and annual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hibition on preexisting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employer tax cred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cost sharing for certain preventive 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minimum loss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ffordable Care Act Requirements and Group Medical Expense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ffordable Care Act Requirements and Group Medical Expense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520" y="1371600"/>
            <a:ext cx="82947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Provisions, continued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Grandfathered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Flexible spending account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Out-of-network claim payments for emergency room vis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iform coverage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r W-2 reporting obl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ffordable Care Act Requirements and Group Medical Expense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provisions that will go into effect in 2014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anteed 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man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ordable insurance ex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er requirements/penal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 on high-valu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 - continu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onsumer-directed Health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Recent Developments in Employer-Sponsored Health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Medical Expense Contractual Provi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Dental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Disability-Incom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Cafeteria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sumer-Directed Health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nsumer-directed health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is a generic term for a plan that combines a high-deductible health plan with a health savings account (HAS) or health reimbursement arrangement (HR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high-deductible health pl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 medical expense plan with a high annual deduct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health reimbursement arrang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is an employer-funded plan with favorable tax advantages, which reimburses employees for medical expenses not covered by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standard insurance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Recent Developments in Employer-Sponsored Health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Health insurance premiums continue to r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mployers are shifting more cost to employees through higher deducti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Preferred provider organizations continue to dominate group health insurance marke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ntinued growth of high-deductible health plans with a savings o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for early retirees continues to dec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stablishment of tiered or high-performance netwo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stablishment of tiered pricing for prescription dru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Increase in employers offering of wellness benef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Use of health risk assess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S PGothic"/>
              </a:rPr>
              <a:t>Establishment of onsite health clin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xhibit 16.2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verage Annual Premiums for Single and Family Coverage,1999–201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ex16_02.gif"/>
          <p:cNvPicPr/>
          <p:nvPr/>
        </p:nvPicPr>
        <p:blipFill>
          <a:blip r:embed="rId1"/>
          <a:stretch/>
        </p:blipFill>
        <p:spPr>
          <a:xfrm>
            <a:off x="838080" y="1181160"/>
            <a:ext cx="754380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xhibit 16.3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Distribution of Health Plan Enrollment for Covered Workers, by Plan Type, 1988-201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ex16_03.gif"/>
          <p:cNvPicPr/>
          <p:nvPr/>
        </p:nvPicPr>
        <p:blipFill>
          <a:blip r:embed="rId1"/>
          <a:stretch/>
        </p:blipFill>
        <p:spPr>
          <a:xfrm>
            <a:off x="1447920" y="1143000"/>
            <a:ext cx="662940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ealth Insurance Portability and Accountability Act (1996) placed restrictions on the rights of insurers to limit coverag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reexisting cond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iod is restricted to 12 month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800280" indent="-34308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ct also established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ortabilit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insurance coverage, whereby insurers must give an employee credit for previous coverag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ffordable Care Act changed the preexisting conditions under HIPA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, individual policies and job-based health insurance plans cannot exclude coverage for preexisting conditions in children under age 19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ginning in 2014, insurers are prohibited from denying or limiting coverage for preexisting conditions to adults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Medical Expense Contractual Provi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ordination-of-benefits provi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specifies the order of payment when an insured is covered under two or more group health insurance pl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as an employee is usually primary to coverage as a depen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With respect to dependent children, the plan of the parent whose birthday occurs first during the year is pri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Consolidated Omnibus Budget Reconciliation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of 1985 (COBRA) gives employees the right to remain in the employ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plan for a limited period after leaving employ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ental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oup dental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helps pay the cost of normal dental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s cover x-rays, cleaning, filling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vered employee or family must satisfy a deductible each calenda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insurance requirements vary depending on the type of service provi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plans have maximum limits on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dental services are exclu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determination-of-benefits pro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forms the employee of the amount that the insurer will pay for a service before the service is perfor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isability-Income Insura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disability-income insura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 pays weekly or monthly cash payments to employees who are disabled from accidents or ill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Under a short-term plan, benefit payments range from 13 weeks to two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Most cover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nonoccupational disa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, which means that an accident or illness must occur off the jo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e must be totally disabled to qualif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You are considered totally disabled if you are unable to perform each and every duty of your regular occup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isability-Income Insura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56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Under a long-term plan, the benefit period ranges from 2-65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For the first two years, you are considered disabled if you are unable to perform all of the material duties of your own occupa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fter two years, you are still considered disabled if you are unable to work in any occupation for which you are reasonably fitted by education, training, and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lans typically cover occupational and non-occupational di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f the disabled worker is receiving Social Security or other disability benefits, the payments are reduced to discourage maling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ning of Employee Benefi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e benefits are employer-sponsored benefits, other than wages, which enhance the economic security of individuals and families and are partly or fully paid for by emplo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se benefit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Group life, medical and dental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aid holidays, vacations, medical le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ducational assistance, employee dis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Employer contributions to Social Security and Medi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Disability-Income Insura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Some long-term plans have additional supplemental benef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a cost-of-living adjustment, benefits are adjusted annually for increases in the cost of li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nder the pension accrual benefit, the plan makes a pension contribution so that the disable employee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pension benefit remains int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survivor income benefits provision makes monthly payments to an eligible surviving spouse or children for a limited period following the disabled worker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feteria Plan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feteria pla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lows employees to select those benefits that meet their specific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any plans, the employer gives each employee a certain number of dollars or credits to spend on benefits, or take as c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plans allow employees to make their premium contributions with before-tax do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 a full choice, or full flex plan, employees select from a full range of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feteria Plans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294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emium conversion pla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lows employees to make their premium contributions for plan benefits with before-tax do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plans includ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exible spending accou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ich is an arrangement that permits employees to pay for certain unreimbursed medical expenses with before-tax doll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advantage of cafeteria plans is that employees can select those benefits that best meet their specific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disadvantage is that the employer may incur higher development cos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MS PGothic"/>
              </a:rPr>
              <a:t>Fundamentals of Group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insurance differs from individual insurance in several way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people are covered under one contract;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ster cont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formed between the group and ins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verage usually costs less than comparable insurance purchased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l evidence of insurability is usually not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rience rating i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Group insurers observe certain princi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group should not be formed for the sole purpose of obtaining insur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re should be a flow of persons through the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nefits should be automatically determined by a form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 minimum percentage of eligible employees must particip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Individual members should not pay the entire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plan should be easy to admini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ligibility for group status depends on insurance company policy and state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Usually a minimum size is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Employees must meet certain participation requiremen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 a full time employ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Satisfy a probationary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Apply for coverage during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eligibility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Be actively at work when the coverage be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MS PGothic"/>
              </a:rPr>
              <a:t>The most important form of group insurance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  <a:ea typeface="MS PGothic"/>
              </a:rPr>
              <a:t>group term life insu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Provides low-cost protection to employe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is yearly renewable te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The amount of coverage can be based on the worker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 earnings, position, or it can be a flat amount 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S PGothic"/>
              </a:rPr>
              <a:t>Coverage usually ends when the employee leaves the compa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oup Life Insurance Pla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 of Group Term Coverag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sic amount of term coverage, which is usually a multiple of salary or ear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nt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pplemental term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whereby employees can purchase additional amounts without evidence of insu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rtable term insur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ption that allows employees to continue their term insurance protection if they lose their eligibility for group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Rejda / McNamara</dc:creator>
  <dc:description/>
  <dc:language>en-US</dc:language>
  <cp:lastModifiedBy>Emad Ismail</cp:lastModifiedBy>
  <dcterms:modified xsi:type="dcterms:W3CDTF">2015-02-05T04:53:16Z</dcterms:modified>
  <cp:revision>139</cp:revision>
  <dc:subject>Employee Benefits: Group Life and Health Insurance</dc:subject>
  <dc:title>Chapter 16</dc:title>
</cp:coreProperties>
</file>