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7629-A0C9-4F55-A994-95912CA9E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535A-8B91-44A5-94EE-CFEFCC1D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6ED9-7CC2-41E2-B552-062ACD67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CD12-3378-4B7E-8582-E0A874EF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EDAA-B257-4799-86C0-7FF85BF2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A9E0-4A40-4C12-B20F-DC99ABF9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581B6-CBC5-4015-B3F6-11B18AA9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0677-9A4B-4FD2-A45F-C6527B45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4A8F-95C3-4C31-9793-2CACC2E1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B6CE-9850-4475-8DA8-479D71D6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5BABC-8030-43BC-BDE4-29A9F902C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A6165-BAB7-4A6E-B97A-0F4849A70C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96C7-7563-4BDD-B5A3-9D543C0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F67CB-2A24-423B-8AAC-F6E20C28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BD322-C2C8-44E5-92D7-DA1BC1C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33EF5-5ACA-44E3-B668-76714071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AECC1-1890-4783-A898-F278E560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8FA17-B5BB-4FC4-83EC-A434259F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EF0A5-8B24-4262-8C89-114635E9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AB6BF-D6FE-4BDB-9311-F8937349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C7DEC-59E2-4B1A-A471-DBEF259C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F9DC3-F841-41E4-9265-622E50C2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C576A-B396-4E00-97F2-4F495B70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133EA-E7DB-4BEC-9C2E-983E1463A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B527C-A422-4CFD-9806-420BB174A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617096-76A6-410B-9AF6-55CD8B850B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762C5F-B61B-4EF0-A01F-D49461F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9741E6-433F-419E-BBB4-425BE4FD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5FBF76-5029-4DFA-AD78-3D130B9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979F0-0F69-4A4D-BD0A-ECAE86C5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5C6679-A363-4CA4-9F42-717075C5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86B9B6-CFA3-49AD-97B5-3D4EE45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9E2660-2595-424E-B743-F73A554C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3F4C46-5B61-4A27-BCCF-5BCEEEB1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484BD-76A8-40A2-91DB-D913CE11C4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726D02-2AE6-4514-99C1-C4245B43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412642-FD8A-42C6-B6F6-E260F1D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2977DE-2E71-4162-AC07-15AB4A51CD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329ED-FFCC-4A39-8CB8-672CF9D44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B6223-E6E7-4F65-A20C-B95FFA5E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C3D02-1424-43A1-AC4F-C9A2E302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8771C-A7C7-4728-AA05-AA69847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61EE6-6E88-4A82-9E6E-CF6CA7E9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F57C-B450-409A-902C-96F6D225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96358-EBB0-4D86-8BEF-3EC23CEA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3BC10-CFAA-4D1D-AC89-B09A32BC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94F86-2FA4-4738-B180-890A8E0E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BF9C5-2604-4FF9-9A32-36F30DB9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331A5-247B-481F-A272-8D8ABE68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9CA51-6490-411B-AE26-C272720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D4FAE-3F6D-40AB-8C4C-626234357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8427D1-BEF7-4F96-BCC0-08EFD5CD6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9FCD3-6A3C-4F17-BBEB-8143FF82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895B4-566C-4D73-A163-D4D1B146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9F132-3AFA-47CD-9A61-0C66145B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06467-E422-4067-B4FF-24477B9B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DDED4-9EDA-4683-B0C7-EF8F472E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D4DC6-EFA2-4D07-8604-1EEC633D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98C8A-3F25-4C8A-A4A6-41ADAC7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07D7E4-56B3-42F8-A475-A4A91BCD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E50159-0F21-4F30-9231-3E5FF9E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A0255-3048-406B-A375-57173029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5857E2-CC5D-4DCF-A69D-561F500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5A795-3B90-4275-8A5C-E21551923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4DF3E-9DEC-46D6-A7EE-B198603FA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6B8A0-CF88-48AA-9047-7E64E822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7DB09-B48F-4659-80B8-BCB25FBE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1A8C1-A6C1-4B05-A894-242ABD7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9AE55-30D2-4267-ABE3-C9201576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0AFA1-E58C-42D7-B495-AA7FA0C2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E16E5-DADB-4E4E-A824-632E8743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C1E1F-0301-4F88-9CD9-AD01F89C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CB378-7E8A-4868-ADAB-140593F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BD2A9-F1CD-4B5A-8466-665AC6AF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11B5A-AD58-4BEF-B78E-81B708D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39B0E-2CB4-456C-8DA6-B5E195C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16A40-7C8C-4CA4-BDB3-BDED44252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17F4A-E2D6-4E13-864B-A09EA9CF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11270-2917-428D-9AFA-ADE8A8EE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72656-D8BA-457D-BB91-46D5A39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D2A3-5792-47A6-933A-BE856A5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224CF-62E2-4BCE-9DF4-0CD280DF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34F98-6E3C-45F6-A654-FCE4AB7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2DB90-8ACA-4E3B-9B3D-2CF1727F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BB7FC-DFA9-4523-92B2-7A4D682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4AEFF-DDF4-48BD-A7ED-56E54F720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8889-9109-4B8B-BC38-3C4D0F5BF2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9FBB-57E1-4505-A43A-D5CA7119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B5C0-80DC-435B-8B3C-6A7C2FCC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F0CE-7FB1-4327-A041-864CE699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97DC-666A-4573-A74F-EE8C1AFF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A302-98BB-4424-B2FB-B695E740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6EF3-EEA0-435B-8037-4CFB81ED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2EE1-2ECD-4E3F-A76C-748AAB04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29FE-2B6B-4B78-99C2-3D217B95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E32A-0A16-4BA5-94B4-F8E2CE9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85E9-5907-4696-9D52-A51E8C2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8CB0-9226-4FBA-8D07-2F2BC0C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61FD-0A34-4BBF-A4CF-02A6F2BBF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3B814-413B-4E89-8DD6-4042EA976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F6869-D913-47FC-A321-D134CF45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C7F81-FD87-4172-81F7-458763F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306A-0D85-4BE2-B145-D866F3A4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7FB03-67D8-4E46-8A4F-2F87C5AF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E60AB-8520-493F-8ED8-AD181359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B694F-DADB-419C-BE67-8F64B8F5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B86BC-8604-4C08-93EC-58EB7C99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175F4-AEC1-4A95-983D-5E55B29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1B93F-52A2-4686-89EE-C0ACF21B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5B831-D5BE-4BF0-B32E-5649084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9FA00-E229-45FC-BCDC-9F0E8DAB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0C0ED-58E0-44E0-9B7C-823C9BE69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66607-6D85-46D3-AF57-D2F9E66670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5252-F6EB-4421-9790-B2C802C1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EF0B5-E0E6-4031-A312-B817F8F4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0A487-8FAD-49C7-A692-70BD9AFC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47CAB-84A1-41ED-9701-22BD883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AA227-EA52-4449-B95C-6528E62E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1DCD1-C8DA-4848-99B2-02007A97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5FE4C-3761-4DF2-8104-5446234F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FA8FF-31F5-4AD9-B5AA-9C8D4B0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56B2E-6D2A-4982-82EC-681B3659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A066C-C9C3-435F-81C4-9F447262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620A7-4552-438D-9196-0AEB353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3E54-E088-4E50-848D-B9577A4A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3AF6F-BFD5-4A03-9842-A0C9BBEE79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50E0-39D9-4D2F-99B0-265883619F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0348-00A4-4AC0-8699-F6F67AD5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78BC-64F5-4EE3-81B3-F445A728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E15D-93FF-4ABD-B55B-16D09E6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6297-B263-4B0B-9BDD-4B37D537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9AB4-4B12-4ED3-9805-EDD10755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2389-F32F-401B-A720-4D0404B9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82A1-43BF-4510-835C-E179BEDC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4791-BDCE-4C56-AFC0-5135AA28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C35D-94B2-43C6-B457-1655A6B7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1BFD-D7C8-4F2B-91B8-6CB1F459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CF7EE-D44B-4073-B571-9A4AB30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0BFB-2F5C-4829-AA71-6AF98D7B2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DBB06-D80F-4F68-9CEA-D661FCE9D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DE17B-CDED-4490-9CC9-C46E9AE9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CAE8B4-0295-4DA2-B1A8-8CBD6175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E95A8-4A09-40C7-9798-8F45AF3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57CD4-20DE-401E-A0D8-DD64B539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7C6DF-AA6B-4E48-81E5-7E075529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5F7B0-7E6C-4C7C-8A01-4725D12D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89F5-B5D6-43CC-AE2B-6F49B9C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A2A8E-BAC6-4846-AB8A-ECBF369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0DAA6-F448-4298-AC13-1791AE8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501BF-7633-45F3-9359-8B21C2AB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115FE9-0813-41BF-89F4-2E47F06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5CF55-4341-4AB0-BD3F-BBE653261C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87B4B-29C7-4D95-9534-32DACA71E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5425FB-9901-4BBF-94D7-052BFB17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BE6E5E-1E16-4E16-B716-EF897BDD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CCCD3-C84E-41CD-9863-6202386A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88F83F-E978-4FE6-B963-00CB00F9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05AA-FD06-409B-A432-A1C97FB5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752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B8FEFF-0ADE-48E7-8896-83C51419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7F170E-5B7A-4C23-8323-97BC866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5ABB89-F3C4-4AA8-B977-246C2BE4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7D7E53-A761-4D99-890C-401283B2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6480" y="4289040"/>
            <a:ext cx="6797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3003E-63FF-48FE-AE00-9BFB215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59840" y="249048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648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59840" y="4289040"/>
            <a:ext cx="33170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52D04-92C1-45A0-A897-D5C65FE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47472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72960" y="249048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648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47472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772960" y="4289040"/>
            <a:ext cx="21884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8F723-0557-47C4-BB77-61E6A97689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B702-17F0-485B-96E9-28A028A9E5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E7718-997F-434E-8270-AAB10F4C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81CF4-C37D-4207-89D1-0906FFD0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62F4E-067A-433F-B116-9EE7C4A78639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4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445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"/>
          <p:cNvSpPr/>
          <p:nvPr/>
        </p:nvSpPr>
        <p:spPr>
          <a:xfrm>
            <a:off x="849240" y="9050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eorgia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"/>
          <p:cNvSpPr/>
          <p:nvPr/>
        </p:nvSpPr>
        <p:spPr>
          <a:xfrm>
            <a:off x="7634160" y="28274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"/>
          <p:cNvSpPr/>
          <p:nvPr/>
        </p:nvSpPr>
        <p:spPr>
          <a:xfrm>
            <a:off x="1278000" y="414036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0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EB7D1-AB7C-4037-B7E2-3F80433943AC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4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3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4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49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/>
          <p:nvPr/>
        </p:nvSpPr>
        <p:spPr>
          <a:xfrm>
            <a:off x="878040" y="8967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"/>
          <p:cNvSpPr/>
          <p:nvPr/>
        </p:nvSpPr>
        <p:spPr>
          <a:xfrm>
            <a:off x="7650000" y="2608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"/>
          <p:cNvSpPr/>
          <p:nvPr/>
        </p:nvSpPr>
        <p:spPr>
          <a:xfrm>
            <a:off x="1278000" y="34290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1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2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150FD-57DC-4709-972A-2F79BC4274BE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5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5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47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"/>
          <p:cNvSpPr/>
          <p:nvPr/>
        </p:nvSpPr>
        <p:spPr>
          <a:xfrm>
            <a:off x="1278000" y="3429000"/>
            <a:ext cx="660708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3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24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C1AA2-6AEC-4AE6-8C59-A9414D61ED12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5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9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"/>
          <p:cNvSpPr/>
          <p:nvPr/>
        </p:nvSpPr>
        <p:spPr>
          <a:xfrm>
            <a:off x="1278000" y="2354400"/>
            <a:ext cx="660708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5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6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80775-5E8F-4B02-BBFA-12D3564B933A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64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6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645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6245280" y="906480"/>
            <a:ext cx="1440" cy="496872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7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sldNum" idx="2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EB9D9-DB74-4123-8B9A-7C527A3BA006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511280" y="1511280"/>
              <a:ext cx="6124680" cy="3838680"/>
              <a:chOff x="1511280" y="1511280"/>
              <a:chExt cx="6124680" cy="3838680"/>
            </a:xfrm>
          </p:grpSpPr>
          <p:pic>
            <p:nvPicPr>
              <p:cNvPr id="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11280" y="1511280"/>
                <a:ext cx="6124680" cy="38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14520" y="1519200"/>
                <a:ext cx="6111720" cy="38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53" name="" descr=""/>
            <p:cNvPicPr/>
            <p:nvPr/>
          </p:nvPicPr>
          <p:blipFill>
            <a:blip r:embed="rId5"/>
            <a:srcRect l="0" t="0" r="47963" b="0"/>
            <a:stretch/>
          </p:blipFill>
          <p:spPr>
            <a:xfrm>
              <a:off x="0" y="3129120"/>
              <a:ext cx="166212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rcRect l="0" t="0" r="47963" b="0"/>
            <a:stretch/>
          </p:blipFill>
          <p:spPr>
            <a:xfrm>
              <a:off x="7480440" y="3129120"/>
              <a:ext cx="166212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019240" y="3471840"/>
            <a:ext cx="511344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6065640" y="5054400"/>
            <a:ext cx="6714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22400" y="5054760"/>
            <a:ext cx="406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816240" y="5054400"/>
            <a:ext cx="41292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2D260-02A6-450D-AB33-53A83D17CACC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1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02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278000" y="235584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5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BD668-5E33-4DA1-92D5-B3A84F442B8B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1278000" y="359892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C2F67-CC71-40AC-99B4-568DA6DE2C00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1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00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1278000" y="235584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9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0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00767-C24F-4E86-BD71-0424B3761EF0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49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1278000" y="23544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1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0C83E-64C2-4BF5-9106-6697D2E0F504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5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2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98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1278000" y="2354400"/>
            <a:ext cx="65959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3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4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18EB9-F8FE-4C79-8544-F4E2E4839A1C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3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"/>
          <p:cNvSpPr/>
          <p:nvPr/>
        </p:nvSpPr>
        <p:spPr>
          <a:xfrm>
            <a:off x="1278000" y="2913120"/>
            <a:ext cx="233352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5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6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45DDC-F9A5-41B4-8D37-42575851DADC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0" y="0"/>
            <a:ext cx="9150480" cy="6856560"/>
            <a:chOff x="0" y="0"/>
            <a:chExt cx="9150480" cy="6856560"/>
          </a:xfrm>
        </p:grpSpPr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"/>
            <p:cNvGrpSpPr/>
            <p:nvPr/>
          </p:nvGrpSpPr>
          <p:grpSpPr>
            <a:xfrm>
              <a:off x="549360" y="536400"/>
              <a:ext cx="8058240" cy="5772240"/>
              <a:chOff x="549360" y="536400"/>
              <a:chExt cx="8058240" cy="57722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536400"/>
                <a:ext cx="8058240" cy="577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554040" y="542880"/>
                <a:ext cx="8037360" cy="57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6"/>
            <a:srcRect l="0" t="0" r="14236" b="0"/>
            <a:stretch/>
          </p:blipFill>
          <p:spPr>
            <a:xfrm>
              <a:off x="8466120" y="3129120"/>
              <a:ext cx="684360" cy="6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278000" y="4140360"/>
            <a:ext cx="6607080" cy="1440"/>
          </a:xfrm>
          <a:prstGeom prst="line">
            <a:avLst/>
          </a:prstGeom>
          <a:ln cap="rnd"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7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6480" y="2490480"/>
            <a:ext cx="6797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329040" indent="-32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7"/>
          </p:nvPr>
        </p:nvSpPr>
        <p:spPr>
          <a:xfrm>
            <a:off x="6356520" y="5960880"/>
            <a:ext cx="11476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76480" y="5961240"/>
            <a:ext cx="5105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18"/>
          </p:nvPr>
        </p:nvSpPr>
        <p:spPr>
          <a:xfrm>
            <a:off x="7580160" y="5960880"/>
            <a:ext cx="39384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758FE-A497-4A67-ACF6-285E862DACC0}" type="slidenum">
              <a:rPr b="0" lang="en-GB" sz="10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457200" y="167652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opperplate Gothic Light"/>
                <a:ea typeface="Source Han Sans CN Regular"/>
              </a:rPr>
              <a:t>Translating Fiqh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3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باح/ جائ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permissible- permitted- lawfu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يجوز للصائم استخدام قطرة العين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4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كروه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offensive- disliked- detes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يكره للمصلي أن يغمض عينيه أثناء الصلاة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5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حرا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unlawful- prohibited- forbidd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ربا والخمر والميسر كلها محرمة في الإسلام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What is </a:t>
            </a:r>
            <a:r>
              <a:rPr b="0" i="1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Deep Understand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Jurisprudence: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a legal syst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Philosophy of la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Fiqh</a:t>
            </a:r>
            <a:r>
              <a:rPr b="0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 is different in that all </a:t>
            </a:r>
            <a:r>
              <a:rPr b="1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RULINGS</a:t>
            </a:r>
            <a:r>
              <a:rPr b="0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 must be derived from Islamic sources, thus </a:t>
            </a:r>
            <a:r>
              <a:rPr b="0" i="1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Fiqh</a:t>
            </a:r>
            <a:r>
              <a:rPr b="0" lang="en-US" sz="2600" spc="-1" strike="noStrike">
                <a:solidFill>
                  <a:srgbClr val="7a5e15"/>
                </a:solidFill>
                <a:latin typeface="Garamond"/>
                <a:ea typeface="Source Han Sans CN Regular"/>
              </a:rPr>
              <a:t> is translated as </a:t>
            </a:r>
            <a:r>
              <a:rPr b="1" lang="en-US" sz="2600" spc="-1" strike="noStrike" u="sng">
                <a:solidFill>
                  <a:srgbClr val="7a5e15"/>
                </a:solidFill>
                <a:uFillTx/>
                <a:latin typeface="Garamond"/>
                <a:ea typeface="Source Han Sans CN Regular"/>
              </a:rPr>
              <a:t>Islamic Jurispruden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vs. </a:t>
            </a:r>
            <a:r>
              <a:rPr b="0" i="1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haria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haria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is the Divine Law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is the human understanding of i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Islamic Legislation Sources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Qura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unnah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onsensu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Analog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ections of Islamic Jurisprudence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Acts of Worship (</a:t>
            </a:r>
            <a:r>
              <a:rPr b="0" lang="ar-SA" sz="36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عبادات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ransactions (</a:t>
            </a:r>
            <a:r>
              <a:rPr b="0" lang="ar-SA" sz="36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معاملات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Penalties (</a:t>
            </a:r>
            <a:r>
              <a:rPr b="0" lang="ar-SA" sz="36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حدود</a:t>
            </a:r>
            <a:r>
              <a:rPr b="0" lang="en-US" sz="36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ranslating Fiq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ranslating </a:t>
            </a:r>
            <a:r>
              <a:rPr b="0" i="1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Fiqh</a:t>
            </a: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 texts requires sound background knowledge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4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e.g. </a:t>
            </a:r>
            <a:r>
              <a:rPr b="0" lang="ar-SA" sz="3200" spc="-1" strike="noStrike">
                <a:solidFill>
                  <a:srgbClr val="262626"/>
                </a:solidFill>
                <a:latin typeface="Garamond"/>
                <a:cs typeface="Times New Roman"/>
              </a:rPr>
              <a:t>الحجب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4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Lit. block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4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“</a:t>
            </a:r>
            <a:r>
              <a:rPr b="0" lang="en-US" sz="32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the process of excluding some relatives from inheritence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chools of Though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Hanafi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Maliki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Shafi'i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Hanbali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Garamond"/>
              <a:buAutoNum type="arabicPeriod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فرض/ واج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obligatory- mandatory- prescribed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- ordain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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فرض عين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0640" indent="-514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"/>
              <a:tabLst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فرض كفاية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3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3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صلاة العيد فرض كفاية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76480" y="915840"/>
            <a:ext cx="67989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Classification of Islamic Ruling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"/>
          <p:cNvSpPr/>
          <p:nvPr/>
        </p:nvSpPr>
        <p:spPr>
          <a:xfrm>
            <a:off x="1176480" y="2490840"/>
            <a:ext cx="6798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2. 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ندوب/ مستحب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Wingdings" charset="2"/>
              <a:buChar char=""/>
              <a:tabLst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  <a:ea typeface="Source Han Sans CN Regular"/>
              </a:rPr>
              <a:t>desirable – recommend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مثال</a:t>
            </a:r>
            <a:r>
              <a:rPr b="0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7920"/>
                <a:tab algn="l" pos="735120"/>
                <a:tab algn="l" pos="1192320"/>
                <a:tab algn="l" pos="1649520"/>
                <a:tab algn="l" pos="2106720"/>
                <a:tab algn="l" pos="2563920"/>
                <a:tab algn="l" pos="3021120"/>
                <a:tab algn="l" pos="3478320"/>
                <a:tab algn="l" pos="3935520"/>
                <a:tab algn="l" pos="4392720"/>
                <a:tab algn="l" pos="4849920"/>
                <a:tab algn="l" pos="5307120"/>
                <a:tab algn="l" pos="5764320"/>
                <a:tab algn="l" pos="6221520"/>
                <a:tab algn="l" pos="6678720"/>
                <a:tab algn="l" pos="7135920"/>
                <a:tab algn="l" pos="7593120"/>
                <a:tab algn="l" pos="8050320"/>
                <a:tab algn="l" pos="8507520"/>
                <a:tab algn="l" pos="8964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Garamond"/>
                <a:cs typeface="Times New Roman"/>
              </a:rPr>
              <a:t>يستحب للصائم الإكثار من الدعاء</a:t>
            </a:r>
            <a:r>
              <a:rPr b="1" lang="ar-SA" sz="2400" spc="-1" strike="noStrike">
                <a:solidFill>
                  <a:srgbClr val="262626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9T17:55:47Z</dcterms:created>
  <dc:creator>Bandar</dc:creator>
  <dc:description/>
  <dc:language>en-US</dc:language>
  <cp:lastModifiedBy/>
  <dcterms:modified xsi:type="dcterms:W3CDTF">2017-03-14T08:44:39Z</dcterms:modified>
  <cp:revision>48</cp:revision>
  <dc:subject/>
  <dc:title>Translation of Islamic Texts: An Introduction</dc:title>
</cp:coreProperties>
</file>