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D791-AD7E-46D3-898E-B3E0EE23D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FE0B-2BFC-450F-B683-6953F0E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9CF4-95EA-4BE8-84F2-3D49B35E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F0B2-9879-4DC7-ADF7-8888770D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05CE-DA71-496D-A53C-C7B4B094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578F8-DC48-4BAB-ADB7-7009E43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304D-FD7D-4BB5-BA29-D0B51A0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8F74-DF73-4DA2-A779-A8E137F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50399-D9FD-4154-871B-2CEAB09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5A32-8ED0-4C21-8BA4-ADCC30C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512C0-8EB0-4CFB-A135-AD890BFC3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00E29-0940-416B-8157-BB20D7476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8AF4-76B5-4C80-886C-F595F83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DCF1D-1C86-4303-AC61-65500B1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4D2F4-2862-4BDB-84A7-56845FEC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37855-193E-432D-A79E-1B89D1C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26E8B-195C-4DBD-B7B4-ED569747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CE01A-7002-452B-A3A7-9E507C73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0D48F-9621-4E08-8761-183817C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BC995-E20C-4CBC-B656-B6117E7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27FC8-CC9E-4EC5-A40A-A49B7874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357E2-9E99-4707-A1AC-DFF2DF58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92A69-80CA-453B-A633-D82E7B1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70E2-5A56-4A53-83F5-BBCE9975F8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5CE1B-6D0A-4FD3-8F49-8CDBD8E8A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1F5A8-9F81-4C5A-92DA-92853C566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14BFA-C6AC-4A78-8693-901AE75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7FC086-FAA3-4C0E-B23F-95D16A3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355F1-2BEC-4D7C-9AB9-B9A03D7E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82541-AF67-42D7-80FC-375EE169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C4352B-D131-4491-A388-28AD917B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14DB0-7181-403D-908B-B36F31A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DBBED-0D20-4BE0-98B6-33317D3B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216999-DD55-4FA7-9820-7203EDE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9A4B7-9FB8-474F-9BB9-0FF46ED6C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747CF-37B2-4353-8825-B8D02F1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874B53-781D-4263-8AAC-5600079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67FA3-2A05-40C0-AFED-F7B941875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6F22-5D5B-4065-B181-C9A250154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5D35-D9C4-41F6-B2E0-6F8DA03E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C6F7-C77A-4485-8492-BE2E9E3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94F2-0640-498A-802C-5F17F97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3E0FB-9DBE-467A-A422-9AE0B0DD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7927C-0672-4B5F-9EE1-3452D2DC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7850-02A1-4DDA-B509-B2473C0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FBDD4-C39B-4AAE-9DC9-A9773AA9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A9E3A-F20C-4595-A234-755FB06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BF462-40B1-425E-9693-77949D1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6C1B9-17B6-4777-90EA-64B5B28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D136-73AE-419E-969E-4C21374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C2004-7685-41FA-BC9A-2B6BFAC30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2284B-4BD3-4A2D-9864-EEDFB0935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E36579-D2F6-470E-AAFD-E72E921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25E70B-3E38-4824-BFAE-CFF09CF2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9D180-601D-4697-A624-B1938DAF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1141E-A1C8-4C77-9A7C-011A9063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1BCB-DB49-484A-B459-AAAA5EC7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E25BC-285F-4729-BC90-5D133F3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2456FC-3605-4B28-9C23-83EBEFB7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96735-272A-4B74-AE68-ECFF3C7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E0C7E-1284-4D70-ACE3-2999663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33B6D-8B0D-4D5F-AF67-C7445C3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4D723-324F-439A-92ED-CB481420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25E8D-B1D4-4A2B-9AE0-54EAB10D1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91834-64AC-4314-92AE-01473CBBC6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17C88-D645-4869-8C70-ED14A3C0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EDE03-FF63-45AC-BB2B-4705CAE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461C7-125B-4179-AABB-24BD6B2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57ACA-C953-481F-9B4E-54FC1ED5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89DE9-3242-412E-B26D-16519F1B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A958B-2814-4BB3-9E3B-EFD37A85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A6276-6B4D-4428-8FC9-1DF2A4F3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C600D-5E22-489B-8A18-3FBE505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C567D-29B1-4A0B-83A4-E2301A37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11722-FA91-4D38-8D68-708967D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83C0B-0863-4A1D-8E24-7AC347F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7E862-8A96-441F-9D30-390C3300C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BBE8B-01E2-4CB6-9D5A-9D47E952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08229-9B48-4ACB-8920-799BBD21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49CCD-C07A-460A-87E6-368411D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D3FD-F825-4CFD-92E0-E0EDE574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E031-0AC4-460C-ACA1-74A48BC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D093-00DB-4D6A-ABA5-708A86A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C0BFB-142F-4091-AF6A-76D102D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E852-062D-4EFA-8EEE-699ECAB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1AB0F-2663-4A61-BB9D-16FFD348B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9BBF-6C2D-490D-BA05-7D80A4755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138-8620-479D-866C-98028EB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2EB1-D8BF-442E-AC07-C0C517E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455-6B47-4352-A6A4-303AEFC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946-6A84-4BBD-A40C-777D6FB5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815C-D02F-46B9-9112-4868B74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C11-1902-4B7F-9313-24FCBF29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805B-4BF4-443E-BE21-FC343748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9FF7-0080-4878-A8A4-8FD3CCD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BC1F-3462-4788-89CA-701AE049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68F-3BB0-4700-B0BE-D4412B4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B19-1FC2-40CD-8B04-13CFD9C9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4A48-37D2-4546-841D-B3B84D6D5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3B141-21A4-481F-AF58-E9BD5F215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A942A-EF29-4800-8C2D-F7160CC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F352B-0258-4F8E-9FA7-74D4D638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163E-0467-4FDA-854B-9137A322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B0F30-2F3C-4DC8-831F-C1761F9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8B528-E582-446A-AB91-1D6DF13E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D72CC-420F-4BB2-AA72-5EE3729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94CA9-EEE0-424F-84A5-337792C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49391-895E-4B17-B49B-FC4E855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F9EC2-32B5-406E-83C0-56686787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16763-6815-4278-B01A-5C7B4A2E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0CCE4-397B-46C9-903E-9F861B1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39CA1-3890-4975-9B65-8C8CAF313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DDFE8-CEE6-4171-9F84-0F42060C7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9B42-C340-4016-A6CA-8BF8C82C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41043-0070-4F76-8966-1E661797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B9ED0-19B6-4456-81DE-E82E5CFC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EDD89-1E65-45C6-85EC-3423BEC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7738F-6439-4540-8AAB-4C01C1D4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384AB-AC8E-4D41-89D2-4989771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BB31D-FFB7-4037-B860-9F2F542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E2AF5-1B4E-4545-AAF3-8AFA4BB5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3C3FC-DC73-4AFF-A29D-86A01EF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61C45-FDB9-41D3-91DC-6E4C86E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5E63D-F90A-4E65-A9CA-F5D72A6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80C2-1C6F-4FF8-9B01-6085E82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40994-6354-4011-9FEE-4E0D266EA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A7BD-98F8-4B58-9A65-68D138AD8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DD0A-57DE-4DC2-9B1C-3D2D755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9FC6-5CCD-4C60-BC1B-C91BF1F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C1EC-24DA-4D6E-9337-DE219A1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E25E-59B6-4498-ADAB-3EEC9B97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6BD7-8120-4864-8040-EB019181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632A-46BE-4A13-BD0E-E5E08AA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9CD4-0272-4A53-94AA-582AF2B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A632-513D-473A-A99C-78581A42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414D-EDD3-4FCD-801B-E001D82D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FBE6-490F-4951-93F0-FD30447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8021-DA2B-478E-9D02-5871DF6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0DF0-F35C-49AF-AF25-05CA63A88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60473-8EEC-446F-B24B-DA76B69D6B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5DBE4-A84E-446D-87A1-F27C587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230E0-2931-43EF-A89C-41A06A1F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DFBC2-1178-40EC-9420-98B419D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36C82-5C3C-41A4-AEE6-C4E0F990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E1CE3-A8CC-41CE-A238-1AA743F3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88328-A96B-4BA6-B588-137CE8A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9E11-7B69-4652-8DDA-0143A4E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47D89-9506-4AE8-A88B-77D6C251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81756-7B9B-4EC3-9334-A662C1F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1ECFC-D456-40D7-8309-8E7B452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34DD9-621E-4B8D-BB3D-637DC4C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5C219-214A-4891-9446-64B484C08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34D1A-17BD-4269-A79C-DAD577D14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7E35B-42AE-4A51-9687-E303FD0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933DB-3B9B-4460-A53E-4283265A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ED893-A23D-4D31-B941-F7EFE61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62FA2A-C84E-42A1-A9EE-F50A13AC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6CC5-11BF-49CB-AC38-D3840A2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0A6D8-87A8-4645-B102-F9AAA84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77593-BE42-4161-9AC8-0455A09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CD22E-3DE3-495E-9020-70DB9DE0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24F5D2-0F5C-417A-9C1D-010A04E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97781-FA06-4E9E-AAD5-D5A71C9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AE279C-C94C-46B2-B929-556703E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58815-30F3-4876-BD51-3E1D40F8F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FBC0-EC80-4F98-88BD-42B4775E3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5CF1-0C4C-48BF-A20E-EC1EE15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D0AB-3329-4252-A56C-924EC4A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F4EDD-C01E-48C3-863C-99F12F592C1B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4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44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eorgia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"/>
          <p:cNvSpPr/>
          <p:nvPr/>
        </p:nvSpPr>
        <p:spPr>
          <a:xfrm>
            <a:off x="1278000" y="414036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41663-5166-4D25-B015-1B113F272FF7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4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4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4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"/>
          <p:cNvSpPr/>
          <p:nvPr/>
        </p:nvSpPr>
        <p:spPr>
          <a:xfrm>
            <a:off x="1278000" y="34290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1E7C3-3DF5-4C12-8496-1273BF63B8A9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5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5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4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"/>
          <p:cNvSpPr/>
          <p:nvPr/>
        </p:nvSpPr>
        <p:spPr>
          <a:xfrm>
            <a:off x="1278000" y="342900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3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24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57DB1-558A-4C5F-8835-1A5A13E06E44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5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"/>
          <p:cNvSpPr/>
          <p:nvPr/>
        </p:nvSpPr>
        <p:spPr>
          <a:xfrm>
            <a:off x="1278000" y="235440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C6BD0-44EB-4983-98C1-1FBBE03B47A9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6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64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6245280" y="906480"/>
            <a:ext cx="144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2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A52EC-4D8C-489F-A9DD-65AE84AB5B88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511280" y="1511280"/>
              <a:ext cx="6124680" cy="3838680"/>
              <a:chOff x="1511280" y="1511280"/>
              <a:chExt cx="6124680" cy="3838680"/>
            </a:xfrm>
          </p:grpSpPr>
          <p:pic>
            <p:nvPicPr>
              <p:cNvPr id="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280" y="1511280"/>
                <a:ext cx="6124680" cy="38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4520" y="1519200"/>
                <a:ext cx="6111720" cy="38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3" name="" descr="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9120"/>
              <a:ext cx="166212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440" y="3129120"/>
              <a:ext cx="166212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019240" y="3471840"/>
            <a:ext cx="511344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6065640" y="5054400"/>
            <a:ext cx="6714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2240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16240" y="5054400"/>
            <a:ext cx="4129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B0E0C-8C11-460A-8F77-5320730C8F22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2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E0739-7B24-422D-83CF-49A1B877E419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278000" y="359892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ACAE3-3D7F-4140-A129-CA55865BFE5A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00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0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F37D0-5B73-4784-9F4A-2CF7BC14A9D8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49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28BD6-6423-4E3C-A607-C40009465BCE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2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98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3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4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81BD-326B-47AA-A503-A609E01B24E5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>
            <a:off x="1278000" y="2913120"/>
            <a:ext cx="23335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24421-F5B8-4A91-BEDE-A3DF9557AB8E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278000" y="414036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39F66-E628-46A2-8CEF-D5CBCFD1F751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457200" y="16765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opperplate Gothic Light"/>
                <a:ea typeface="Source Han Sans CN Regular"/>
              </a:rPr>
              <a:t>Translating Fiqh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3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باح/ جائ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ermissible- permitted- lawfu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جوز للصائم استخدام قطرة العين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4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كرو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offensive- disliked- detes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كره للمصلي أن يغمض عينيه أثناء الصلاة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5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حرا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unlawful- prohibited- forbid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ربا والخمر والميسر كلها محرمة في الإسلام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What is </a:t>
            </a: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Deep Understan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Jurisprudence: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 legal syst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hilosophy of la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Fiqh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is different in that all </a:t>
            </a:r>
            <a:r>
              <a:rPr b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RULINGS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must be derived from Islamic sources, thus </a:t>
            </a:r>
            <a:r>
              <a:rPr b="0" i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Fiqh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is translated as </a:t>
            </a:r>
            <a:r>
              <a:rPr b="1" lang="en-US" sz="2600" spc="-1" strike="noStrike" u="sng">
                <a:solidFill>
                  <a:srgbClr val="7a5e15"/>
                </a:solidFill>
                <a:uFillTx/>
                <a:latin typeface="Garamond"/>
                <a:ea typeface="Source Han Sans CN Regular"/>
              </a:rPr>
              <a:t>Islamic Jurispruden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vs. </a:t>
            </a: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ri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ria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is the Divine Law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is the human understanding of i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Islamic Legislation Sources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Qura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unnah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onsensu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na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ections of Islamic Jurisprudence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cts of Worship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عبادات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actions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معاملات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enalties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حدود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lating Fiq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lating </a:t>
            </a:r>
            <a:r>
              <a:rPr b="0" i="1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texts requires sound background knowledg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e.g. </a:t>
            </a:r>
            <a:r>
              <a:rPr b="0" lang="ar-SA" sz="32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حجب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Lit. block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“</a:t>
            </a: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he process of excluding some relatives from inheritence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chools of Though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Hanaf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Malik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fi'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Hanbali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/ واج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obligatory- mandatory- prescribed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- ordain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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 عين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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 كفاية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3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3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صلاة العيد فرض كفاية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2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ندوب/ مستح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desirable – recommend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ستحب للصائم الإكثار من الدعاء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9T17:55:47Z</dcterms:created>
  <dc:creator>Bandar</dc:creator>
  <dc:description/>
  <dc:language>en-US</dc:language>
  <cp:lastModifiedBy/>
  <dcterms:modified xsi:type="dcterms:W3CDTF">2017-03-14T08:44:39Z</dcterms:modified>
  <cp:revision>48</cp:revision>
  <dc:subject/>
  <dc:title>Translation of Islamic Texts: An Introduction</dc:title>
</cp:coreProperties>
</file>