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91A-58CB-42BE-BD60-42E1CB82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1FA-CD80-4ABD-A046-A1C7D78A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628-126F-4D96-BAA3-83850BBB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A42-8E2C-4570-B05C-1E9D28E8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D0D-7EE7-40E3-B914-F7CD3619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CD1-EC53-4A3A-90F5-1CE91077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929-E285-49A3-B8B4-328E63A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353-19B7-49CC-BE03-F7EC85FC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83A-D2BC-4686-BD52-A1D5298D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260-FE93-48B2-B44F-29ACC9D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9C5-D3A4-4201-92F7-03493B01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2B9-96A1-4059-AAFA-8DD889E1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2DE-AEB6-4742-AFE1-49C1D21290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C10C-B7FD-4184-B0A9-33DD492DBC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182-A685-4CE5-BD7A-9E6C42BE38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4A65-D04E-49FE-9ACB-83175DAA64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49A-C10A-4464-A97E-3F895911EE8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  <a:cs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B8E2-50C0-4DEA-92C6-90508EA613C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6A41-7956-4B15-821B-14C021EA3D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2960" y="3303720"/>
            <a:ext cx="1565280" cy="2408040"/>
            <a:chOff x="1542960" y="3303720"/>
            <a:chExt cx="1565280" cy="24080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2960" y="3303720"/>
              <a:ext cx="15652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87640" y="1706400"/>
            <a:ext cx="1644840" cy="2926080"/>
            <a:chOff x="2987640" y="1706400"/>
            <a:chExt cx="1644840" cy="292608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87640" y="1706400"/>
              <a:ext cx="164484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A853-A9C4-4A9B-94FC-FAAF156C3D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C59-E14F-43B0-9420-32866BFC48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4986-9ACD-492A-A8B1-1DF941C437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F79-309D-4CD2-B57F-BF6946B3BD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E540-E29B-4D42-BD81-5010BFC203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ralajmi</cp:lastModifiedBy>
  <dcterms:modified xsi:type="dcterms:W3CDTF">2014-02-02T04:44:54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