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7A3-738A-470E-8732-6FF37DEC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B53-6A10-4A0E-8996-4DF443E2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E01-5EB6-4CDD-BFFB-11F5CDFA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09E-B3DF-46A0-963E-893E5D7C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CA8-C955-4886-B94D-B8130839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1FE3-2A9B-412E-813A-8D67D8BA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98E0-73E3-421E-8EA2-C809AF66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D01-4678-4E5E-95DF-883D8253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A632-9B18-4317-9ACD-137F96EA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C50-1AB0-43A5-9D50-51B5B67D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298A-A81A-462B-A39A-6C8EFA7D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625-3664-4F01-8D28-4C807D42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A9DB-84D3-4FDE-95E5-DBBB43303A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94C6-FF34-4CD3-B7D4-39DEB2B30F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  <a:ea typeface="Arial"/>
              </a:rPr>
              <a:t>Continued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855B-0EFD-4FE2-A3A7-CF1A3D3D05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6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دف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0F5B-330D-48B5-8905-B2CFD4B289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CCCE-DEC6-4B40-BB35-78469671EF98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228600" y="923760"/>
            <a:ext cx="4267080" cy="57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oth have a co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رك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9-doub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    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  <a:cs typeface="Arial"/>
              </a:rPr>
              <a:t>تسعة مجموعات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  <a:cs typeface="Arial"/>
              </a:rPr>
              <a:t>ثنائية 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  <a:cs typeface="Arial"/>
              </a:rPr>
              <a:t>أنيبيبتا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 “wheels” of proteins connect outer doublets to each other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outer doublets are also connected by motor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ilium and flagellum is identical to that of centri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iliaandflagellafigure1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9563-E38A-488C-B0DB-55404EC8B222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542160" y="641520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A025-E42B-466F-8703-A332DEFBDD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lasmamembranefigur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grpSp>
        <p:nvGrpSpPr>
          <p:cNvPr id="162" name="Line 3"/>
          <p:cNvGrpSpPr/>
          <p:nvPr/>
        </p:nvGrpSpPr>
        <p:grpSpPr>
          <a:xfrm>
            <a:off x="1542960" y="3303720"/>
            <a:ext cx="1565280" cy="2408040"/>
            <a:chOff x="1542960" y="3303720"/>
            <a:chExt cx="1565280" cy="2408040"/>
          </a:xfrm>
        </p:grpSpPr>
        <p:pic>
          <p:nvPicPr>
            <p:cNvPr id="163" name="Line 3" descr=""/>
            <p:cNvPicPr/>
            <p:nvPr/>
          </p:nvPicPr>
          <p:blipFill>
            <a:blip r:embed="rId2"/>
            <a:stretch/>
          </p:blipFill>
          <p:spPr>
            <a:xfrm>
              <a:off x="1542960" y="3303720"/>
              <a:ext cx="1565280" cy="24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676520" y="342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a kin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68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69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70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76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2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88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4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200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06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2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18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4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30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36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2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45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48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51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4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57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60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3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66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69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2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75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78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81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4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87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90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3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4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295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301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07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3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19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25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31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37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3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49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55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61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67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70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3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76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79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2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85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88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91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4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397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400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3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06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09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2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15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18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20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26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31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4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Line 277"/>
          <p:cNvGrpSpPr/>
          <p:nvPr/>
        </p:nvGrpSpPr>
        <p:grpSpPr>
          <a:xfrm>
            <a:off x="2987640" y="1706400"/>
            <a:ext cx="1644840" cy="2926080"/>
            <a:chOff x="2987640" y="1706400"/>
            <a:chExt cx="1644840" cy="2926080"/>
          </a:xfrm>
        </p:grpSpPr>
        <p:pic>
          <p:nvPicPr>
            <p:cNvPr id="438" name="Line 277" descr=""/>
            <p:cNvPicPr/>
            <p:nvPr/>
          </p:nvPicPr>
          <p:blipFill>
            <a:blip r:embed="rId3"/>
            <a:stretch/>
          </p:blipFill>
          <p:spPr>
            <a:xfrm>
              <a:off x="2987640" y="1706400"/>
              <a:ext cx="1644840" cy="292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124080" y="1828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" name="Picture 279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441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41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0B84-16E4-4AC8-A095-24BC807FB9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4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52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65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1357-D35C-4BD4-B4B0-AF4F3ADA25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2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81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85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92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5B08-56A1-49DB-B851-08296B1E2D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0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1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95F4-F225-415A-86C8-0EB125C784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2" name="AutoShape 5"/>
            <p:cNvSpPr/>
            <p:nvPr/>
          </p:nvSpPr>
          <p:spPr>
            <a:xfrm>
              <a:off x="1600200" y="2133720"/>
              <a:ext cx="914400" cy="1752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5F5C-509A-46D6-BBFA-B684BAB232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533520" y="485640"/>
            <a:ext cx="8153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جسم المركز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icrotubul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ثلاث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مُرتبة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 دائر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ralajmi</cp:lastModifiedBy>
  <dcterms:modified xsi:type="dcterms:W3CDTF">2014-02-02T04:44:54Z</dcterms:modified>
  <cp:revision>338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E220E62-4DB2-46B5-B767-77593944CA0B</vt:lpwstr>
  </property>
  <property fmtid="{D5CDD505-2E9C-101B-9397-08002B2CF9AE}" pid="3" name="ArticulatePath">
    <vt:lpwstr>Lecture 8</vt:lpwstr>
  </property>
</Properties>
</file>