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2258-13EA-4365-8A5D-616B5647F46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4FC4-7BF6-460B-840A-A9323896D2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ACC1-C263-45F9-9979-AA8B0696983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C45B-EC1E-495F-9D72-5A86E1B2C26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230C-B3AB-4ABD-BEFC-087DE8A3D4B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6C19-F1E9-4CBE-BBF8-C00F0DC8828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161F-3D74-47CF-88D3-D09D89AB94C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E9DC-9E80-420D-935F-7949F169900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8147-550E-4E42-A094-649BE22B28C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9452-536E-47B9-99C0-E3784238324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1150-FAB8-4295-B9CF-FD37BE6289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1054-5579-46F6-B184-527C899E0B2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018E-54C2-4234-8235-872B3812D12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FC89-9C84-4CF7-A7B9-769E4FD428C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27E4-E0E9-48C4-80EF-0A45C160C3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30D-E897-4C1C-8B66-C0ABDF20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B1C-04FB-473A-8B31-143074AA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491-25E6-415A-9D60-25A42210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52D-175F-4A0E-A788-4ED54E6B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2E5-504E-4397-AF2A-1374881A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8063-CA10-4BC9-8B14-719B0DF2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96E-95E1-4252-AEDA-D1020776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F40-A34F-4574-B07C-E5E2D8E2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D00-7FF2-4F37-A49D-6423B97B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350-13EE-49E2-9C32-CFB4171E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961-F1F9-4B84-B432-45C2B7E0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D16F-6736-4A24-A28C-485B2473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7CCB-89EA-4367-9DB3-BE5A9F9F7A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869E-0828-4C5E-AAE3-4DDFA4850F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0" y="304920"/>
            <a:ext cx="9601200" cy="6553080"/>
            <a:chOff x="0" y="304920"/>
            <a:chExt cx="9601200" cy="6553080"/>
          </a:xfrm>
        </p:grpSpPr>
        <p:pic>
          <p:nvPicPr>
            <p:cNvPr id="51" name="Picture 7" descr=""/>
            <p:cNvPicPr/>
            <p:nvPr/>
          </p:nvPicPr>
          <p:blipFill>
            <a:blip r:embed="rId1"/>
            <a:stretch/>
          </p:blipFill>
          <p:spPr>
            <a:xfrm>
              <a:off x="0" y="3048120"/>
              <a:ext cx="91440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4"/>
            <p:cNvSpPr/>
            <p:nvPr/>
          </p:nvSpPr>
          <p:spPr>
            <a:xfrm>
              <a:off x="0" y="304920"/>
              <a:ext cx="82296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-  Protein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any Structures, Many Fun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5"/>
            <p:cNvSpPr/>
            <p:nvPr/>
          </p:nvSpPr>
          <p:spPr>
            <a:xfrm>
              <a:off x="0" y="1676520"/>
              <a:ext cx="96012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.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A polypeptide is a polymer of amino acids connected in a specific sequenc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5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2.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A protein’s function depends on its specific co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ADB3-FC0C-4F66-B03C-5A9D38448D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704880"/>
            <a:ext cx="44956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imary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ngle polypeptide ch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amino 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ysozyme, an enzyme that attacks bacteria, consists of a polypeptide chain of 129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light chang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غيير طفي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primary structure can affect a protein’s conformation and ability to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925880" y="76320"/>
            <a:ext cx="3989520" cy="6629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3960" y="656100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5.18, Page 7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ADE7-FDD8-448D-AD40-664FC916DA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76320"/>
            <a:ext cx="8534520" cy="189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ckle cell disea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نج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bnormal hemoglobin because of a single amino acid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غي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bnormal hemoglobins crystallize, deform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كس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d blood cells and leading to clog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دا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iny blood ves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rcRect l="0" t="8591" r="6666" b="3573"/>
          <a:stretch/>
        </p:blipFill>
        <p:spPr>
          <a:xfrm>
            <a:off x="914400" y="2514600"/>
            <a:ext cx="7867800" cy="37670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31680" y="6477120"/>
            <a:ext cx="149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5.19, Page 7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AC1F-9E96-42B5-831A-0DA4A25C53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388440"/>
            <a:ext cx="9144000" cy="617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2-  The secondary structur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 from hydrogen bonds at regular interval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لى أبعاد متسا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ong the polypeptide backb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.  Coil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lix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ypical shap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develop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35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old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eated sheet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يت المُجع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Comp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several parallel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i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ls attached by H bo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rcRect l="0" t="0" r="0" b="2790"/>
          <a:stretch/>
        </p:blipFill>
        <p:spPr>
          <a:xfrm>
            <a:off x="4191120" y="1371600"/>
            <a:ext cx="4910040" cy="53341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-360" y="6537240"/>
            <a:ext cx="160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20, Page 7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C064-1C26-4347-B432-825C7066C5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13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n example for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folds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eta pleated sheets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شيت المُجعد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tructural properties of silk because of  the presence of so many hydrogen bonds makes each silk fiber stronger than st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228600" y="1638360"/>
            <a:ext cx="8534520" cy="46861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-360" y="6537240"/>
            <a:ext cx="160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21, Page 7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D95A-461A-4984-893D-644F079CB6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533680"/>
            <a:ext cx="4343400" cy="37908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27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ertiary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etermined by a variety of interaction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mong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خلا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grou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twee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groups and the polypeptide backb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interactions includ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mong polar area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onic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charg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, and hydrophobic interactions and            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n der Waals intera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mong                                        hydrophobic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-360" y="6537240"/>
            <a:ext cx="160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22, Page 7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04920" y="3624120"/>
            <a:ext cx="43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these three interactions are relatively weak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ulfid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ridg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trong covalent bonds that form between the sulfhydryl groups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of cysteine monomers, stabilize the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5251-045B-461A-94C7-7A8609F09E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960" y="228600"/>
            <a:ext cx="8915400" cy="557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4- The quaternary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from the aggregati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جم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wo or more polypeptide ch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lla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fibrous protei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ree polypepti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supercoiled, and function in connective t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glob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ular prote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wo copi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wo kin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olypept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28240" y="6400800"/>
            <a:ext cx="160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23, Page 7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8"/>
          <p:cNvGrpSpPr/>
          <p:nvPr/>
        </p:nvGrpSpPr>
        <p:grpSpPr>
          <a:xfrm>
            <a:off x="3962520" y="2743200"/>
            <a:ext cx="4952880" cy="3765960"/>
            <a:chOff x="3962520" y="2743200"/>
            <a:chExt cx="4952880" cy="3765960"/>
          </a:xfrm>
        </p:grpSpPr>
        <p:pic>
          <p:nvPicPr>
            <p:cNvPr id="204" name="Picture 4" descr=""/>
            <p:cNvPicPr/>
            <p:nvPr/>
          </p:nvPicPr>
          <p:blipFill>
            <a:blip r:embed="rId1"/>
            <a:srcRect l="0" t="0" r="0" b="3893"/>
            <a:stretch/>
          </p:blipFill>
          <p:spPr>
            <a:xfrm>
              <a:off x="4038480" y="2743200"/>
              <a:ext cx="4876920" cy="33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6"/>
            <p:cNvSpPr/>
            <p:nvPr/>
          </p:nvSpPr>
          <p:spPr>
            <a:xfrm>
              <a:off x="396252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ollag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"/>
            <p:cNvSpPr/>
            <p:nvPr/>
          </p:nvSpPr>
          <p:spPr>
            <a:xfrm>
              <a:off x="6629400" y="61102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emoglob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9AEE-4666-4398-8F36-6C9775CD66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rcRect l="0" t="0" r="0" b="4318"/>
          <a:stretch/>
        </p:blipFill>
        <p:spPr>
          <a:xfrm>
            <a:off x="112680" y="412920"/>
            <a:ext cx="8917200" cy="57592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3960" y="656100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5.24, Page 7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952880" y="763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4 forms of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FA82-F60F-4C59-ADB6-C0EC6B6416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960" y="1584000"/>
            <a:ext cx="89154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change of protein’s conformation in response to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جابة ل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 and chemical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lteration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غيي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, salt concentration, temperature, or other factors ca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ر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se forces break the hydrogen bonds, ionic bonds, and disulfide bridges that maintain the protein’s complicated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teins can return to their original shape again after denaturation, but others can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066680" y="76320"/>
            <a:ext cx="70106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Denaturation of protein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فرد البروت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380880" y="914400"/>
            <a:ext cx="79250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D640-546E-4690-A727-F6A301853C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rcRect l="0" t="0" r="0" b="6395"/>
          <a:stretch/>
        </p:blipFill>
        <p:spPr>
          <a:xfrm>
            <a:off x="304920" y="1590840"/>
            <a:ext cx="8534160" cy="36669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3960" y="656100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5.25, Page 7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400800" y="480060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مفر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010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aturation of protein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فرد البرو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380880" y="914400"/>
            <a:ext cx="79250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4416120" y="16002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3048120" y="52578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عادة إلى طبيع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076E-266C-4D59-B17E-D26DCB5D43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04920" y="355680"/>
            <a:ext cx="99036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990720" y="397836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imar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666880" y="39625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condar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21"/>
          <p:cNvGrpSpPr/>
          <p:nvPr/>
        </p:nvGrpSpPr>
        <p:grpSpPr>
          <a:xfrm>
            <a:off x="1599840" y="2225520"/>
            <a:ext cx="6172560" cy="1600200"/>
            <a:chOff x="1599840" y="2225520"/>
            <a:chExt cx="6172560" cy="1600200"/>
          </a:xfrm>
        </p:grpSpPr>
        <p:sp>
          <p:nvSpPr>
            <p:cNvPr id="228" name="Line 11"/>
            <p:cNvSpPr/>
            <p:nvPr/>
          </p:nvSpPr>
          <p:spPr>
            <a:xfrm>
              <a:off x="7315200" y="22255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2"/>
            <p:cNvSpPr/>
            <p:nvPr/>
          </p:nvSpPr>
          <p:spPr>
            <a:xfrm flipH="1">
              <a:off x="1599840" y="3139920"/>
              <a:ext cx="617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3"/>
            <p:cNvSpPr/>
            <p:nvPr/>
          </p:nvSpPr>
          <p:spPr>
            <a:xfrm>
              <a:off x="1600200" y="3139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4"/>
            <p:cNvSpPr/>
            <p:nvPr/>
          </p:nvSpPr>
          <p:spPr>
            <a:xfrm>
              <a:off x="3505320" y="3139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5"/>
            <p:cNvSpPr/>
            <p:nvPr/>
          </p:nvSpPr>
          <p:spPr>
            <a:xfrm>
              <a:off x="7772400" y="3139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5486400" y="3139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9"/>
          <p:cNvSpPr/>
          <p:nvPr/>
        </p:nvSpPr>
        <p:spPr>
          <a:xfrm>
            <a:off x="4648320" y="39625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rtiar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7010280" y="396252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ternar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7"/>
          <p:cNvGrpSpPr/>
          <p:nvPr/>
        </p:nvGrpSpPr>
        <p:grpSpPr>
          <a:xfrm>
            <a:off x="4572000" y="4664160"/>
            <a:ext cx="1600200" cy="2044440"/>
            <a:chOff x="4572000" y="4664160"/>
            <a:chExt cx="1600200" cy="2044440"/>
          </a:xfrm>
        </p:grpSpPr>
        <p:sp>
          <p:nvSpPr>
            <p:cNvPr id="237" name="Text Box 22"/>
            <p:cNvSpPr/>
            <p:nvPr/>
          </p:nvSpPr>
          <p:spPr>
            <a:xfrm>
              <a:off x="4572000" y="4664160"/>
              <a:ext cx="16002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1- Hydrophobic  Interaction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      (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Van der Waals  interaction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3"/>
            <p:cNvSpPr/>
            <p:nvPr/>
          </p:nvSpPr>
          <p:spPr>
            <a:xfrm>
              <a:off x="4724280" y="557856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2- H bonds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4"/>
            <p:cNvSpPr/>
            <p:nvPr/>
          </p:nvSpPr>
          <p:spPr>
            <a:xfrm>
              <a:off x="4724280" y="58834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3- Ionic bonds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5"/>
            <p:cNvSpPr/>
            <p:nvPr/>
          </p:nvSpPr>
          <p:spPr>
            <a:xfrm>
              <a:off x="4724280" y="6188400"/>
              <a:ext cx="121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4- Di-sulfide  bridges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41"/>
          <p:cNvGrpSpPr/>
          <p:nvPr/>
        </p:nvGrpSpPr>
        <p:grpSpPr>
          <a:xfrm>
            <a:off x="841680" y="4740120"/>
            <a:ext cx="1566000" cy="946800"/>
            <a:chOff x="841680" y="4740120"/>
            <a:chExt cx="1566000" cy="946800"/>
          </a:xfrm>
        </p:grpSpPr>
        <p:sp>
          <p:nvSpPr>
            <p:cNvPr id="242" name="Rectangle 26"/>
            <p:cNvSpPr/>
            <p:nvPr/>
          </p:nvSpPr>
          <p:spPr>
            <a:xfrm>
              <a:off x="912240" y="4740120"/>
              <a:ext cx="142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Single chain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of amino aci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7"/>
            <p:cNvSpPr/>
            <p:nvPr/>
          </p:nvSpPr>
          <p:spPr>
            <a:xfrm>
              <a:off x="841680" y="5349600"/>
              <a:ext cx="156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e.g. Lysozy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42"/>
          <p:cNvGrpSpPr/>
          <p:nvPr/>
        </p:nvGrpSpPr>
        <p:grpSpPr>
          <a:xfrm>
            <a:off x="2972520" y="4740120"/>
            <a:ext cx="1020600" cy="1359000"/>
            <a:chOff x="2972520" y="4740120"/>
            <a:chExt cx="1020600" cy="1359000"/>
          </a:xfrm>
        </p:grpSpPr>
        <p:grpSp>
          <p:nvGrpSpPr>
            <p:cNvPr id="245" name="Group 31"/>
            <p:cNvGrpSpPr/>
            <p:nvPr/>
          </p:nvGrpSpPr>
          <p:grpSpPr>
            <a:xfrm>
              <a:off x="3004560" y="5045040"/>
              <a:ext cx="878760" cy="618120"/>
              <a:chOff x="3004560" y="5045040"/>
              <a:chExt cx="878760" cy="618120"/>
            </a:xfrm>
          </p:grpSpPr>
          <p:sp>
            <p:nvSpPr>
              <p:cNvPr id="246" name="Rectangle 28"/>
              <p:cNvSpPr/>
              <p:nvPr/>
            </p:nvSpPr>
            <p:spPr>
              <a:xfrm>
                <a:off x="3004560" y="5045040"/>
                <a:ext cx="87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ff"/>
                    </a:solidFill>
                    <a:uFillTx/>
                    <a:latin typeface="Arial"/>
                  </a:rPr>
                  <a:t>Coils &amp;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29"/>
              <p:cNvSpPr/>
              <p:nvPr/>
            </p:nvSpPr>
            <p:spPr>
              <a:xfrm>
                <a:off x="3080520" y="5325840"/>
                <a:ext cx="72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ff"/>
                    </a:solidFill>
                    <a:uFillTx/>
                    <a:latin typeface="Arial"/>
                  </a:rPr>
                  <a:t>Fold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ctangle 30"/>
            <p:cNvSpPr/>
            <p:nvPr/>
          </p:nvSpPr>
          <p:spPr>
            <a:xfrm>
              <a:off x="2994480" y="4740120"/>
              <a:ext cx="89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H bo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32"/>
            <p:cNvSpPr/>
            <p:nvPr/>
          </p:nvSpPr>
          <p:spPr>
            <a:xfrm>
              <a:off x="2972520" y="573084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.g. sil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43"/>
          <p:cNvGrpSpPr/>
          <p:nvPr/>
        </p:nvGrpSpPr>
        <p:grpSpPr>
          <a:xfrm>
            <a:off x="7090560" y="4695840"/>
            <a:ext cx="1552320" cy="1548360"/>
            <a:chOff x="7090560" y="4695840"/>
            <a:chExt cx="1552320" cy="1548360"/>
          </a:xfrm>
        </p:grpSpPr>
        <p:grpSp>
          <p:nvGrpSpPr>
            <p:cNvPr id="251" name="Group 36"/>
            <p:cNvGrpSpPr/>
            <p:nvPr/>
          </p:nvGrpSpPr>
          <p:grpSpPr>
            <a:xfrm>
              <a:off x="7090560" y="5540400"/>
              <a:ext cx="1552320" cy="703800"/>
              <a:chOff x="7090560" y="5540400"/>
              <a:chExt cx="1552320" cy="703800"/>
            </a:xfrm>
          </p:grpSpPr>
          <p:sp>
            <p:nvSpPr>
              <p:cNvPr id="252" name="Rectangle 33"/>
              <p:cNvSpPr/>
              <p:nvPr/>
            </p:nvSpPr>
            <p:spPr>
              <a:xfrm>
                <a:off x="7090560" y="5540400"/>
                <a:ext cx="1441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e.g. Collag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34"/>
              <p:cNvSpPr/>
              <p:nvPr/>
            </p:nvSpPr>
            <p:spPr>
              <a:xfrm>
                <a:off x="7090560" y="5906880"/>
                <a:ext cx="155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&amp; Hemoglobi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Rectangle 35"/>
            <p:cNvSpPr/>
            <p:nvPr/>
          </p:nvSpPr>
          <p:spPr>
            <a:xfrm>
              <a:off x="7207560" y="4695840"/>
              <a:ext cx="1252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two or mo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polypepti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h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54"/>
          <p:cNvGrpSpPr/>
          <p:nvPr/>
        </p:nvGrpSpPr>
        <p:grpSpPr>
          <a:xfrm>
            <a:off x="1055880" y="1113480"/>
            <a:ext cx="3287520" cy="1292760"/>
            <a:chOff x="1055880" y="1113480"/>
            <a:chExt cx="3287520" cy="1292760"/>
          </a:xfrm>
        </p:grpSpPr>
        <p:sp>
          <p:nvSpPr>
            <p:cNvPr id="256" name="Text Box 5"/>
            <p:cNvSpPr/>
            <p:nvPr/>
          </p:nvSpPr>
          <p:spPr>
            <a:xfrm>
              <a:off x="3048120" y="1879560"/>
              <a:ext cx="129528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53"/>
            <p:cNvGrpSpPr/>
            <p:nvPr/>
          </p:nvGrpSpPr>
          <p:grpSpPr>
            <a:xfrm>
              <a:off x="1055880" y="1113480"/>
              <a:ext cx="1995120" cy="1292760"/>
              <a:chOff x="1055880" y="1113480"/>
              <a:chExt cx="1995120" cy="1292760"/>
            </a:xfrm>
          </p:grpSpPr>
          <p:sp>
            <p:nvSpPr>
              <p:cNvPr id="258" name="AutoShape 7"/>
              <p:cNvSpPr/>
              <p:nvPr/>
            </p:nvSpPr>
            <p:spPr>
              <a:xfrm rot="1351200">
                <a:off x="1101960" y="1454760"/>
                <a:ext cx="1905120" cy="609480"/>
              </a:xfrm>
              <a:prstGeom prst="rightArrow">
                <a:avLst>
                  <a:gd name="adj1" fmla="val 50000"/>
                  <a:gd name="adj2" fmla="val 7814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p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38"/>
              <p:cNvSpPr/>
              <p:nvPr/>
            </p:nvSpPr>
            <p:spPr>
              <a:xfrm rot="1351200">
                <a:off x="1068120" y="1813680"/>
                <a:ext cx="137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Group 49"/>
          <p:cNvGrpSpPr/>
          <p:nvPr/>
        </p:nvGrpSpPr>
        <p:grpSpPr>
          <a:xfrm>
            <a:off x="1371600" y="228600"/>
            <a:ext cx="914400" cy="1066680"/>
            <a:chOff x="1371600" y="228600"/>
            <a:chExt cx="914400" cy="1066680"/>
          </a:xfrm>
        </p:grpSpPr>
        <p:sp>
          <p:nvSpPr>
            <p:cNvPr id="261" name="Line 44"/>
            <p:cNvSpPr/>
            <p:nvPr/>
          </p:nvSpPr>
          <p:spPr>
            <a:xfrm>
              <a:off x="1371600" y="762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45"/>
            <p:cNvSpPr/>
            <p:nvPr/>
          </p:nvSpPr>
          <p:spPr>
            <a:xfrm>
              <a:off x="1752480" y="2286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>
              <a:off x="1752480" y="2286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7"/>
            <p:cNvSpPr/>
            <p:nvPr/>
          </p:nvSpPr>
          <p:spPr>
            <a:xfrm>
              <a:off x="1752480" y="7621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48"/>
            <p:cNvSpPr/>
            <p:nvPr/>
          </p:nvSpPr>
          <p:spPr>
            <a:xfrm>
              <a:off x="1752480" y="12952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50"/>
          <p:cNvSpPr/>
          <p:nvPr/>
        </p:nvSpPr>
        <p:spPr>
          <a:xfrm>
            <a:off x="2286000" y="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1"/>
          <p:cNvSpPr/>
          <p:nvPr/>
        </p:nvSpPr>
        <p:spPr>
          <a:xfrm>
            <a:off x="2286000" y="547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228600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40"/>
          <p:cNvGrpSpPr/>
          <p:nvPr/>
        </p:nvGrpSpPr>
        <p:grpSpPr>
          <a:xfrm>
            <a:off x="4572000" y="1828800"/>
            <a:ext cx="3352320" cy="609480"/>
            <a:chOff x="4572000" y="1828800"/>
            <a:chExt cx="3352320" cy="609480"/>
          </a:xfrm>
        </p:grpSpPr>
        <p:sp>
          <p:nvSpPr>
            <p:cNvPr id="270" name="Text Box 6"/>
            <p:cNvSpPr/>
            <p:nvPr/>
          </p:nvSpPr>
          <p:spPr>
            <a:xfrm>
              <a:off x="6629040" y="1904760"/>
              <a:ext cx="129528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8"/>
            <p:cNvSpPr/>
            <p:nvPr/>
          </p:nvSpPr>
          <p:spPr>
            <a:xfrm>
              <a:off x="4572000" y="1828800"/>
              <a:ext cx="1904760" cy="609480"/>
            </a:xfrm>
            <a:prstGeom prst="rightArrow">
              <a:avLst>
                <a:gd name="adj1" fmla="val 50000"/>
                <a:gd name="adj2" fmla="val 7813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F9C8-840C-4214-A2C5-5D11F76E10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87280"/>
            <a:ext cx="9144000" cy="531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functions include structural support, storage, transport of other substances, intercellular signal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شارات بين الخل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ovement, and defense against micro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proteins works as enzymes in the cell that regulate metabolism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ي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accelerat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سري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s have tens of thousands of different proteins, each with their own structure and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protein polymers are constructed from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ركب م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ame set of 20 monomers, called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ers of proteins are called polypeptid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ببتيدات عديد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otein consists of one or more polypeptides folded and coiled  into a specific co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2-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04920" y="99072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28ED-4BEC-497F-8484-F548FB35BA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228600" y="58672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The physical and chemical characteris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nique characteristics of a particular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"/>
          <p:cNvGrpSpPr/>
          <p:nvPr/>
        </p:nvGrpSpPr>
        <p:grpSpPr>
          <a:xfrm>
            <a:off x="5105520" y="3581280"/>
            <a:ext cx="1447560" cy="1238400"/>
            <a:chOff x="5105520" y="3581280"/>
            <a:chExt cx="1447560" cy="1238400"/>
          </a:xfrm>
        </p:grpSpPr>
        <p:sp>
          <p:nvSpPr>
            <p:cNvPr id="61" name="Rectangle 3"/>
            <p:cNvSpPr/>
            <p:nvPr/>
          </p:nvSpPr>
          <p:spPr>
            <a:xfrm>
              <a:off x="5257800" y="3581280"/>
              <a:ext cx="1066680" cy="838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5105520" y="44514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5"/>
          <p:cNvGrpSpPr/>
          <p:nvPr/>
        </p:nvGrpSpPr>
        <p:grpSpPr>
          <a:xfrm>
            <a:off x="2781360" y="2057400"/>
            <a:ext cx="2209680" cy="2318760"/>
            <a:chOff x="2781360" y="2057400"/>
            <a:chExt cx="2209680" cy="2318760"/>
          </a:xfrm>
        </p:grpSpPr>
        <p:sp>
          <p:nvSpPr>
            <p:cNvPr id="64" name="Rectangle 6"/>
            <p:cNvSpPr/>
            <p:nvPr/>
          </p:nvSpPr>
          <p:spPr>
            <a:xfrm>
              <a:off x="3695760" y="205740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2781360" y="373356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6553080" y="2133720"/>
            <a:ext cx="2362320" cy="2318760"/>
            <a:chOff x="6553080" y="2133720"/>
            <a:chExt cx="2362320" cy="2318760"/>
          </a:xfrm>
        </p:grpSpPr>
        <p:sp>
          <p:nvSpPr>
            <p:cNvPr id="67" name="Rectangle 9"/>
            <p:cNvSpPr/>
            <p:nvPr/>
          </p:nvSpPr>
          <p:spPr>
            <a:xfrm>
              <a:off x="6553080" y="213372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0"/>
            <p:cNvSpPr/>
            <p:nvPr/>
          </p:nvSpPr>
          <p:spPr>
            <a:xfrm>
              <a:off x="7696080" y="38098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13"/>
          <p:cNvSpPr/>
          <p:nvPr/>
        </p:nvSpPr>
        <p:spPr>
          <a:xfrm>
            <a:off x="304920" y="2286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y are Polymers of amino acids (constructed from 20 amino acids)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304920" y="224964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"/>
          <p:cNvGrpSpPr/>
          <p:nvPr/>
        </p:nvGrpSpPr>
        <p:grpSpPr>
          <a:xfrm>
            <a:off x="3733920" y="1905120"/>
            <a:ext cx="4267080" cy="2405160"/>
            <a:chOff x="3733920" y="1905120"/>
            <a:chExt cx="4267080" cy="2405160"/>
          </a:xfrm>
        </p:grpSpPr>
        <p:sp>
          <p:nvSpPr>
            <p:cNvPr id="72" name="Text Box 16"/>
            <p:cNvSpPr/>
            <p:nvPr/>
          </p:nvSpPr>
          <p:spPr>
            <a:xfrm>
              <a:off x="5486400" y="26668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7"/>
            <p:cNvSpPr/>
            <p:nvPr/>
          </p:nvSpPr>
          <p:spPr>
            <a:xfrm>
              <a:off x="5486400" y="190512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>
              <a:off x="5524560" y="36068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9"/>
            <p:cNvSpPr/>
            <p:nvPr/>
          </p:nvSpPr>
          <p:spPr>
            <a:xfrm flipV="1">
              <a:off x="5791320" y="24379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0"/>
            <p:cNvSpPr/>
            <p:nvPr/>
          </p:nvSpPr>
          <p:spPr>
            <a:xfrm>
              <a:off x="5791320" y="32763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1"/>
            <p:cNvGrpSpPr/>
            <p:nvPr/>
          </p:nvGrpSpPr>
          <p:grpSpPr>
            <a:xfrm>
              <a:off x="3733920" y="1981080"/>
              <a:ext cx="1828800" cy="1982520"/>
              <a:chOff x="3733920" y="1981080"/>
              <a:chExt cx="1828800" cy="1982520"/>
            </a:xfrm>
          </p:grpSpPr>
          <p:sp>
            <p:nvSpPr>
              <p:cNvPr id="78" name="Text Box 22"/>
              <p:cNvSpPr/>
              <p:nvPr/>
            </p:nvSpPr>
            <p:spPr>
              <a:xfrm>
                <a:off x="4495680" y="26665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3"/>
              <p:cNvSpPr/>
              <p:nvPr/>
            </p:nvSpPr>
            <p:spPr>
              <a:xfrm>
                <a:off x="3809880" y="19810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4"/>
              <p:cNvSpPr/>
              <p:nvPr/>
            </p:nvSpPr>
            <p:spPr>
              <a:xfrm>
                <a:off x="3733920" y="32601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5"/>
              <p:cNvSpPr/>
              <p:nvPr/>
            </p:nvSpPr>
            <p:spPr>
              <a:xfrm>
                <a:off x="4267080" y="253980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6"/>
              <p:cNvSpPr/>
              <p:nvPr/>
            </p:nvSpPr>
            <p:spPr>
              <a:xfrm flipH="1">
                <a:off x="4266720" y="319968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7"/>
              <p:cNvSpPr/>
              <p:nvPr/>
            </p:nvSpPr>
            <p:spPr>
              <a:xfrm flipH="1">
                <a:off x="4952880" y="304740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8"/>
            <p:cNvSpPr/>
            <p:nvPr/>
          </p:nvSpPr>
          <p:spPr>
            <a:xfrm flipH="1">
              <a:off x="5943600" y="304776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9"/>
            <p:cNvSpPr/>
            <p:nvPr/>
          </p:nvSpPr>
          <p:spPr>
            <a:xfrm>
              <a:off x="6477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0"/>
            <p:cNvSpPr/>
            <p:nvPr/>
          </p:nvSpPr>
          <p:spPr>
            <a:xfrm>
              <a:off x="6858000" y="33368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1"/>
            <p:cNvSpPr/>
            <p:nvPr/>
          </p:nvSpPr>
          <p:spPr>
            <a:xfrm>
              <a:off x="6934320" y="20415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2"/>
            <p:cNvSpPr/>
            <p:nvPr/>
          </p:nvSpPr>
          <p:spPr>
            <a:xfrm flipH="1">
              <a:off x="6832800" y="24638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3"/>
            <p:cNvSpPr/>
            <p:nvPr/>
          </p:nvSpPr>
          <p:spPr>
            <a:xfrm flipH="1">
              <a:off x="6908760" y="25398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4"/>
            <p:cNvSpPr/>
            <p:nvPr/>
          </p:nvSpPr>
          <p:spPr>
            <a:xfrm>
              <a:off x="6858000" y="322560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35"/>
          <p:cNvSpPr/>
          <p:nvPr/>
        </p:nvSpPr>
        <p:spPr>
          <a:xfrm>
            <a:off x="228600" y="4952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 side chain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links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بط بـ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fferent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0"/>
          <p:cNvSpPr/>
          <p:nvPr/>
        </p:nvSpPr>
        <p:spPr>
          <a:xfrm>
            <a:off x="304920" y="990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These components inclu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1"/>
          <p:cNvSpPr/>
          <p:nvPr/>
        </p:nvSpPr>
        <p:spPr>
          <a:xfrm>
            <a:off x="228600" y="54100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6D14-A4F6-40E3-8985-2FB168281C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1888920"/>
            <a:ext cx="87631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 (non-pola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2800" y="6415200"/>
            <a:ext cx="155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g. 5.15, Page 7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286000" y="22860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mino acid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0492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04920" y="31082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, making them hydrophil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52280" y="440388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6D5F-6A44-4ECC-8DA6-5D32552BD5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1347" t="4604" r="1618" b="7664"/>
          <a:stretch/>
        </p:blipFill>
        <p:spPr>
          <a:xfrm>
            <a:off x="380880" y="2133720"/>
            <a:ext cx="8382240" cy="3628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7631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 (non-pola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82800" y="6415200"/>
            <a:ext cx="155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g. 5.15, Page 7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30492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FEE1-ECF8-4C81-BC7F-A15EE4C2FC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rcRect l="0" t="0" r="0" b="59666"/>
          <a:stretch/>
        </p:blipFill>
        <p:spPr>
          <a:xfrm>
            <a:off x="152280" y="838080"/>
            <a:ext cx="8839440" cy="2127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380880" y="2286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, making them hydrophil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52280" y="3047760"/>
            <a:ext cx="883944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2"/>
          <a:srcRect l="0" t="40342" r="0" b="5171"/>
          <a:stretch/>
        </p:blipFill>
        <p:spPr>
          <a:xfrm>
            <a:off x="304920" y="4114800"/>
            <a:ext cx="8686800" cy="2438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75960" y="6537240"/>
            <a:ext cx="160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15, Page 7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7AD8-ED60-41C8-B0DA-92EAB26C21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2362320" y="7632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eptid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990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36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55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5"/>
          <p:cNvGrpSpPr/>
          <p:nvPr/>
        </p:nvGrpSpPr>
        <p:grpSpPr>
          <a:xfrm>
            <a:off x="152280" y="3200400"/>
            <a:ext cx="8610840" cy="76320"/>
            <a:chOff x="152280" y="3200400"/>
            <a:chExt cx="8610840" cy="76320"/>
          </a:xfrm>
        </p:grpSpPr>
        <p:sp>
          <p:nvSpPr>
            <p:cNvPr id="158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 flipH="1">
              <a:off x="777240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48"/>
          <p:cNvSpPr/>
          <p:nvPr/>
        </p:nvSpPr>
        <p:spPr>
          <a:xfrm>
            <a:off x="1447920" y="5562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Pep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9"/>
          <p:cNvSpPr/>
          <p:nvPr/>
        </p:nvSpPr>
        <p:spPr>
          <a:xfrm>
            <a:off x="76320" y="649116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ge 73, Fig. 5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0"/>
          <p:cNvGrpSpPr/>
          <p:nvPr/>
        </p:nvGrpSpPr>
        <p:grpSpPr>
          <a:xfrm>
            <a:off x="3048120" y="5562720"/>
            <a:ext cx="4724280" cy="459720"/>
            <a:chOff x="3048120" y="5562720"/>
            <a:chExt cx="4724280" cy="459720"/>
          </a:xfrm>
        </p:grpSpPr>
        <p:sp>
          <p:nvSpPr>
            <p:cNvPr id="163" name="AutoShape 51"/>
            <p:cNvSpPr/>
            <p:nvPr/>
          </p:nvSpPr>
          <p:spPr>
            <a:xfrm>
              <a:off x="304812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2"/>
            <p:cNvSpPr/>
            <p:nvPr/>
          </p:nvSpPr>
          <p:spPr>
            <a:xfrm>
              <a:off x="441972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Line 53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4"/>
          <p:cNvSpPr/>
          <p:nvPr/>
        </p:nvSpPr>
        <p:spPr>
          <a:xfrm>
            <a:off x="6553080" y="4876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4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5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53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6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5672-72CE-4A5E-BBAE-6D6B32F6BB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762120" y="1568520"/>
            <a:ext cx="3504960" cy="2278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3960" y="656100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5.16, Page 7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6320" y="4164120"/>
            <a:ext cx="89154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ing the process over and over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عدة م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s a long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t one end is an amino acid with a free amino group the (the N-terminus) and at the other is an amino acid with a free carboxyl group the (the C-termin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R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4267080" y="1492200"/>
            <a:ext cx="4419720" cy="2546280"/>
            <a:chOff x="4267080" y="1492200"/>
            <a:chExt cx="4419720" cy="2546280"/>
          </a:xfrm>
        </p:grpSpPr>
        <p:pic>
          <p:nvPicPr>
            <p:cNvPr id="173" name="Picture 4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952880" y="149220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AutoShape 8"/>
            <p:cNvSpPr/>
            <p:nvPr/>
          </p:nvSpPr>
          <p:spPr>
            <a:xfrm>
              <a:off x="4267080" y="274320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D9CD-E11F-4822-A60D-1C56928146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8600" y="1162080"/>
            <a:ext cx="8686800" cy="51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لتفا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a protein from a chain of amino acids occurs spontaneous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ذات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re are three levels of struc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imar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ول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 secondar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انو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erti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, are used to organize the folding within a single polypept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atern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رباع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arises when two or more polypeptides join to form a pro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066680" y="122400"/>
            <a:ext cx="70106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Levels of Protei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380880" y="914400"/>
            <a:ext cx="79250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Ahmed</cp:lastModifiedBy>
  <dcterms:modified xsi:type="dcterms:W3CDTF">2009-03-03T12:03:21Z</dcterms:modified>
  <cp:revision>1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