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F1C5-F9A7-4DBE-AA78-63B8303E054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0639-564C-46BD-B170-332F84A23DD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9427-1DB5-472B-BF47-49321036187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20E3-9869-41D4-A47D-89C72E6878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50DA-0679-418C-A4A3-B2CC5CD226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CD7-AC75-4D35-B5F5-BBA7062042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7A44-22BB-4948-8E27-6BD37F6B34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BAF3-7AFA-47CC-82A4-28C35D3EBAE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3281-D09D-4428-A255-5BF81CB454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6CE2-9C95-4BD1-A150-6BE4905E43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5BF3-0264-40F4-A6FB-5C6EDB7C6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A636-87C4-4FEC-A47F-D9609939330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7274-BAE3-4294-AFF4-E9ECB1A4C02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AFB8-B98E-4387-AA6C-F1131B9F5EB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8D8-9349-4557-B90E-B56477DDC08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8717-B126-4D5B-9390-52683F8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50A-A690-45F3-A2F3-C56705CAC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3BD-3C04-4063-89FD-B39E88B9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DAC-8451-4DDB-87B7-3ACFF912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7C6-AD9A-4E20-BD15-48BCAE6D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32-357B-436F-BD34-FB8566D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96F-2DFC-414E-ACDC-FD0D796B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5C1-1F5A-4BFE-ABEE-146AFB3E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B46-C27A-4D55-B4F5-AD44B810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086-C7B5-4EE8-9BBE-390FBC22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1C3-9292-40C3-B0ED-EF09E30B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B4A-349C-41A5-ABEB-685BA65D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610E-1E4A-4211-B789-5F855A93DF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F68-9011-4838-A58D-B1FCB5DDD2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0" y="304920"/>
            <a:ext cx="9601200" cy="6553080"/>
            <a:chOff x="0" y="304920"/>
            <a:chExt cx="9601200" cy="6553080"/>
          </a:xfrm>
        </p:grpSpPr>
        <p:pic>
          <p:nvPicPr>
            <p:cNvPr id="51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3048120"/>
              <a:ext cx="914400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4"/>
            <p:cNvSpPr/>
            <p:nvPr/>
          </p:nvSpPr>
          <p:spPr>
            <a:xfrm>
              <a:off x="0" y="304920"/>
              <a:ext cx="82296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-  Protein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any Structures, Many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5"/>
            <p:cNvSpPr/>
            <p:nvPr/>
          </p:nvSpPr>
          <p:spPr>
            <a:xfrm>
              <a:off x="0" y="1676520"/>
              <a:ext cx="9601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.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 polypeptide is a polymer of amino acids connected in a specific seque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25000"/>
                </a:lnSpc>
                <a:tabLst>
                  <a:tab algn="l" pos="0"/>
                  <a:tab algn="l" pos="343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.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	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A protein’s function depends on its specific co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1AE1-CFE4-4AE8-9CA9-D5A36B95B8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704880"/>
            <a:ext cx="449568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im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ngle polypeptide ch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mino ac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ysozyme, an enzyme that attacks bacteria, consists of a polypeptide chain of 129 amino ac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light chang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غيير طفي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he primary structure can affect a protein’s conformation and ability to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925880" y="76320"/>
            <a:ext cx="3989520" cy="6629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8, Page 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C97C-83CF-45E4-865D-8B344FC428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80520" y="76320"/>
            <a:ext cx="8534520" cy="18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ckle cell diseas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نج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bnormal hemoglobin because of a single amino acid substitu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غيي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bnormal hemoglobins crystallize, deforming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كس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blood cells and leading to clog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إنسداد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iny blood vess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0" t="8591" r="6666" b="3573"/>
          <a:stretch/>
        </p:blipFill>
        <p:spPr>
          <a:xfrm>
            <a:off x="914400" y="2514600"/>
            <a:ext cx="7867800" cy="37670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5"/>
          <p:cNvSpPr/>
          <p:nvPr/>
        </p:nvSpPr>
        <p:spPr>
          <a:xfrm>
            <a:off x="31680" y="6477120"/>
            <a:ext cx="1492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9, Page 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E2B1-7541-4AE5-BA33-B80318BD32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388440"/>
            <a:ext cx="9144000" cy="617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2-  The secondary 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 from hydrogen bonds at regular interval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لى أبعاد متسا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ong the polypeptide backb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.  Coil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لزونى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elix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ypical shap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develop fro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35000"/>
              </a:lnSpc>
              <a:spcBef>
                <a:spcPts val="499"/>
              </a:spcBef>
              <a:buClr>
                <a:srgbClr val="0000ff"/>
              </a:buClr>
              <a:buFont typeface="Arial"/>
              <a:buAutoNum type="alphaU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old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eated sheet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شيت المُجع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Com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everal parallel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ils attached by H bo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0" t="0" r="0" b="2790"/>
          <a:stretch/>
        </p:blipFill>
        <p:spPr>
          <a:xfrm>
            <a:off x="4191120" y="1371600"/>
            <a:ext cx="4910040" cy="5334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0, Page 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FBB7-36D3-4378-AAAD-2431595ED97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13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n example for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folds (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eta pleated sheets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الشيت المُجعد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tructural properties of silk because of  the presence of so many hydrogen bonds makes each silk fiber stronger than ste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228600" y="1638360"/>
            <a:ext cx="8534520" cy="46861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1, Page 7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335-048F-417E-9ABE-0C2A43D733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648320" y="2533680"/>
            <a:ext cx="4343400" cy="3790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279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erti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determined by a variety of interactio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mong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خلا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gro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groups and the polypeptide backb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interactions includ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ogen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mong polar area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onic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charg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and hydrophobic interactions and  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n der Waals intera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mong                                       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-3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2, Page 7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304920" y="36241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these three interactions are relatively weak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ulfid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rid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strong covalent bonds that form between the sulfhydryl groups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of cysteine monomers, stabilize the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E9C-40FB-48E6-AF91-8CB1D41011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960" y="228600"/>
            <a:ext cx="8915400" cy="557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4- The quaternary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from the aggregation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جم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wo or more polypeptide 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fibrous protei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ree polypept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are supercoiled, and function in connective t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Arial"/>
              <a:buAutoNum type="alpha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moglob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ular prote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wo cop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wo ki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olypept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l-GR" sz="24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28240" y="640080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3, Page 7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8"/>
          <p:cNvGrpSpPr/>
          <p:nvPr/>
        </p:nvGrpSpPr>
        <p:grpSpPr>
          <a:xfrm>
            <a:off x="3962520" y="2743200"/>
            <a:ext cx="4952880" cy="3765960"/>
            <a:chOff x="3962520" y="2743200"/>
            <a:chExt cx="4952880" cy="3765960"/>
          </a:xfrm>
        </p:grpSpPr>
        <p:pic>
          <p:nvPicPr>
            <p:cNvPr id="204" name="Picture 4" descr=""/>
            <p:cNvPicPr/>
            <p:nvPr/>
          </p:nvPicPr>
          <p:blipFill>
            <a:blip r:embed="rId1"/>
            <a:srcRect l="0" t="0" r="0" b="3893"/>
            <a:stretch/>
          </p:blipFill>
          <p:spPr>
            <a:xfrm>
              <a:off x="4038480" y="2743200"/>
              <a:ext cx="4876920" cy="33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6"/>
            <p:cNvSpPr/>
            <p:nvPr/>
          </p:nvSpPr>
          <p:spPr>
            <a:xfrm>
              <a:off x="3962520" y="60958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Collag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6629400" y="611028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emoglob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4518-940B-4FDA-A7D8-F8D6816E8C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0" t="0" r="0" b="4318"/>
          <a:stretch/>
        </p:blipFill>
        <p:spPr>
          <a:xfrm>
            <a:off x="112680" y="412920"/>
            <a:ext cx="8917200" cy="57592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24, Page 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952880" y="763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he 4 forms of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0EBF-76F2-442A-8C18-64483FAF9E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75960" y="1584000"/>
            <a:ext cx="89154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e change of protein’s conformation in response to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ستجابة ل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and chemic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lteration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تغيي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, salt concentration, temperature, or other factors ca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a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يفر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se forces break the hydrogen bonds, ionic bonds, and disulfide bridges that maintain the protein’s complicated sha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teins can return to their original shape again after denaturation, but others can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1066680" y="76320"/>
            <a:ext cx="7010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Denaturation of protein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فرد البروت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861B-96E2-473F-B6DA-ADBEA926F6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rcRect l="0" t="0" r="0" b="6395"/>
          <a:stretch/>
        </p:blipFill>
        <p:spPr>
          <a:xfrm>
            <a:off x="304920" y="1590840"/>
            <a:ext cx="8534160" cy="3666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25, Page 7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6400800" y="480060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Arial"/>
              </a:rPr>
              <a:t>مفر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010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naturation of protein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فرد البروت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4416120" y="160020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فر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048120" y="52578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عادة إلى طبيعت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DA31-9838-451A-89FB-4C0A051E5B1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04920" y="355680"/>
            <a:ext cx="9903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990720" y="397836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666880" y="3962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1599840" y="2225520"/>
            <a:ext cx="6172560" cy="1600200"/>
            <a:chOff x="1599840" y="2225520"/>
            <a:chExt cx="6172560" cy="1600200"/>
          </a:xfrm>
        </p:grpSpPr>
        <p:sp>
          <p:nvSpPr>
            <p:cNvPr id="228" name="Line 11"/>
            <p:cNvSpPr/>
            <p:nvPr/>
          </p:nvSpPr>
          <p:spPr>
            <a:xfrm>
              <a:off x="7315200" y="22255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2"/>
            <p:cNvSpPr/>
            <p:nvPr/>
          </p:nvSpPr>
          <p:spPr>
            <a:xfrm flipH="1">
              <a:off x="1599840" y="3139920"/>
              <a:ext cx="6172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3"/>
            <p:cNvSpPr/>
            <p:nvPr/>
          </p:nvSpPr>
          <p:spPr>
            <a:xfrm>
              <a:off x="16002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4"/>
            <p:cNvSpPr/>
            <p:nvPr/>
          </p:nvSpPr>
          <p:spPr>
            <a:xfrm>
              <a:off x="350532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"/>
            <p:cNvSpPr/>
            <p:nvPr/>
          </p:nvSpPr>
          <p:spPr>
            <a:xfrm>
              <a:off x="77724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8"/>
            <p:cNvSpPr/>
            <p:nvPr/>
          </p:nvSpPr>
          <p:spPr>
            <a:xfrm>
              <a:off x="5486400" y="313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9"/>
          <p:cNvSpPr/>
          <p:nvPr/>
        </p:nvSpPr>
        <p:spPr>
          <a:xfrm>
            <a:off x="4648320" y="39625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7010280" y="39625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ternar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7"/>
          <p:cNvGrpSpPr/>
          <p:nvPr/>
        </p:nvGrpSpPr>
        <p:grpSpPr>
          <a:xfrm>
            <a:off x="4572000" y="4664160"/>
            <a:ext cx="1600200" cy="2044440"/>
            <a:chOff x="4572000" y="4664160"/>
            <a:chExt cx="1600200" cy="2044440"/>
          </a:xfrm>
        </p:grpSpPr>
        <p:sp>
          <p:nvSpPr>
            <p:cNvPr id="237" name="Text Box 22"/>
            <p:cNvSpPr/>
            <p:nvPr/>
          </p:nvSpPr>
          <p:spPr>
            <a:xfrm>
              <a:off x="4572000" y="4664160"/>
              <a:ext cx="16002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1- Hydrophobic  Interaction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                   (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an der Waals  interaction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23"/>
            <p:cNvSpPr/>
            <p:nvPr/>
          </p:nvSpPr>
          <p:spPr>
            <a:xfrm>
              <a:off x="4724280" y="557856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2- H bond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4"/>
            <p:cNvSpPr/>
            <p:nvPr/>
          </p:nvSpPr>
          <p:spPr>
            <a:xfrm>
              <a:off x="4724280" y="58834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3- Ionic bond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25"/>
            <p:cNvSpPr/>
            <p:nvPr/>
          </p:nvSpPr>
          <p:spPr>
            <a:xfrm>
              <a:off x="4724280" y="618840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4- Di-sulfide  bridges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41"/>
          <p:cNvGrpSpPr/>
          <p:nvPr/>
        </p:nvGrpSpPr>
        <p:grpSpPr>
          <a:xfrm>
            <a:off x="841680" y="4740120"/>
            <a:ext cx="1566000" cy="946800"/>
            <a:chOff x="841680" y="4740120"/>
            <a:chExt cx="1566000" cy="946800"/>
          </a:xfrm>
        </p:grpSpPr>
        <p:sp>
          <p:nvSpPr>
            <p:cNvPr id="242" name="Rectangle 26"/>
            <p:cNvSpPr/>
            <p:nvPr/>
          </p:nvSpPr>
          <p:spPr>
            <a:xfrm>
              <a:off x="912240" y="4740120"/>
              <a:ext cx="142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Single chain</a:t>
              </a: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of amino aci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841680" y="5349600"/>
              <a:ext cx="156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e.g. Lysozy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2"/>
          <p:cNvGrpSpPr/>
          <p:nvPr/>
        </p:nvGrpSpPr>
        <p:grpSpPr>
          <a:xfrm>
            <a:off x="2972520" y="4740120"/>
            <a:ext cx="1020600" cy="1359000"/>
            <a:chOff x="2972520" y="4740120"/>
            <a:chExt cx="1020600" cy="1359000"/>
          </a:xfrm>
        </p:grpSpPr>
        <p:grpSp>
          <p:nvGrpSpPr>
            <p:cNvPr id="245" name="Group 31"/>
            <p:cNvGrpSpPr/>
            <p:nvPr/>
          </p:nvGrpSpPr>
          <p:grpSpPr>
            <a:xfrm>
              <a:off x="3004560" y="5045040"/>
              <a:ext cx="878760" cy="618120"/>
              <a:chOff x="3004560" y="5045040"/>
              <a:chExt cx="878760" cy="618120"/>
            </a:xfrm>
          </p:grpSpPr>
          <p:sp>
            <p:nvSpPr>
              <p:cNvPr id="246" name="Rectangle 28"/>
              <p:cNvSpPr/>
              <p:nvPr/>
            </p:nvSpPr>
            <p:spPr>
              <a:xfrm>
                <a:off x="3004560" y="5045040"/>
                <a:ext cx="87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Coils &amp;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29"/>
              <p:cNvSpPr/>
              <p:nvPr/>
            </p:nvSpPr>
            <p:spPr>
              <a:xfrm>
                <a:off x="3080520" y="5325840"/>
                <a:ext cx="72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 u="sng">
                    <a:solidFill>
                      <a:srgbClr val="0000ff"/>
                    </a:solidFill>
                    <a:uFillTx/>
                    <a:latin typeface="Arial"/>
                  </a:rPr>
                  <a:t>Fold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Rectangle 30"/>
            <p:cNvSpPr/>
            <p:nvPr/>
          </p:nvSpPr>
          <p:spPr>
            <a:xfrm>
              <a:off x="2994480" y="4740120"/>
              <a:ext cx="891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H bon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2972520" y="5730840"/>
              <a:ext cx="102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.g. sil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7090560" y="4695840"/>
            <a:ext cx="1552320" cy="1548360"/>
            <a:chOff x="7090560" y="4695840"/>
            <a:chExt cx="1552320" cy="1548360"/>
          </a:xfrm>
        </p:grpSpPr>
        <p:grpSp>
          <p:nvGrpSpPr>
            <p:cNvPr id="251" name="Group 36"/>
            <p:cNvGrpSpPr/>
            <p:nvPr/>
          </p:nvGrpSpPr>
          <p:grpSpPr>
            <a:xfrm>
              <a:off x="7090560" y="5540400"/>
              <a:ext cx="1552320" cy="703800"/>
              <a:chOff x="7090560" y="5540400"/>
              <a:chExt cx="1552320" cy="703800"/>
            </a:xfrm>
          </p:grpSpPr>
          <p:sp>
            <p:nvSpPr>
              <p:cNvPr id="252" name="Rectangle 33"/>
              <p:cNvSpPr/>
              <p:nvPr/>
            </p:nvSpPr>
            <p:spPr>
              <a:xfrm>
                <a:off x="7090560" y="5540400"/>
                <a:ext cx="144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e.g. Collag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34"/>
              <p:cNvSpPr/>
              <p:nvPr/>
            </p:nvSpPr>
            <p:spPr>
              <a:xfrm>
                <a:off x="7090560" y="5906880"/>
                <a:ext cx="155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&amp; Hemoglobi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35"/>
            <p:cNvSpPr/>
            <p:nvPr/>
          </p:nvSpPr>
          <p:spPr>
            <a:xfrm>
              <a:off x="7207560" y="4695840"/>
              <a:ext cx="1252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wo or m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olypepti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h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54"/>
          <p:cNvGrpSpPr/>
          <p:nvPr/>
        </p:nvGrpSpPr>
        <p:grpSpPr>
          <a:xfrm>
            <a:off x="1055880" y="1113480"/>
            <a:ext cx="3287520" cy="1292760"/>
            <a:chOff x="1055880" y="1113480"/>
            <a:chExt cx="3287520" cy="1292760"/>
          </a:xfrm>
        </p:grpSpPr>
        <p:sp>
          <p:nvSpPr>
            <p:cNvPr id="256" name="Text Box 5"/>
            <p:cNvSpPr/>
            <p:nvPr/>
          </p:nvSpPr>
          <p:spPr>
            <a:xfrm>
              <a:off x="3048120" y="187956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ept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53"/>
            <p:cNvGrpSpPr/>
            <p:nvPr/>
          </p:nvGrpSpPr>
          <p:grpSpPr>
            <a:xfrm>
              <a:off x="1055880" y="1113480"/>
              <a:ext cx="1995120" cy="1292760"/>
              <a:chOff x="1055880" y="1113480"/>
              <a:chExt cx="1995120" cy="1292760"/>
            </a:xfrm>
          </p:grpSpPr>
          <p:sp>
            <p:nvSpPr>
              <p:cNvPr id="258" name="AutoShape 7"/>
              <p:cNvSpPr/>
              <p:nvPr/>
            </p:nvSpPr>
            <p:spPr>
              <a:xfrm rot="1351200">
                <a:off x="1101960" y="145476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Peptide pond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38"/>
              <p:cNvSpPr/>
              <p:nvPr/>
            </p:nvSpPr>
            <p:spPr>
              <a:xfrm rot="1351200">
                <a:off x="1068120" y="1813680"/>
                <a:ext cx="1371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ff"/>
                    </a:solidFill>
                    <a:latin typeface="Arial"/>
                  </a:rPr>
                  <a:t>Dehydra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0" name="Group 49"/>
          <p:cNvGrpSpPr/>
          <p:nvPr/>
        </p:nvGrpSpPr>
        <p:grpSpPr>
          <a:xfrm>
            <a:off x="1371600" y="228600"/>
            <a:ext cx="914400" cy="1066680"/>
            <a:chOff x="1371600" y="228600"/>
            <a:chExt cx="914400" cy="1066680"/>
          </a:xfrm>
        </p:grpSpPr>
        <p:sp>
          <p:nvSpPr>
            <p:cNvPr id="261" name="Line 44"/>
            <p:cNvSpPr/>
            <p:nvPr/>
          </p:nvSpPr>
          <p:spPr>
            <a:xfrm>
              <a:off x="1371600" y="76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45"/>
            <p:cNvSpPr/>
            <p:nvPr/>
          </p:nvSpPr>
          <p:spPr>
            <a:xfrm>
              <a:off x="1752480" y="22860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46"/>
            <p:cNvSpPr/>
            <p:nvPr/>
          </p:nvSpPr>
          <p:spPr>
            <a:xfrm>
              <a:off x="1752480" y="2286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7"/>
            <p:cNvSpPr/>
            <p:nvPr/>
          </p:nvSpPr>
          <p:spPr>
            <a:xfrm>
              <a:off x="1752480" y="7621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48"/>
            <p:cNvSpPr/>
            <p:nvPr/>
          </p:nvSpPr>
          <p:spPr>
            <a:xfrm>
              <a:off x="1752480" y="1295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Text Box 50"/>
          <p:cNvSpPr/>
          <p:nvPr/>
        </p:nvSpPr>
        <p:spPr>
          <a:xfrm>
            <a:off x="2286000" y="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1"/>
          <p:cNvSpPr/>
          <p:nvPr/>
        </p:nvSpPr>
        <p:spPr>
          <a:xfrm>
            <a:off x="2286000" y="547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ilic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a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2"/>
          <p:cNvSpPr/>
          <p:nvPr/>
        </p:nvSpPr>
        <p:spPr>
          <a:xfrm>
            <a:off x="228600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ized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ge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unctional group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40"/>
          <p:cNvGrpSpPr/>
          <p:nvPr/>
        </p:nvGrpSpPr>
        <p:grpSpPr>
          <a:xfrm>
            <a:off x="4572000" y="1828800"/>
            <a:ext cx="3352320" cy="609480"/>
            <a:chOff x="4572000" y="1828800"/>
            <a:chExt cx="3352320" cy="609480"/>
          </a:xfrm>
        </p:grpSpPr>
        <p:sp>
          <p:nvSpPr>
            <p:cNvPr id="270" name="Text Box 6"/>
            <p:cNvSpPr/>
            <p:nvPr/>
          </p:nvSpPr>
          <p:spPr>
            <a:xfrm>
              <a:off x="6629040" y="1904760"/>
              <a:ext cx="1295280" cy="398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81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ff"/>
                  </a:solidFill>
                  <a:latin typeface="Arial"/>
                </a:rPr>
                <a:t>Protei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8"/>
            <p:cNvSpPr/>
            <p:nvPr/>
          </p:nvSpPr>
          <p:spPr>
            <a:xfrm>
              <a:off x="4572000" y="1828800"/>
              <a:ext cx="1904760" cy="609480"/>
            </a:xfrm>
            <a:prstGeom prst="rightArrow">
              <a:avLst>
                <a:gd name="adj1" fmla="val 50000"/>
                <a:gd name="adj2" fmla="val 7813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00"/>
                  </a:solidFill>
                  <a:latin typeface="Arial"/>
                </a:rPr>
                <a:t>Polypepti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9555-ABF7-4B41-ADFB-476964B71D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187280"/>
            <a:ext cx="9144000" cy="53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ir functions include structural support, storage, transport of other substances, intercellular signal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شارات بين الخلو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ovement, and defense against micro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proteins works as enzymes in the cell that regulate metabolis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ي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accelerat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سري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have tens of thousands of different proteins, each with their own structure and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protein polymers are constructed from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ركب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e set of 20 monomers, called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of proteins are called polypeptid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بتيدات عديد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rotein consists of one or more polypeptides folded and coiled  into a specific co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-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04920" y="99072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0F4E-0468-4773-B96C-DFE29FF52D8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228600" y="58672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he physical and chemical characteristic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صف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 determin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حد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que characteristics of a particular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"/>
          <p:cNvGrpSpPr/>
          <p:nvPr/>
        </p:nvGrpSpPr>
        <p:grpSpPr>
          <a:xfrm>
            <a:off x="5105520" y="3581280"/>
            <a:ext cx="1447560" cy="1238400"/>
            <a:chOff x="5105520" y="3581280"/>
            <a:chExt cx="1447560" cy="1238400"/>
          </a:xfrm>
        </p:grpSpPr>
        <p:sp>
          <p:nvSpPr>
            <p:cNvPr id="61" name="Rectangle 3"/>
            <p:cNvSpPr/>
            <p:nvPr/>
          </p:nvSpPr>
          <p:spPr>
            <a:xfrm>
              <a:off x="5257800" y="3581280"/>
              <a:ext cx="1066680" cy="838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4"/>
            <p:cNvSpPr/>
            <p:nvPr/>
          </p:nvSpPr>
          <p:spPr>
            <a:xfrm>
              <a:off x="5105520" y="4451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ide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5"/>
          <p:cNvGrpSpPr/>
          <p:nvPr/>
        </p:nvGrpSpPr>
        <p:grpSpPr>
          <a:xfrm>
            <a:off x="2781360" y="2057400"/>
            <a:ext cx="2209680" cy="2318760"/>
            <a:chOff x="2781360" y="2057400"/>
            <a:chExt cx="2209680" cy="2318760"/>
          </a:xfrm>
        </p:grpSpPr>
        <p:sp>
          <p:nvSpPr>
            <p:cNvPr id="64" name="Rectangle 6"/>
            <p:cNvSpPr/>
            <p:nvPr/>
          </p:nvSpPr>
          <p:spPr>
            <a:xfrm>
              <a:off x="3695760" y="2057400"/>
              <a:ext cx="1295280" cy="18288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2781360" y="37335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mino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6553080" y="2133720"/>
            <a:ext cx="2362320" cy="2318760"/>
            <a:chOff x="6553080" y="2133720"/>
            <a:chExt cx="2362320" cy="2318760"/>
          </a:xfrm>
        </p:grpSpPr>
        <p:sp>
          <p:nvSpPr>
            <p:cNvPr id="67" name="Rectangle 9"/>
            <p:cNvSpPr/>
            <p:nvPr/>
          </p:nvSpPr>
          <p:spPr>
            <a:xfrm>
              <a:off x="6553080" y="2133720"/>
              <a:ext cx="1219320" cy="1828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0"/>
            <p:cNvSpPr/>
            <p:nvPr/>
          </p:nvSpPr>
          <p:spPr>
            <a:xfrm>
              <a:off x="7696080" y="38098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arbox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13"/>
          <p:cNvSpPr/>
          <p:nvPr/>
        </p:nvSpPr>
        <p:spPr>
          <a:xfrm>
            <a:off x="304920" y="2286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y are Polymers of amino acids (constructed from 20 amino acids) (to form Polypeptid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304920" y="2249640"/>
            <a:ext cx="274320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General Formula of the Amino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"/>
          <p:cNvGrpSpPr/>
          <p:nvPr/>
        </p:nvGrpSpPr>
        <p:grpSpPr>
          <a:xfrm>
            <a:off x="3733920" y="1905120"/>
            <a:ext cx="4267080" cy="2405160"/>
            <a:chOff x="3733920" y="1905120"/>
            <a:chExt cx="4267080" cy="2405160"/>
          </a:xfrm>
        </p:grpSpPr>
        <p:sp>
          <p:nvSpPr>
            <p:cNvPr id="72" name="Text Box 16"/>
            <p:cNvSpPr/>
            <p:nvPr/>
          </p:nvSpPr>
          <p:spPr>
            <a:xfrm>
              <a:off x="5486400" y="26668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7"/>
            <p:cNvSpPr/>
            <p:nvPr/>
          </p:nvSpPr>
          <p:spPr>
            <a:xfrm>
              <a:off x="5486400" y="19051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8"/>
            <p:cNvSpPr/>
            <p:nvPr/>
          </p:nvSpPr>
          <p:spPr>
            <a:xfrm>
              <a:off x="5524560" y="360684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9"/>
            <p:cNvSpPr/>
            <p:nvPr/>
          </p:nvSpPr>
          <p:spPr>
            <a:xfrm flipV="1">
              <a:off x="5791320" y="24379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0"/>
            <p:cNvSpPr/>
            <p:nvPr/>
          </p:nvSpPr>
          <p:spPr>
            <a:xfrm>
              <a:off x="5791320" y="32763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21"/>
            <p:cNvGrpSpPr/>
            <p:nvPr/>
          </p:nvGrpSpPr>
          <p:grpSpPr>
            <a:xfrm>
              <a:off x="3733920" y="1981080"/>
              <a:ext cx="1828800" cy="1982520"/>
              <a:chOff x="3733920" y="1981080"/>
              <a:chExt cx="1828800" cy="1982520"/>
            </a:xfrm>
          </p:grpSpPr>
          <p:sp>
            <p:nvSpPr>
              <p:cNvPr id="78" name="Text Box 22"/>
              <p:cNvSpPr/>
              <p:nvPr/>
            </p:nvSpPr>
            <p:spPr>
              <a:xfrm>
                <a:off x="4495680" y="266652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23"/>
              <p:cNvSpPr/>
              <p:nvPr/>
            </p:nvSpPr>
            <p:spPr>
              <a:xfrm>
                <a:off x="3809880" y="1981080"/>
                <a:ext cx="60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24"/>
              <p:cNvSpPr/>
              <p:nvPr/>
            </p:nvSpPr>
            <p:spPr>
              <a:xfrm>
                <a:off x="3733920" y="3260160"/>
                <a:ext cx="609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0" spc="-1" strike="noStrike">
                    <a:solidFill>
                      <a:srgbClr val="660066"/>
                    </a:solidFill>
                    <a:latin typeface="Arial"/>
                  </a:rPr>
                  <a:t>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25"/>
              <p:cNvSpPr/>
              <p:nvPr/>
            </p:nvSpPr>
            <p:spPr>
              <a:xfrm>
                <a:off x="4267080" y="2539800"/>
                <a:ext cx="30492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26"/>
              <p:cNvSpPr/>
              <p:nvPr/>
            </p:nvSpPr>
            <p:spPr>
              <a:xfrm flipH="1">
                <a:off x="4266720" y="3199680"/>
                <a:ext cx="304920" cy="380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27"/>
              <p:cNvSpPr/>
              <p:nvPr/>
            </p:nvSpPr>
            <p:spPr>
              <a:xfrm flipH="1">
                <a:off x="4952880" y="3047400"/>
                <a:ext cx="6098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Line 28"/>
            <p:cNvSpPr/>
            <p:nvPr/>
          </p:nvSpPr>
          <p:spPr>
            <a:xfrm flipH="1">
              <a:off x="5943600" y="304776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9"/>
            <p:cNvSpPr/>
            <p:nvPr/>
          </p:nvSpPr>
          <p:spPr>
            <a:xfrm>
              <a:off x="6477120" y="2666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0"/>
            <p:cNvSpPr/>
            <p:nvPr/>
          </p:nvSpPr>
          <p:spPr>
            <a:xfrm>
              <a:off x="6858000" y="33368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1"/>
            <p:cNvSpPr/>
            <p:nvPr/>
          </p:nvSpPr>
          <p:spPr>
            <a:xfrm>
              <a:off x="6934320" y="2041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99cc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 flipH="1">
              <a:off x="6832800" y="24638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 flipH="1">
              <a:off x="6908760" y="25398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6858000" y="3225600"/>
              <a:ext cx="15264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35"/>
          <p:cNvSpPr/>
          <p:nvPr/>
        </p:nvSpPr>
        <p:spPr>
          <a:xfrm>
            <a:off x="228600" y="49528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The side chain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links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تبط بـ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fferent comp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0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These components inclu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hydrogen at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carboxyl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mino 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variabl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تغير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ro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side cha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228600" y="54100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Differences in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produce the 20 different amino ac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0646-AD6A-44A6-BD2E-29218F1B9C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28600" y="188892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(non-po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2800" y="6415200"/>
            <a:ext cx="155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5, Page 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ino acids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الأحماض الأمين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0492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04920" y="310824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making them hydrophi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52280" y="440388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A264-8074-47F8-B5A9-A8C6955903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347" t="4604" r="1618" b="7664"/>
          <a:stretch/>
        </p:blipFill>
        <p:spPr>
          <a:xfrm>
            <a:off x="380880" y="2133720"/>
            <a:ext cx="8382240" cy="3628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876312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ob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amino acids that have hydrophobic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(non-pola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82800" y="6415200"/>
            <a:ext cx="1552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g. 5.15, Page 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0" y="22860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30492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90EC-8BA4-41A0-9B53-C6AABBFDD2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0" t="0" r="0" b="59666"/>
          <a:stretch/>
        </p:blipFill>
        <p:spPr>
          <a:xfrm>
            <a:off x="152280" y="838080"/>
            <a:ext cx="8839440" cy="21272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380880" y="2286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ydrophilic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that have polar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, making them hydrophili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52280" y="3047760"/>
            <a:ext cx="883944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oniz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amino acids with functional groups that are charged (ionized) at cellular pH (7). So, som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up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thers ar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aci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2"/>
          <a:srcRect l="0" t="40342" r="0" b="5171"/>
          <a:stretch/>
        </p:blipFill>
        <p:spPr>
          <a:xfrm>
            <a:off x="304920" y="4114800"/>
            <a:ext cx="868680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75960" y="6537240"/>
            <a:ext cx="1600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15, Page 7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D40E-5A51-46EB-9749-3E7F9DEC286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362320" y="76320"/>
            <a:ext cx="4343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Peptid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9907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ptide bond formed between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arboxyl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one amino acid and the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mino grou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of the other by dehyd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505320" y="35892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H="1">
            <a:off x="914040" y="3452760"/>
            <a:ext cx="30492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33720" y="29559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124080" y="29192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133720" y="21337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171880" y="3835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 flipV="1">
            <a:off x="2438280" y="2666520"/>
            <a:ext cx="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38280" y="350532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143000" y="2895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457200" y="2209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80880" y="3489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914400" y="2768760"/>
            <a:ext cx="3049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 flipH="1">
            <a:off x="159984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 flipH="1">
            <a:off x="2590560" y="32767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3162240" y="20574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3365640" y="2590920"/>
            <a:ext cx="0" cy="469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0"/>
          <p:cNvSpPr/>
          <p:nvPr/>
        </p:nvSpPr>
        <p:spPr>
          <a:xfrm>
            <a:off x="3505320" y="3478320"/>
            <a:ext cx="152280" cy="27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4724280" y="360684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2"/>
          <p:cNvSpPr/>
          <p:nvPr/>
        </p:nvSpPr>
        <p:spPr>
          <a:xfrm flipH="1">
            <a:off x="5257440" y="3546360"/>
            <a:ext cx="304920" cy="381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23"/>
          <p:cNvGrpSpPr/>
          <p:nvPr/>
        </p:nvGrpSpPr>
        <p:grpSpPr>
          <a:xfrm>
            <a:off x="5435640" y="2133720"/>
            <a:ext cx="3556080" cy="2405160"/>
            <a:chOff x="5435640" y="2133720"/>
            <a:chExt cx="3556080" cy="2405160"/>
          </a:xfrm>
        </p:grpSpPr>
        <p:sp>
          <p:nvSpPr>
            <p:cNvPr id="136" name="Text Box 24"/>
            <p:cNvSpPr/>
            <p:nvPr/>
          </p:nvSpPr>
          <p:spPr>
            <a:xfrm>
              <a:off x="647712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cc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5"/>
            <p:cNvSpPr/>
            <p:nvPr/>
          </p:nvSpPr>
          <p:spPr>
            <a:xfrm>
              <a:off x="647712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6"/>
            <p:cNvSpPr/>
            <p:nvPr/>
          </p:nvSpPr>
          <p:spPr>
            <a:xfrm>
              <a:off x="6515280" y="383544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ff"/>
                  </a:solidFill>
                  <a:latin typeface="Arial"/>
                </a:rPr>
                <a:t>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V="1">
              <a:off x="6781680" y="2666520"/>
              <a:ext cx="0" cy="380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781680" y="3504960"/>
              <a:ext cx="0" cy="456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9"/>
            <p:cNvSpPr/>
            <p:nvPr/>
          </p:nvSpPr>
          <p:spPr>
            <a:xfrm>
              <a:off x="5486400" y="2895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0"/>
            <p:cNvSpPr/>
            <p:nvPr/>
          </p:nvSpPr>
          <p:spPr>
            <a:xfrm>
              <a:off x="54356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715000" y="2666880"/>
              <a:ext cx="0" cy="329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 flipH="1">
              <a:off x="594324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 flipH="1">
              <a:off x="6933960" y="3276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4"/>
            <p:cNvSpPr/>
            <p:nvPr/>
          </p:nvSpPr>
          <p:spPr>
            <a:xfrm>
              <a:off x="746748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7848720" y="356544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en-GB" sz="4000" spc="-1" strike="noStrike">
                  <a:solidFill>
                    <a:srgbClr val="660066"/>
                  </a:solidFill>
                  <a:latin typeface="Arial"/>
                </a:rPr>
                <a:t>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7924680" y="22701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 flipH="1">
              <a:off x="7823160" y="2692440"/>
              <a:ext cx="216000" cy="36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 flipH="1">
              <a:off x="7899480" y="2768400"/>
              <a:ext cx="216000" cy="342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7848720" y="3454200"/>
              <a:ext cx="152280" cy="279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40"/>
          <p:cNvSpPr/>
          <p:nvPr/>
        </p:nvSpPr>
        <p:spPr>
          <a:xfrm>
            <a:off x="3657600" y="3276720"/>
            <a:ext cx="990720" cy="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1"/>
          <p:cNvSpPr/>
          <p:nvPr/>
        </p:nvSpPr>
        <p:spPr>
          <a:xfrm>
            <a:off x="3505320" y="2616120"/>
            <a:ext cx="0" cy="47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2"/>
          <p:cNvGrpSpPr/>
          <p:nvPr/>
        </p:nvGrpSpPr>
        <p:grpSpPr>
          <a:xfrm>
            <a:off x="2743200" y="3276720"/>
            <a:ext cx="1752480" cy="1906560"/>
            <a:chOff x="2743200" y="3276720"/>
            <a:chExt cx="1752480" cy="1906560"/>
          </a:xfrm>
        </p:grpSpPr>
        <p:sp>
          <p:nvSpPr>
            <p:cNvPr id="155" name="Text Box 43"/>
            <p:cNvSpPr/>
            <p:nvPr/>
          </p:nvSpPr>
          <p:spPr>
            <a:xfrm>
              <a:off x="2743200" y="48150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eptide 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 flipH="1">
              <a:off x="3581280" y="3276720"/>
              <a:ext cx="60984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5"/>
          <p:cNvGrpSpPr/>
          <p:nvPr/>
        </p:nvGrpSpPr>
        <p:grpSpPr>
          <a:xfrm>
            <a:off x="152280" y="3200400"/>
            <a:ext cx="8610840" cy="76320"/>
            <a:chOff x="152280" y="3200400"/>
            <a:chExt cx="8610840" cy="76320"/>
          </a:xfrm>
        </p:grpSpPr>
        <p:sp>
          <p:nvSpPr>
            <p:cNvPr id="158" name="Line 46"/>
            <p:cNvSpPr/>
            <p:nvPr/>
          </p:nvSpPr>
          <p:spPr>
            <a:xfrm flipH="1">
              <a:off x="152280" y="320040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 flipH="1">
              <a:off x="7772400" y="3276720"/>
              <a:ext cx="990720" cy="0"/>
            </a:xfrm>
            <a:prstGeom prst="line">
              <a:avLst/>
            </a:prstGeom>
            <a:ln w="7632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48"/>
          <p:cNvSpPr/>
          <p:nvPr/>
        </p:nvSpPr>
        <p:spPr>
          <a:xfrm>
            <a:off x="14479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76320" y="649116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age 73, Fig. 5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0"/>
          <p:cNvGrpSpPr/>
          <p:nvPr/>
        </p:nvGrpSpPr>
        <p:grpSpPr>
          <a:xfrm>
            <a:off x="3048120" y="5562720"/>
            <a:ext cx="4724280" cy="459720"/>
            <a:chOff x="3048120" y="5562720"/>
            <a:chExt cx="4724280" cy="459720"/>
          </a:xfrm>
        </p:grpSpPr>
        <p:sp>
          <p:nvSpPr>
            <p:cNvPr id="163" name="AutoShape 51"/>
            <p:cNvSpPr/>
            <p:nvPr/>
          </p:nvSpPr>
          <p:spPr>
            <a:xfrm>
              <a:off x="3048120" y="5638680"/>
              <a:ext cx="1371600" cy="304920"/>
            </a:xfrm>
            <a:prstGeom prst="rightArrow">
              <a:avLst>
                <a:gd name="adj1" fmla="val 50000"/>
                <a:gd name="adj2" fmla="val 112456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52"/>
            <p:cNvSpPr/>
            <p:nvPr/>
          </p:nvSpPr>
          <p:spPr>
            <a:xfrm>
              <a:off x="4419720" y="55627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Polypeptide (Prote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Line 53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6553080" y="4876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4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20417 0.15879 E">
                                      <p:cBhvr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05 0.16736 E">
                                      <p:cBhvr>
                                        <p:cTn id="15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481E-006 L -0.09166 4.81481E-006 E">
                                      <p:cBhvr>
                                        <p:cTn id="16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670F-084C-48E0-8AEE-2F62545FADF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s are joined together when a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dehydration 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moves a hydroxyl group from the carboxyl end of one amino acid and a hydrogen from the amino group of another. The resulting covalent bond is called a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eptide bo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rcRect l="0" t="0" r="0" b="52661"/>
          <a:stretch/>
        </p:blipFill>
        <p:spPr>
          <a:xfrm>
            <a:off x="762120" y="1568520"/>
            <a:ext cx="3504960" cy="2278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3960" y="6561000"/>
            <a:ext cx="1406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5.16, Page 7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6320" y="4164120"/>
            <a:ext cx="89154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ing the process over and over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عدة م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s a long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t one end is an amino acid with a free amino group the (the N-terminus) and at the other is an amino acid with a free carboxyl group the (the C-term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peated sequence (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-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polypept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ckb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hed to the backbone are the various R grou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peptides range in size from a few monomers to thou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4267080" y="1492200"/>
            <a:ext cx="4419720" cy="2546280"/>
            <a:chOff x="4267080" y="1492200"/>
            <a:chExt cx="4419720" cy="2546280"/>
          </a:xfrm>
        </p:grpSpPr>
        <p:pic>
          <p:nvPicPr>
            <p:cNvPr id="173" name="Picture 4" descr=""/>
            <p:cNvPicPr/>
            <p:nvPr/>
          </p:nvPicPr>
          <p:blipFill>
            <a:blip r:embed="rId2"/>
            <a:srcRect l="0" t="46992" r="0" b="3357"/>
            <a:stretch/>
          </p:blipFill>
          <p:spPr>
            <a:xfrm>
              <a:off x="4952880" y="1492200"/>
              <a:ext cx="3733920" cy="25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AutoShape 8"/>
            <p:cNvSpPr/>
            <p:nvPr/>
          </p:nvSpPr>
          <p:spPr>
            <a:xfrm>
              <a:off x="4267080" y="2743200"/>
              <a:ext cx="609840" cy="380880"/>
            </a:xfrm>
            <a:prstGeom prst="rightArrow">
              <a:avLst>
                <a:gd name="adj1" fmla="val 50000"/>
                <a:gd name="adj2" fmla="val 400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1A7-5AF8-4EF1-A78A-8771548988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600" y="1162080"/>
            <a:ext cx="8686800" cy="51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ding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إلتفا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protein from a chain of amino acids occurs spontaneousl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ذاتي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ere are three levels of structur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im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ول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secondary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انو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terti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, are used to organize the folding within a single polypept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uatern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رباع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arises when two or more polypeptides join to form a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1066680" y="122400"/>
            <a:ext cx="701064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Levels of Prote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80880" y="914400"/>
            <a:ext cx="79250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9:37:04Z</dcterms:created>
  <dc:creator>User</dc:creator>
  <dc:description/>
  <dc:language>en-US</dc:language>
  <cp:lastModifiedBy>Ahmed</cp:lastModifiedBy>
  <dcterms:modified xsi:type="dcterms:W3CDTF">2009-03-03T12:03:21Z</dcterms:modified>
  <cp:revision>1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