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132-1116-486E-91EA-A797D43D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BD1-F660-4126-BF57-87A6669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4DD-6263-498E-8608-855B272D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877-D8C2-44DE-89B8-9ED3D09B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A42-BC0D-452A-9AC8-FB8BFF1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AD1-2B55-4041-B46E-7441F9E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EF5-49DE-43ED-92E2-B8C413ED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298-534C-4D74-8A1A-3EC7A91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D4A-94DD-45B2-814B-67CF7913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78E-7D64-4DBC-9C62-CFA0054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E92-9683-43C6-B6FF-415AC3CF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90D-17D8-4C4D-89C5-3FF84AA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B47-0D67-4428-B5C1-35F668ECE3C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8840" y="259920"/>
            <a:ext cx="5400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1360" indent="-171360"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2400"/>
            </a:br>
            <a:br>
              <a:rPr sz="1100"/>
            </a:b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السيانوبكتيريا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عادة تعرف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بالطحالب الخضراء المزرقة</a:t>
            </a:r>
            <a:br>
              <a:rPr sz="1100"/>
            </a:b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ذاتية التغذ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(تقوم بعملية البناء الضوئي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حتوي على الصبغات التالية: كلوروفيل ب، فايكوسيانين (أزرق)، فايكواريثرين (أحمر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عيش في البيئات المائية التي تشمل المحيطات والبرك والبحيرات وعلى مسطحات المد والجزر والتربة الرطب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وجد غالبا على شكل مستعمرات وخيوط وأحيانا على شكل وحيد الخلي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بعض خيطيات الشكل تستطيع الحركة والمثال عليها النوع </a:t>
            </a:r>
            <a:r>
              <a:rPr b="0" i="1" lang="en-US" sz="1100" spc="-1" strike="noStrike">
                <a:solidFill>
                  <a:srgbClr val="c0504d"/>
                </a:solidFill>
                <a:latin typeface="Calibri"/>
              </a:rPr>
              <a:t>Oscillatoria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 Sp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نتج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كبسولة  جيلاتين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ي غالبا ما تكون أخف من الماء وبالتالي تساعد الطحلب في البقاء قريبا من السطح وطافيا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كاثر يكون بواسط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انشطار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خلايا بدائية النواة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فتقد لصبغ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كلورفيل أ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منتجات عمليات البناء الضوئي تختزنها على شكل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نشاء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 الذي يشبه تركيب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جليكوجين الحيواني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5643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blue-green alga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utotrophic (Photosynthet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 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cyan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blue) and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erythr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r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exist mostly as colonies and filaments and sometimes as singl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fiss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karyotic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ck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 b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hotosynthetic product is stored in their own form of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starc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which is similar to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nimal glycoge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شكال السيانوبكتيري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7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حيدة الخلية أو في تجمعا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ellular or aggre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00040" y="135720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هيئة مستعم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76320" y="32529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642960" y="138924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غير 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000080" y="30686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35680" y="1500120"/>
            <a:ext cx="2894040" cy="37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677880" y="112536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0240" y="476280"/>
            <a:ext cx="43815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ركيب الخلي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322280"/>
            <a:ext cx="3672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wall is composed of 2 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inn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which is thin and firm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osed of cellul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out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wall is thicker and gelatinous known as the sheath and mainly constituted of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pectic compou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4798080" y="4462560"/>
            <a:ext cx="3303000" cy="1855800"/>
            <a:chOff x="4798080" y="4462560"/>
            <a:chExt cx="3303000" cy="1855800"/>
          </a:xfrm>
        </p:grpSpPr>
        <p:sp>
          <p:nvSpPr>
            <p:cNvPr id="60" name="Rectangle 10"/>
            <p:cNvSpPr/>
            <p:nvPr/>
          </p:nvSpPr>
          <p:spPr>
            <a:xfrm>
              <a:off x="4798080" y="5391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4856040" y="595008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entral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5011560" y="4462560"/>
              <a:ext cx="3089520" cy="1829520"/>
              <a:chOff x="5011560" y="4462560"/>
              <a:chExt cx="3089520" cy="1829520"/>
            </a:xfrm>
          </p:grpSpPr>
          <p:grpSp>
            <p:nvGrpSpPr>
              <p:cNvPr id="63" name="Group 2"/>
              <p:cNvGrpSpPr/>
              <p:nvPr/>
            </p:nvGrpSpPr>
            <p:grpSpPr>
              <a:xfrm>
                <a:off x="6514200" y="4462560"/>
                <a:ext cx="1586880" cy="1829520"/>
                <a:chOff x="6514200" y="4462560"/>
                <a:chExt cx="1586880" cy="1829520"/>
              </a:xfrm>
            </p:grpSpPr>
            <p:sp>
              <p:nvSpPr>
                <p:cNvPr id="64" name="Oval 3"/>
                <p:cNvSpPr/>
                <p:nvPr/>
              </p:nvSpPr>
              <p:spPr>
                <a:xfrm>
                  <a:off x="6514200" y="4462560"/>
                  <a:ext cx="1586880" cy="18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4"/>
                <p:cNvSpPr/>
                <p:nvPr/>
              </p:nvSpPr>
              <p:spPr>
                <a:xfrm>
                  <a:off x="6700320" y="4691160"/>
                  <a:ext cx="12128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Line 5"/>
              <p:cNvSpPr/>
              <p:nvPr/>
            </p:nvSpPr>
            <p:spPr>
              <a:xfrm>
                <a:off x="5989320" y="51469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"/>
              <p:cNvSpPr/>
              <p:nvPr/>
            </p:nvSpPr>
            <p:spPr>
              <a:xfrm flipV="1">
                <a:off x="6216480" y="5376960"/>
                <a:ext cx="588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5011560" y="496260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6981840" y="5105520"/>
                <a:ext cx="6523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 flipV="1">
                <a:off x="6055920" y="5462280"/>
                <a:ext cx="1283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Content Placeholder 2"/>
          <p:cNvSpPr/>
          <p:nvPr/>
        </p:nvSpPr>
        <p:spPr>
          <a:xfrm>
            <a:off x="5208480" y="1200240"/>
            <a:ext cx="36086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يب الخلية بدائية جداً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ل خلية تتكون من جزأ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أ) الجدار الخل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) البروتوبل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دار الخلية يتكون من طبقت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داخل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رقيقة ومكونة من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سليلوز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خارج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أكثر سمكا وهلامية وتعرف بالغلاف وتتشكل أساسا من مركبات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بيكتي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4920" y="73512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 protoplast consists of 2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554360" y="4665600"/>
            <a:ext cx="3781440" cy="1856160"/>
            <a:chOff x="4554360" y="4665600"/>
            <a:chExt cx="3781440" cy="1856160"/>
          </a:xfrm>
        </p:grpSpPr>
        <p:sp>
          <p:nvSpPr>
            <p:cNvPr id="74" name="Rectangle 10"/>
            <p:cNvSpPr/>
            <p:nvPr/>
          </p:nvSpPr>
          <p:spPr>
            <a:xfrm>
              <a:off x="4554360" y="55944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4696920" y="4665600"/>
              <a:ext cx="3638880" cy="1856160"/>
              <a:chOff x="4696920" y="4665600"/>
              <a:chExt cx="3638880" cy="1856160"/>
            </a:xfrm>
          </p:grpSpPr>
          <p:grpSp>
            <p:nvGrpSpPr>
              <p:cNvPr id="76" name="Group 2"/>
              <p:cNvGrpSpPr/>
              <p:nvPr/>
            </p:nvGrpSpPr>
            <p:grpSpPr>
              <a:xfrm>
                <a:off x="6393240" y="4665600"/>
                <a:ext cx="1942560" cy="1829160"/>
                <a:chOff x="6393240" y="4665600"/>
                <a:chExt cx="1942560" cy="1829160"/>
              </a:xfrm>
            </p:grpSpPr>
            <p:sp>
              <p:nvSpPr>
                <p:cNvPr id="77" name="Oval 3"/>
                <p:cNvSpPr/>
                <p:nvPr/>
              </p:nvSpPr>
              <p:spPr>
                <a:xfrm>
                  <a:off x="6393240" y="4665600"/>
                  <a:ext cx="1942560" cy="1829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4"/>
                <p:cNvSpPr/>
                <p:nvPr/>
              </p:nvSpPr>
              <p:spPr>
                <a:xfrm>
                  <a:off x="6621840" y="4893840"/>
                  <a:ext cx="14846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Line 5"/>
              <p:cNvSpPr/>
              <p:nvPr/>
            </p:nvSpPr>
            <p:spPr>
              <a:xfrm>
                <a:off x="5751000" y="5349960"/>
                <a:ext cx="74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V="1">
                <a:off x="6028920" y="5580000"/>
                <a:ext cx="72072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4714560" y="516564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4696920" y="61534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ntral bo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964200" y="5308560"/>
                <a:ext cx="7999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 flipV="1">
                <a:off x="5832000" y="5665320"/>
                <a:ext cx="156996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1"/>
          <p:cNvSpPr/>
          <p:nvPr/>
        </p:nvSpPr>
        <p:spPr>
          <a:xfrm>
            <a:off x="5622840" y="735120"/>
            <a:ext cx="3165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بروتوبلاست يحتوي على جزأي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محيطية (الملونة) حول المنطقة المركزية عديمة اللون. التي تحتوي عل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cocyan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زرقاءجنبا إلى جنب مع الكلوروفيل ب، والمعروفة باسم الكروموبلاز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نطقة الداخلية عديم اللون (الجسم المركزي) يحتوي على بعض من حبيبات الكروماتي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ذي يمثل نوع بدائي من النواة التي تفتقر إلى الغشاء النووي والان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Naiyf Alharbi</cp:lastModifiedBy>
  <cp:lastPrinted>2013-10-06T07:02:04Z</cp:lastPrinted>
  <dcterms:modified xsi:type="dcterms:W3CDTF">2014-04-05T10:45:26Z</dcterms:modified>
  <cp:revision>40</cp:revision>
  <dc:subject/>
  <dc:title>Bacterial growth</dc:title>
</cp:coreProperties>
</file>