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868-8B4A-4D53-8305-2D18CFD9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DBF-6E9D-4727-A4FA-B9637D22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8A0-7167-4619-815B-6CBECEFC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9B0-12F0-462B-8B3E-C14BAA30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4A4-A199-4844-9753-47C0B827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5A8-F043-4A29-A727-746CD7B1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7D7-C725-4974-8429-62605511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81B-0287-47DC-B869-561A17B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73D-1933-4993-9A74-AEB4C20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BA2-BC9E-49F1-98C4-93D53BF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AC5-34B9-4323-9055-0157541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6AF-A6CF-4556-BA16-D140F7A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6C2F-201D-4C7F-BEB5-959E5FCAF5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8FC-B306-4873-96A9-22AF346749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542-54E2-46B9-9357-A5D5E4CB7F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D23-E116-48B4-ABCC-C5391E8009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70B7-5079-4DFA-B105-4723EC7FA0E3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   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كل منها مكون من 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5ABB-C80B-4B62-8F46-A1DE7A383DC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3244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0FA1-CCDB-4D98-B2D6-D89FA69283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sp>
        <p:nvSpPr>
          <p:cNvPr id="162" name="Line 3"/>
          <p:cNvSpPr/>
          <p:nvPr/>
        </p:nvSpPr>
        <p:spPr>
          <a:xfrm>
            <a:off x="1676520" y="3429000"/>
            <a:ext cx="1143000" cy="199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6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7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68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4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0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6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2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198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4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0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6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2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28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4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0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3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6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49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2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5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58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1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4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7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0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3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6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79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2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5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88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1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2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3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299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5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1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7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3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29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5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1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7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3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59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5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68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1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4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7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0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3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6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89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2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5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398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4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7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0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3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6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18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4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29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2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277"/>
          <p:cNvSpPr/>
          <p:nvPr/>
        </p:nvSpPr>
        <p:spPr>
          <a:xfrm>
            <a:off x="3124080" y="1828800"/>
            <a:ext cx="1219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7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31F0-364E-4D5E-8E24-D573F91EA7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0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76E-641F-4B5F-904C-AB5714A481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B2D7-7D59-4063-8CBF-16E7780369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6C0C-85EA-4E86-BA12-249C0143B6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48FF-07BF-4E15-AA7D-C7ACE67D0C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كل منها مكون من ثلاثة 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01-03T16:50:04Z</dcterms:modified>
  <cp:revision>337</cp:revision>
  <dc:subject/>
  <dc:title>The Cell Organelles</dc:title>
</cp:coreProperties>
</file>