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hdr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dt" idx="43"/>
          </p:nvPr>
        </p:nvSpPr>
        <p:spPr>
          <a:xfrm>
            <a:off x="10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GYNECOLOGY NURSING (NUR35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ftr" idx="44"/>
          </p:nvPr>
        </p:nvSpPr>
        <p:spPr>
          <a:xfrm>
            <a:off x="518112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 type="sldNum" idx="45"/>
          </p:nvPr>
        </p:nvSpPr>
        <p:spPr>
          <a:xfrm>
            <a:off x="10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70DC-0F19-451E-BC29-20C2DFFFA59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6499-6B8C-4F4D-926E-F3DA00FCC5B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EDC9-5E83-4D7E-9F53-371D995732B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48E9-35DF-4400-ABA7-A2627222C56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ED2F-C635-4979-88FA-B406B6D5620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B0E0-FF9A-4372-89A3-5637985FFD7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C52A-39EF-41B9-AFEF-C83565AD576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1757-4BC8-4E01-A327-031BB4FE263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C3D8-0E85-4541-BF6B-E0667CA3F0C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4973-3956-4FEE-8950-3E26AC7A794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4CB4-2479-41CE-BA47-5C7F187D686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516F-0A6A-48A2-8B4A-0EDFA86A2AB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8E4E-2C0D-4003-9713-A2DB65FCA0F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DCDE-8074-4848-9FA1-4021C740FA0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2AD9-8FEB-4B7C-9B7A-AD55FE34380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4EA5-0443-4002-95CB-342F0F7B2A6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A41A-39E3-4EEB-AC24-75DDB7D36C0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5E6B-B75C-4CF3-BB4F-5B1C6F42625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149D-C7CC-48AF-9524-44237352366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8DEF-655C-4DD9-8C34-3B0764BDED2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34FB-BF1F-41BD-8016-88CC72AF8FC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5B61-C1A3-429B-9E4F-8180DAEE80C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FC39-6AB8-4AD3-AC80-FFE4D8A7B02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E707-F869-40D2-A8D1-793897E30DE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E832-6D63-45CA-9562-3C8F73A8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B0A-871E-43B7-B74F-F3AF763B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7F776-E956-4B0B-B77E-21E8110D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811EE-1BED-4977-AC62-8FCD9367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606E7-6281-4AA9-88A6-B623822E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A5049-AB88-4120-B335-C36E4A50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71106-CDAB-4079-AEF8-1CE880C8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4E46F-D58A-4367-8FC5-1835E447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E3EC7-27B1-4D97-AB15-AE2E99C2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034EB-946A-4E65-82C8-36226531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F5833-85AE-4D30-9099-4C449B7F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84B51-33EB-42A5-AFF3-689741DE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FD8-2BA7-4B3A-9720-9CD3787D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98FE8-4C8C-4CB2-8E06-580213C3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31A13-0BD7-4BD7-AD24-F79BB33C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9D4FD-049C-4A62-9FEE-1EAE852A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EFAA4-99E1-434F-8D3D-B6AEA0B0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883EE-1852-4A6D-95AA-75030FB3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BA707-4EAA-4683-B5D7-9CCB6F8F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A3148-5B16-470A-8133-D555D3AD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897DB-E625-42C3-9617-9A382431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E9F18-FCF9-43D9-99ED-948A7CF8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91EE5-4639-4831-B38A-69C6F212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A9A2-5567-46E1-996F-44E08163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560EB-EDD0-4BBB-8DCF-EC3E57C9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3EB41-4C16-4FD4-8682-D5C4F916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89306-946C-4C89-BA8E-637B99EE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03C26-9149-4DCB-A32F-EB700306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3E29C-22B3-40E1-9614-79BB8D6E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9E2D1-A1D2-4611-8206-9BE41690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22EFE-3EDF-4B1E-A7A0-FD70C8F8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F13D7-FA8C-4520-858F-175EB0E8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A6AD0-845C-4FD7-9F51-82D98CE6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4A5E7-7BC7-456B-BFFD-5DD6D796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3CF5-5E88-4B0E-A06D-E0DAEE50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5190A-B6C4-4D28-9468-8E94DF32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2F7C5-0FEF-482D-B936-640A1097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8C0D8-4B80-43B1-AAFD-F938DBF9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98E4E-C99E-4018-97B5-8B7DB65A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0B3A3-4BA8-4538-8357-29F9A67C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9C7C7-8DE0-4500-BFEB-E71C3C7A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7E34A-837E-4028-8E1C-EAE06E93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976D2-52ED-447E-B1B7-4AA0A921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F76D1-5B8F-4049-9334-1979C19E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14459-95CD-47EE-8CB3-674ABF44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0F54-A90E-4F51-B00F-A2376A8A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7F0F7-BB4C-4D2C-B21C-62D8A326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70B02-0F6D-4620-9871-97A7FAA2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B103B-4178-4057-8A77-EEEA8702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D5844-FF91-441F-AAFA-DE37C9E7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BB9BF-0159-423D-B2D5-4DFD45DF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C7F1C-CCA9-4825-B596-B73EF84B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2489A-FB4C-40EE-B1BE-93D2626D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19236-4121-43E1-85E6-AC876838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BC2A7B-2B4F-4ADF-A0A3-827215B7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8B855A-7EC2-4FE1-B9B8-0A0B1DB9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4751-16FB-4188-A546-5FB10F9B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99F9EA-B85E-4BED-93F5-E5576667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811C4B-C95E-42EE-AFE1-F8184D2D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93F1A-4054-4E3B-AE46-0B46657B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ADB43-B885-424D-97FE-694BF279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0B733-CA55-469D-815F-95311B60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70F58-07A7-4265-ADB9-2E4CE600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F6864-F828-4F3A-8EB7-0EEB9BA1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014D92-B531-46BB-98A0-BCFEED86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ABF55-FC06-4488-A2BF-E61C0A28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372AA-0B37-490A-A524-85D1F0A8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2632-1A26-42F3-9417-04B08A34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04C75F-A733-4E52-A1A8-D7856699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DD8CA0-878D-4FD6-9342-BBC2F60E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E87DC-A6F4-445A-ACA6-85443190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D6070E-9A3B-42D7-9F36-0D294E09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63B1AE-E7D3-44C3-9751-49FA2E93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E0B1F2-AA6C-420F-860B-D11EC6FF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82C6E8-8106-427A-A228-2DF80D49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9E1542-EA7B-45FF-9286-0A12BB5E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4038D8-B584-4133-BEF6-F8927630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48FB-0BD6-4AAA-B95F-C6786279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98DD-4CFF-4225-9BAA-F1F18426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612A-20C4-4B94-8C86-D01CD621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8C3-0A69-4253-860F-3C17FADB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9F69-BBCB-4EED-B1F7-890A67A7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C326-DAEF-4DAC-BB3E-3AE7B4B7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8219-C9AF-4558-A4C4-EBEDB290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77D5-F12C-4290-AC23-464CB5C9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CC57-3D52-48A3-A718-E6F3782B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B42E4-B338-405B-9F5A-6AD2053F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F9899-EC93-44CB-89AC-06C6D016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841EB-6E43-4190-BEDE-AD51CA16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B7AE6-03F6-4160-8372-B21546D1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AED3D-11F4-4539-85A5-7C3AD788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9DF-F0EA-4790-8AE7-35445131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9EA14-AB34-42F8-8077-97CC9DD6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9A94D-542F-484B-AF67-FF1D9A36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58389-EE72-4C79-81E7-1C790144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DDEB9-71C9-4A6B-8A98-34BD03E2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81782-F6D8-41CC-A6F0-E9D8BB39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FFEF8-DB03-4BEF-92EA-4C997460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C7345-AF61-4399-976F-A3C0450D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7CE9E-D0CB-4ABD-896B-032B2E59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C3C5C-1954-470F-BF1E-4227754A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49A1E-561D-4FE8-92FD-7BF5E4B2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F5CC-E629-4E44-9DAB-84E43A6E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87864-05F0-4AD4-A7C1-1350B7F3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C79CD-4224-4E5C-92ED-C3AA6AFA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C8F90-0273-49EA-BB7B-4C9E4ABD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5D872-64A3-46AF-906E-101701C4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4908F-FE52-4153-9939-E8060655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272FA-8FAB-4097-A2A0-B5472115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D006F-8F28-4894-9D11-3D41EFC5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D42F5-A7A2-4992-BA5D-BDAC23B2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E4B7B-F90C-4F03-8F6C-B0F48B74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D9181-4FC5-4881-BD55-87FC3CF4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E53-BB42-4B2B-A661-C2F1512A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FFE7B-021E-4E47-B77A-1F2BF7BD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78C8C-B9A7-46AC-BF3F-3A62D838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F7DAC-976D-4BE6-878B-ED4F2C67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B72A0-4284-4707-A8A0-9EC61844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FEC90-3464-4357-B60B-564CF348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2A3AF-4E9E-4DC0-BBCF-95FFBA7A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6A425-DA4D-4A47-8DD5-3A94AD11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66275-6A71-48B7-84FC-F8288E61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0D9B7-7AC9-405A-A281-3A2E61A4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25242-364C-4AAD-B7D1-DE191E7C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268-7F74-4C8B-B606-9007D0EA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12E48-B42D-4666-8E9A-320C6D11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A21DF-ED27-47C9-856C-65605980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7CD5F-03E7-4B7B-B25E-B0F669BB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07BD8-4469-4897-94C6-C3458261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2D929-81CA-4734-9737-2AB0E8AC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CE99E-75F9-40AB-9F27-7B961F93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A778A-EB9D-4496-97DE-BA8BEC00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2C81B-E991-4189-9309-D49E231E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CEE66-1816-4C4D-852C-304E555C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ED5DA-B66C-4975-B2E6-A3ED64E0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08B-A22A-4A9E-B498-73060B61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FC7C0-6B0C-4155-A88A-738A3973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503E0-F0CC-402F-ABEA-410C11D3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CCFFA-BA11-486B-AB22-7D471FA2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1A932-CE6F-43FE-999A-25C8D6B2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5D5A2-D31C-448A-8731-D9DFA138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FDF19-73BE-48D3-9C24-C7EDE906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0D5D1-341E-4F6C-BB00-1D4F4DD7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4C1DA-DB9B-4364-A1E0-084F408E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0374A-EFB3-4B78-BBF2-300881B3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A7D7D-5554-4B95-AAD2-16493011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CFC-941E-4C1C-B822-7C032241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C750F-F7A0-4C13-96EE-CA3783B0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31251-210F-4829-89F7-63F70D2B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12DDA-DE71-4D7A-A112-E990FDC0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68EE3-FC96-4C4A-88BA-32C0195B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13A53-D64C-4D02-B15C-912061AF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75BA6-86CC-4068-9848-88B649CC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43218-A365-494F-8519-64150DDB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64AAB-4684-4F91-B4F8-E4AE22B0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380D2-4677-468D-AAF8-E4D863D3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421C3-0CAD-425D-A6E2-27204F3B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A17-9DB8-42A0-9A70-D0A53D40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45071-2044-4ACC-BC41-828563D7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D2B8F-7CA4-4294-AB0A-7B5C4390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31FB6-16D0-407C-B856-F5FE099D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057DE-0011-4A7B-9921-D2D7F448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34223-631F-4693-85DB-C72447A1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22EE3-2D69-4DAE-9457-6172FBA2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3C373-CE25-4BAC-A3A0-340141ED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FAA59-16A6-41A7-A2F5-FBBECCC3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352AF-7CDA-457E-AABE-442A3B0A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E5AEE-D799-4EAA-8272-3D24EBFA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798C-CEE1-4A03-9A39-8D1A5292FE4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6F12-4A90-446D-82F9-BB3219726C6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88B5-7F4C-4C91-97AB-8DB0B0B4C2C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41E0-3780-4769-88DB-4AC0B2DD9EA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71D0-0C2B-47D1-90E3-3CEAAB07B87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761C-04C1-46F3-B5D7-D8C90F83D30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C678-F38E-4211-93B7-448E32B78706}" type="slidenum">
              <a:rPr b="0" lang="ar-SA" sz="1400" spc="-1" strike="noStrike">
                <a:solidFill>
                  <a:srgbClr val="1c1c1c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7DF8-24A1-4F9D-BB9D-E3BC6B1810F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F87F-BE84-420C-8836-4E60E764E0B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F898-8999-49AB-BD81-8CEF3F540A8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AC5C-DB81-4314-BBBA-26A08D9DE0F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7C83-11A2-48C3-B21B-2D5BFAA28A1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AFC6-B51D-4AB7-B06E-5BDB7452836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AAFA-DDD0-41B2-84BB-7C7204A75C3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addawi.com/forum/showthread.php?t=30865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5BAF-A197-4383-903B-999AE60567E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WordArt 6"/>
          <p:cNvSpPr txBox="1"/>
          <p:nvPr/>
        </p:nvSpPr>
        <p:spPr>
          <a:xfrm>
            <a:off x="1692360" y="1989000"/>
            <a:ext cx="6264360" cy="129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61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703440" y="2789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CONTRACEPTIVE METHOD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1503360" y="30492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productive Health Nurs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UR 32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Rectangle 8"/>
          <p:cNvSpPr/>
          <p:nvPr/>
        </p:nvSpPr>
        <p:spPr>
          <a:xfrm>
            <a:off x="3048120" y="5210640"/>
            <a:ext cx="30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87BC-F738-4F9A-96A6-7BB58F997C4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EMALE CONDO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0" name="Picture 7" descr="17063"/>
          <p:cNvPicPr/>
          <p:nvPr/>
        </p:nvPicPr>
        <p:blipFill>
          <a:blip r:embed="rId1"/>
          <a:stretch/>
        </p:blipFill>
        <p:spPr>
          <a:xfrm>
            <a:off x="1143000" y="1905120"/>
            <a:ext cx="7772400" cy="4419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5F22-3337-486B-8644-17D53C72993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2" name="Picture 5" descr="barriermethods_4"/>
          <p:cNvPicPr/>
          <p:nvPr/>
        </p:nvPicPr>
        <p:blipFill>
          <a:blip r:embed="rId1"/>
          <a:srcRect l="0" t="0" r="0" b="4429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6"/>
          <p:cNvSpPr/>
          <p:nvPr/>
        </p:nvSpPr>
        <p:spPr>
          <a:xfrm>
            <a:off x="1616400" y="654120"/>
            <a:ext cx="629820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pperplate Gothic Bold"/>
              </a:rPr>
              <a:t>DIAPHRAGM + SPERMIC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Rectangle 8"/>
          <p:cNvSpPr/>
          <p:nvPr/>
        </p:nvSpPr>
        <p:spPr>
          <a:xfrm>
            <a:off x="228600" y="1295640"/>
            <a:ext cx="11430000" cy="102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507400" tIns="237960" bIns="237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diaphragm is a flexible, latex, dome-shaped cup. It is designed to fit securely in the vagina to cover the cervix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3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DA87-4B5F-4AC3-9656-CE3D362EE8E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foam sponge inserted into the vagina to prevent pregnancy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8" name="Picture 5" descr="الأسفنجة المهبلية Vaginal Spon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6"/>
          <p:cNvSpPr/>
          <p:nvPr/>
        </p:nvSpPr>
        <p:spPr>
          <a:xfrm>
            <a:off x="833400" y="533520"/>
            <a:ext cx="7497360" cy="6426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pperplate Gothic Bold"/>
              </a:rPr>
              <a:t>VAGINAL SPONGE</a:t>
            </a:r>
            <a:r>
              <a:rPr b="0" lang="en-US" sz="3600" spc="-1" strike="noStrike">
                <a:solidFill>
                  <a:srgbClr val="ffff00"/>
                </a:solidFill>
                <a:latin typeface="Copperplate Gothic Bol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pperplate Gothic Bold"/>
              </a:rPr>
              <a:t>+ SPERMIC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4FF1-7E31-454F-A9AF-C317DA16B2A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 UTERINE CONTRACEPTI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 (IUCD)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49528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FUNCTION BY PREVENTING IMPLANT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 GENER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NON MEDICATED: LIPPE’S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I GENERATION: MEDICATED BIO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COPPER 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II GENERATION: HORMONE RELEA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PROGESTAS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2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" dur="20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20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20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2000"/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2000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2000"/>
                                        <p:tgtEl>
                                          <p:spTgt spid="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Slide Number Placeholder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B3B6-329B-44BB-A1E7-C79C9AE749B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4" name="Picture 10" descr="IUDCPlippesloop"/>
          <p:cNvPicPr/>
          <p:nvPr/>
        </p:nvPicPr>
        <p:blipFill>
          <a:blip r:embed="rId1"/>
          <a:stretch/>
        </p:blipFill>
        <p:spPr>
          <a:xfrm>
            <a:off x="0" y="1905120"/>
            <a:ext cx="4495680" cy="39942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11"/>
          <p:cNvSpPr/>
          <p:nvPr/>
        </p:nvSpPr>
        <p:spPr>
          <a:xfrm>
            <a:off x="702000" y="9144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PPE’S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6" name="Picture 12" descr="wh1c2002"/>
          <p:cNvPicPr/>
          <p:nvPr/>
        </p:nvPicPr>
        <p:blipFill>
          <a:blip r:embed="rId2"/>
          <a:stretch/>
        </p:blipFill>
        <p:spPr>
          <a:xfrm>
            <a:off x="4572000" y="1828800"/>
            <a:ext cx="4572000" cy="409572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14"/>
          <p:cNvSpPr/>
          <p:nvPr/>
        </p:nvSpPr>
        <p:spPr>
          <a:xfrm>
            <a:off x="4695840" y="971640"/>
            <a:ext cx="40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u T &amp; PROGESTAS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31FB-D4C2-4CF5-97F5-07131F0438C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9" name="Picture 2" descr="IUD_ppt_graphic_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D94E-0727-4D69-956A-04617855E7A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IUDs 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, effective, convenient, reversible, long lasting, cost effective, easy to 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Providers can ensure safety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eful scre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 follow-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FC59-0C37-4346-A531-A66DDE36D5C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214200"/>
            <a:ext cx="8258040" cy="6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pperplate Gothic Bold"/>
              </a:rPr>
              <a:t>HORMONAL CONTRACEPTIV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429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Rounded MT Bold"/>
              </a:rPr>
              <a:t>ALSO CALLED ORAL PILLS OR ORAL CONTRACEPTI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Rounded MT Bold"/>
              </a:rPr>
              <a:t>ARE USUALLY HORMONES OR COMBINATIONS TAKEN BY MOU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 Rounded MT Bold"/>
              </a:rPr>
              <a:t>THEY CAUSE THE TEMPORARY CESSATION OF THE OVARIAN CYC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6" name="Picture 5" descr="progestinpills-large"/>
          <p:cNvPicPr/>
          <p:nvPr/>
        </p:nvPicPr>
        <p:blipFill>
          <a:blip r:embed="rId1"/>
          <a:stretch/>
        </p:blipFill>
        <p:spPr>
          <a:xfrm>
            <a:off x="1219320" y="4724280"/>
            <a:ext cx="624816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20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7" dur="2000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2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FF3B-110E-4987-8FD5-19622379804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5012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pperplate Gothic Bold"/>
              </a:rPr>
              <a:t>ORAL CONTRACEP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8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 PILL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BOTH ESTROGEN &amp; PROGESTER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ESTRONE ONLY PI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T FORMU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ABLES: DEPOT PROVE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7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7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5CE4-73B1-4B82-A2DB-AFF1BD0C631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rtion is the termination of pregnanc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2b09"/>
                </a:solidFill>
                <a:latin typeface="Times New Roman"/>
                <a:ea typeface="Times New Roman"/>
              </a:rPr>
              <a:t>Therapeutic Ab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tional termination of pregnancy before age of viability to preserve the health of the m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2b09"/>
                </a:solidFill>
                <a:latin typeface="Times New Roman"/>
                <a:ea typeface="Times New Roman"/>
              </a:rPr>
              <a:t>Elective Ab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tional termination of pregnancy for reasons unrelated to mothers heal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838080" y="838080"/>
            <a:ext cx="7772400" cy="7621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pperplate Gothic Bold"/>
              </a:rPr>
              <a:t>POST CONCEPTION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D1AF-B787-4AC3-8A7A-C096C333439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838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pperplate Gothic Bold"/>
              </a:rPr>
              <a:t>CONTRACEP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conception is called 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eption is useful to preve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ulation explo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lso called as Birth Control methods or Family Planning Metho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an be done at the female, male or coital st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9F59-0909-4A2F-98AF-FD52616419D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792920" cy="893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pperplate Gothic Bold"/>
              </a:rPr>
              <a:t>OTHER METHOD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</a:rPr>
              <a:t>ABSTINENCE: THE B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</a:rPr>
              <a:t>COITUS INTERRUPTU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HISTORICALLY THE OLDEST IN HUMA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THE SEMEN WAS SPILLED ON THE GROU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</a:rPr>
              <a:t>THE MALE PI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GOSSYPOL : COTTON SEED O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KILLS SPERMATI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3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8" dur="20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2000"/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2000"/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3" dur="2000"/>
                                        <p:tgtEl>
                                          <p:spTgt spid="7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7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3" dur="2000"/>
                                        <p:tgtEl>
                                          <p:spTgt spid="7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6" dur="2000"/>
                                        <p:tgtEl>
                                          <p:spTgt spid="7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C71C-1526-49AA-889A-0482ADD5E82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pperplate Gothic Bold"/>
              </a:rPr>
              <a:t>NATURAL FAMILY PLANNING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SAFE PERIOD METHO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DURING THE FERTILE PERIOD, COITUS IS AVOID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THE REST OF THE CYCLE IS ‘SAFE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OVULATION TES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BASAL BODY TEMPERATURE CHA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CERVICAL MUCUS : BILLINGS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SYMPTOTHERMIC: ‘SELF RECOGNITION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8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3" dur="20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8" dur="2000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2000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2000"/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3" dur="2000"/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7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7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AF6C-270A-4C6C-900C-41A1DC37047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38080" y="214200"/>
            <a:ext cx="7529760" cy="812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pperplate Gothic Bold"/>
              </a:rPr>
              <a:t>SAFE PERIOD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61" name="Picture 6" descr="cyc2"/>
          <p:cNvPicPr/>
          <p:nvPr/>
        </p:nvPicPr>
        <p:blipFill>
          <a:blip r:embed="rId1"/>
          <a:stretch/>
        </p:blipFill>
        <p:spPr>
          <a:xfrm>
            <a:off x="990720" y="1143000"/>
            <a:ext cx="69339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9103-8A93-446E-9483-58D6049116F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Copperplate Gothic Bold"/>
              </a:rPr>
              <a:t>RE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5257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eption is the prevention of conception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two main types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anent or Terminal metho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ectomy or Male steriliz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bectomy or Female steriliz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or Spacing metho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C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7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20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7" dur="20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20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20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2000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0" dur="200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2000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0" dur="2000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31F2-50E1-4EC5-A240-8B8F58DF4F5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792920" cy="130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pperplate Gothic Bold"/>
              </a:rPr>
              <a:t>CONTRACEPTIVE METHODS: A CLASSIFIC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OR PERMANENT METHO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permanent stopping of concep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uples who have finished their fami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SPACING METHO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spacing or giving a gap between child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ostpone children’s arrival while the couple gets adjus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" dur="20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" dur="200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9" dur="2000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4" dur="2000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9" dur="2000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4" dur="2000"/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74B1-B8BA-41E1-94C8-B71016805AF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31520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pperplate Gothic Bold"/>
              </a:rPr>
              <a:t>TERMINAL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57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</a:rPr>
              <a:t>I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SECTOM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LE STERILIS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SIMPLE OUT PATIENT PROCED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‘VAS DEFERENS’ IS ISOLATED AND CU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TWO ENDS ARE LIG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6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9EC2-27AE-468F-B9CA-B8DC2E347F5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9292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Copperplate Gothic Bold"/>
              </a:rPr>
              <a:t>VASECTOMY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98" name="Picture 6" descr="vasectomy_3"/>
          <p:cNvPicPr/>
          <p:nvPr/>
        </p:nvPicPr>
        <p:blipFill>
          <a:blip r:embed="rId1"/>
          <a:srcRect l="0" t="5315" r="0" b="4429"/>
          <a:stretch/>
        </p:blipFill>
        <p:spPr>
          <a:xfrm>
            <a:off x="4343400" y="2209680"/>
            <a:ext cx="4800600" cy="39625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7" descr="vasectomy1"/>
          <p:cNvPicPr/>
          <p:nvPr/>
        </p:nvPicPr>
        <p:blipFill>
          <a:blip r:embed="rId2"/>
          <a:stretch/>
        </p:blipFill>
        <p:spPr>
          <a:xfrm>
            <a:off x="380880" y="2133720"/>
            <a:ext cx="4343400" cy="3935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8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06C3-C8F0-4077-A651-AAC28A64CD2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TUBECTOM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 STERILIZ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OF THE FALLOPIAN TUBE IS REMOV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ENDS ARE TIGHTLY LIG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DONE 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PARTUM STER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AROSCOPIC STERELIZ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pperplate Gothic Bold"/>
              </a:rPr>
              <a:t>TERMINAL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0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5" dur="20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0" dur="20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5" dur="20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0" dur="2000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5" dur="2000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0" dur="2000"/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5" dur="2000"/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E0B7-BF8B-4C7D-BBB3-77BF2E0E952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486640" cy="1136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Copperplate Gothic Bold"/>
              </a:rPr>
              <a:t>TUBECTOMY: TYPE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05" name="Picture 6" descr="nr551766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EF9D-BC67-42C9-8238-D9B82194D2B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3733920" cy="762120"/>
          </a:xfrm>
          <a:prstGeom prst="rect">
            <a:avLst/>
          </a:prstGeom>
          <a:solidFill>
            <a:srgbClr val="cc9900">
              <a:alpha val="8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pperplate Gothic Bold"/>
              </a:rPr>
              <a:t>SPAC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5638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RIER METHO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PHYSICAL BARRI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O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PHRAG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INAL SPO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 COND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CHEMICAL BARRIER:SPERMICID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5181480" y="380880"/>
            <a:ext cx="3733920" cy="764280"/>
          </a:xfrm>
          <a:prstGeom prst="rect">
            <a:avLst/>
          </a:prstGeom>
          <a:solidFill>
            <a:srgbClr val="99cc0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pperplate Gothic Bold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7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2" dur="20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7" dur="200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2" dur="20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7" dur="2000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2" dur="2000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7" dur="2000"/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2" dur="2000"/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7" dur="2000"/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2" dur="2000"/>
                                        <p:tgtEl>
                                          <p:spTgt spid="7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7" dur="2000"/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B5DB-2267-4F74-9E5A-4DE78E55919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pperplate Gothic Bold"/>
              </a:rPr>
              <a:t>CONDOMS        SPERMICI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12" name="Picture 6" descr="condoms-450-756760"/>
          <p:cNvPicPr/>
          <p:nvPr/>
        </p:nvPicPr>
        <p:blipFill>
          <a:blip r:embed="rId1"/>
          <a:stretch/>
        </p:blipFill>
        <p:spPr>
          <a:xfrm>
            <a:off x="533520" y="1371600"/>
            <a:ext cx="3276360" cy="245412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9" descr="spermicide"/>
          <p:cNvPicPr/>
          <p:nvPr/>
        </p:nvPicPr>
        <p:blipFill>
          <a:blip r:embed="rId2"/>
          <a:stretch/>
        </p:blipFill>
        <p:spPr>
          <a:xfrm>
            <a:off x="5638680" y="396252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10" descr="GU-28"/>
          <p:cNvPicPr/>
          <p:nvPr/>
        </p:nvPicPr>
        <p:blipFill>
          <a:blip r:embed="rId3"/>
          <a:stretch/>
        </p:blipFill>
        <p:spPr>
          <a:xfrm>
            <a:off x="533520" y="38862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1" descr="foam"/>
          <p:cNvPicPr/>
          <p:nvPr/>
        </p:nvPicPr>
        <p:blipFill>
          <a:blip r:embed="rId4"/>
          <a:stretch/>
        </p:blipFill>
        <p:spPr>
          <a:xfrm>
            <a:off x="5715000" y="1371600"/>
            <a:ext cx="234000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-PC</cp:lastModifiedBy>
  <dcterms:modified xsi:type="dcterms:W3CDTF">2017-03-08T07:28:48Z</dcterms:modified>
  <cp:revision>1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