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43"/>
          </p:nvPr>
        </p:nvSpPr>
        <p:spPr>
          <a:xfrm>
            <a:off x="10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ECOLOGY NURSING (NUR35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44"/>
          </p:nvPr>
        </p:nvSpPr>
        <p:spPr>
          <a:xfrm>
            <a:off x="518112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45"/>
          </p:nvPr>
        </p:nvSpPr>
        <p:spPr>
          <a:xfrm>
            <a:off x="10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AA24-EF16-4C62-BAF2-403609C24F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CBC5-4143-4E35-A8FD-5A9DE25D02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F0DD-E439-41AB-87EA-B0D436AF34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870B-4352-47B2-9937-C9BB527DF0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D7E4-9E21-438F-A180-A62B53E43C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EFEA-3E12-48CE-88B3-AB153A7FF0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4576-856B-43DE-978C-EFC029C925E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A60-1399-47EE-A473-D09D676CBD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6994-E726-4E86-B243-CC2B75DC9E0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0493-DE0D-4BAB-B2BE-6A3D3E80F9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69B8-BB53-4093-971A-D8E12743C2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1B2-889F-4345-8967-A45501C81B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7505-86ED-4105-99A5-E6B64431C7A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1F5F-D8B5-4D91-88BC-4DC8B8ABBC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A90A-9CD8-4F2F-A789-0CA13E8AB9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9255-DE71-494C-8D5E-DF50FE22A69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287E-9D0F-40FD-AE02-5005BFDC43F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4642-82A2-4BFD-89CC-195BB0FCB0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AE40-FABB-4A04-A1CB-143208AF578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4757-956A-4FB5-AC8C-C1EFBB3BE8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E52F-E173-4FEF-992F-7E315C4E58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77BD-14EB-41B3-A63A-974FEB666D3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9DCE-097C-4E33-A984-86C552358F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71C6-7967-4911-8527-BFEC3E5D714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5D5-68E0-45A8-B124-20787A4E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351-ECB3-4DA2-838C-7CE02C7A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86202-C28B-416F-8C6E-1A11E0ED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60980-EACF-48A8-A16E-F65DD250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A1337-5D20-4C13-A411-A74DDDBE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BEF39-AEA5-4DC0-B572-186EFC6C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D5D4C-55EC-4311-AF00-0704F4C3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73967-D130-409D-8832-C237C456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E3E87-2978-46FD-B065-3553FAB8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59F30-2E7C-4CCF-BF7B-F6F89D3D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02342-6565-4AAA-AF4A-0A3615EA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6A9D2-533D-412C-B6B6-A79F7DE1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61B-8CF1-454F-BFB8-A7CFE032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0D4E1-9422-458D-A2BB-D2929335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73236-1D61-424F-AB2E-E385F668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8B77A-DE03-4D64-98A5-F8A45031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EDDD4-F648-402A-B577-01CA8347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546BA-1A9B-42AE-931F-B3311043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8E4A0-92D7-424D-A249-4C16085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D859E-0F62-48B5-B742-763F7DBA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10B2F-6CAD-4F62-B1B4-B0829C3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31365-DC75-46E3-8995-3740E3A6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CA402-6F34-4B10-9EE1-44CCDBA5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1CB-41EB-427D-A55E-3C2C669B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E00CA-7D5A-44C0-83A0-9ADBF5B1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0B43F-7433-4FE6-8E53-B188C93A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0EC6F-D2F7-4C01-9926-5DEAEE8A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A7FBB-24CB-4B0E-BC43-840B595D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3BCDA-9ADE-4FD3-A8B4-6EAB438E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27081-C894-471D-BC36-AEB1EF36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19F07-BA6E-4396-BF17-50BA5A3F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CD827-4BDD-4FC5-A950-3D6BD7A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7B5EB-3653-4F3C-95B3-F5B094EB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1121C-20D1-4DB0-812F-C47694A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04B0-5BED-45F1-935D-932EEEF9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F8C4C-C35F-407D-B69D-9B187268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22837-0258-4668-B0E1-D8DD0D4B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48A89-4E6D-41FA-9DB2-34330CAD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996BE-007B-4DAB-9F51-706AAA12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09E39-9C31-440A-8ED2-0D6251C2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44E6B-05D3-49CD-B6DC-5D06735B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D34A2-17C7-497D-B717-EA13F9F6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C66A1-700B-417A-9419-82012D99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4A342-6A76-4EA4-AD8A-87BFDAEF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55676-84DF-4AEC-83F6-398446C0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49A9-F9AF-4B34-9BD5-0E698A43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E0FED-8A3B-4F48-B607-28A65C39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10F59-4036-4884-8B8A-67E2F07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5C4A4-3A99-47CF-A0EC-79884877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97BAA-0155-491A-BACF-D4B43217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AF7C5-9706-437F-B9F6-CFDB698F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0E89F-81A4-42DF-B1B8-97C4F25B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BA3BA-4C8F-4FD8-8BC3-67A843D6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192EA-F819-471C-964A-31F7859D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D1832-2A8A-4BAA-8CE6-3A9CBA6F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93DEB-0706-471F-BF55-6FF4FB4E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0FAF-92CC-446D-B92A-1725A350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7FEDC-0FA3-4B72-A5C7-F99169B3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04282-AA8C-4D13-A615-17A9A7A7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81BC9-035B-4BC2-86C2-31BAAFBA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50ED6-4031-49A6-A84C-40A50CE6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25388-B026-4B5E-9787-3CA3C708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830F7-F216-4775-8651-56BA978A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DEB74-5D89-4804-8B35-8937FF0E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54BC6-2708-4011-9A2A-F1CDA8EE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7AC1F-9B92-4151-9E4B-C2540EFE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4B4D1-7840-4ECC-B7F0-254AF899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69F5-73CD-4DBD-A9A0-520E5CB0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3D7CC-E444-46A2-957E-C12D9BDF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FB36D-6B7D-44B3-A3DB-6024AA4E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61789-2E27-4C08-9BC8-7D3F5159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2E5CC-4603-43B8-A80F-CE4E580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7D003-0005-4452-B2B7-B98C8834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CEFBB-102F-4A14-A4E0-B8E6408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BF58B-14A4-4B3D-8891-1E0C5A2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9672C-AD4D-467F-A71B-1FA3DE44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F8DCA-912F-4F80-9A6A-5CC3F944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7DB0-9AE8-43EF-8D71-DF153ED3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680F-80A6-4C5B-AA34-8D44D8CE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C7EC-9C2A-4ABB-A59C-926E727B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300-9CAC-4F74-9450-BA44DDB0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3E21-B5F3-43DB-B406-B9C2687C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E0E0-F339-461E-9FD4-D5C7EDF4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6627-65E1-4386-8391-752E0360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7E1D-256C-43EF-AF44-035243E2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4EA0-C23D-4AC1-8381-7A27C481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1B38-52DD-4BE5-80C4-2CEF1738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609C3-2051-4AE7-B203-4354E62B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7A715-FBDA-49C4-94AB-4BEC8D2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43F4-17A7-485F-8EF5-C349D5CA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188E-8175-43F9-B8A7-D10456C5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294-9B75-43DA-9D0E-4D058077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105E-C444-4A1D-BC26-A55AD255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7D33-0EE0-44C1-9682-756E94F2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26FED-A48B-4752-BD8E-D6F9796D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D12A-DAD2-4655-AD0B-C7C2FFC6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9550-90B4-4A2F-ACE8-B17BBFCC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8ED9-A620-4AAA-B8A9-F11B8AE7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2F65-40C6-42E1-AB21-5DF98605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0B00-9B69-41C4-BE1E-A3293C27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6EE4-9E29-4D6C-8F0D-CD28D87D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0A9CA-7A03-4CF6-99DC-76C29356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0E2-E25D-403C-B47D-6415A179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1575-9610-4CD2-88B0-79FFABA6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6ECB4-72A2-463C-AD71-25272D88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5AE6-2136-4044-97D0-3DA4A74B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87EDC-D8C4-4BCE-84FF-A8EB11C6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36BA-9460-4E26-862C-5104315E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9152-B1F8-4BB0-9C76-04CEF937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233E-4095-427A-82B9-6B86FD58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3279-B342-4166-BEEB-E8CBB9A6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C490E-547A-4337-AA9F-67EED347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AEFE-0DA8-4C2B-AAFF-EA76FF2D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113-6551-44C0-9C0D-B17BB483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90051-76F4-44CA-9C58-9C2BFE6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00216-986A-4C3E-8BC8-B1AA6B3D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F7ABE-B7E0-4DED-AB52-520A3080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9B50-45D6-4F52-B6D7-5DA4DDE1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42FCD-64B3-4902-A8B9-99A84CCC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DA1AD-F7A7-45E3-95D6-80FA618F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9FC69-FB1E-459B-8B77-77AED04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96B7-C2AD-4CC4-BF60-AE1A50DF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3DE6D-13F2-422A-B23A-591A5D59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F2D1C-19E7-47B9-B332-CA5A32A3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B97-E7C2-4087-BF8C-85109BD7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35F4F-8CFD-4911-AD6A-EBF4771E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24E5C-2968-464F-903C-C10B3B87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80016-96E9-4E20-816D-503AEE9A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D8A45-9F81-47D1-BE22-EF5F2EB9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625D-69C7-46DD-BC4B-E684B53C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2BDEB-2C05-4E28-BB63-6227F72F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83920-CBBC-4E23-909B-36067772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EC992-76DF-4942-9C51-64CEF388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FB898-11B7-4C4B-A9B2-7A5CC158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AEC4E-1AFF-4E3A-96A9-CC879B00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DFB-18DD-4841-B1BE-9EB22A9A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C6DEE-B6AD-4B15-9275-4CCAA682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05C83-5125-445B-AE6F-8FA55365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5CDAF-6FAD-4EBB-9B48-D2F627C4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57474-686A-4FF0-B574-DEC301C5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BCD30-9906-46B0-911F-67670ADC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622A-431E-4EB7-AE1D-DB081E65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11C00-BCAF-47ED-B5FE-F7C51CEC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009F2-EBA9-4827-8E0E-632B468B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51E9D-20CC-49CD-B6F4-9F71021F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B9F35-B100-4F18-B9F6-95C1985A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2A2-8E34-4F41-A5E4-CAABA2C5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AFF62-4DE5-48DA-A7A8-098EAB0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30CD5-BABC-4929-952E-E2A80D84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3322B-6A88-491E-8247-299AE17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7487-E1D6-4215-B86A-BDA99BD8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99D7-025E-4AC9-9E34-A69C7EA3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B3F1C-CD85-4FBF-9688-C5C5C6A9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4678D-E37A-4DE4-BB1B-BAF0BA04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2D306-CF29-45B9-A3C7-CB0C0C68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C7F80-D833-44BF-A971-A6E5A9DD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DF199-F320-4496-A6E3-5FDFF56D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D93-67C2-46A3-ABCB-4BCC1ED2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A758D-E714-40EF-B193-62602228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58DB7-52E4-4B2F-B949-0C1DCFB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89B83-FE04-4515-B8F6-CB3068A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159AB-7F61-4BFF-AC27-920FCFA8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A6A2A-E7EB-4D22-907E-E3F75F34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F384A-6128-4CC0-A5B2-17644E70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9E5E0-8264-4DB1-A534-C28560E7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E8B23-97E5-4091-B7F3-C3E60287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96B71-E136-4D4C-B91F-B5B23EE0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434B4-A6E9-40C4-9BA5-1EE8130F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74E9-C593-4567-96F1-012B9D50457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E7B1-DB70-4DB6-BF47-698DB26B1B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73FB-4776-4583-AECB-63AA7D19E0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57B-C7E3-4FE1-8967-F35A3969084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12FD-1793-4C43-9BE1-52D03DD3EB2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805F-ED22-4A4B-91DC-15680997C2F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68DC-C083-4E96-8E25-E97C06FE62C0}" type="slidenum">
              <a:rPr b="0" lang="ar-SA" sz="1400" spc="-1" strike="noStrike">
                <a:solidFill>
                  <a:srgbClr val="1c1c1c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CF31-275A-4FC0-B081-E022B9772CD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AF97-8136-4AE1-BFCD-A298C5962EC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B631-306A-4317-A698-FFA9E97067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6415-5B43-4943-A897-C2302616D11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C012-F59A-4BE6-96BC-877C30E5003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6AC0-3930-46A2-A624-CF9D3E33611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6D50-9226-4B72-AC78-E61A63477E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addawi.com/forum/showthread.php?t=30865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614B-5538-4378-85A3-EC43DE2C83D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WordArt 6"/>
          <p:cNvSpPr txBox="1"/>
          <p:nvPr/>
        </p:nvSpPr>
        <p:spPr>
          <a:xfrm>
            <a:off x="1692360" y="1989000"/>
            <a:ext cx="6264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61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703440" y="2789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NTRACEPTIVE METHO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1503360" y="30492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productive Health Nurs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UR 32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3048120" y="5210640"/>
            <a:ext cx="30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1746-BA50-4877-A1B7-3022AD5F00F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EMALE CONDO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0" name="Picture 7" descr="17063"/>
          <p:cNvPicPr/>
          <p:nvPr/>
        </p:nvPicPr>
        <p:blipFill>
          <a:blip r:embed="rId1"/>
          <a:stretch/>
        </p:blipFill>
        <p:spPr>
          <a:xfrm>
            <a:off x="1143000" y="1905120"/>
            <a:ext cx="777240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E396-05CA-4CAC-B4C5-229B1015B03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2" name="Picture 5" descr="barriermethods_4"/>
          <p:cNvPicPr/>
          <p:nvPr/>
        </p:nvPicPr>
        <p:blipFill>
          <a:blip r:embed="rId1"/>
          <a:srcRect l="0" t="0" r="0" b="4429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6"/>
          <p:cNvSpPr/>
          <p:nvPr/>
        </p:nvSpPr>
        <p:spPr>
          <a:xfrm>
            <a:off x="1616400" y="654120"/>
            <a:ext cx="629820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pperplate Gothic Bold"/>
              </a:rPr>
              <a:t>DIAPHRAGM + SPERMIC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228600" y="1295640"/>
            <a:ext cx="11430000" cy="102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507400" tIns="237960" bIns="23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diaphragm is a flexible, latex, dome-shaped cup. It is designed to fit securely in the vagina to cover the cervi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3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9CFD-8F12-4298-AEC5-C6105471E21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foam sponge inserted into the vagina to prevent pregnancy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8" name="Picture 5" descr="الأسفنجة المهبلية Vaginal Spon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6"/>
          <p:cNvSpPr/>
          <p:nvPr/>
        </p:nvSpPr>
        <p:spPr>
          <a:xfrm>
            <a:off x="833400" y="533520"/>
            <a:ext cx="749736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pperplate Gothic Bold"/>
              </a:rPr>
              <a:t>VAGINAL SPONGE</a:t>
            </a:r>
            <a:r>
              <a:rPr b="0" lang="en-US" sz="3600" spc="-1" strike="noStrike">
                <a:solidFill>
                  <a:srgbClr val="ffff00"/>
                </a:solidFill>
                <a:latin typeface="Copperplate Gothic Bol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pperplate Gothic Bold"/>
              </a:rPr>
              <a:t>+ SPERMIC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0ABB-FA12-40F5-8BDC-B2CF2B9D2DC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 UTERINE CONTRACEP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(IUCD)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952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FUNCTION BY PREVENTING IMPLA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 GEN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NON MEDICATED: LIPPE’S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I GENERATION: MEDICATED BIO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PPER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II GENERATION: HORMONE RELEA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OGESTAS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2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2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2000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2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2000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9BBB-37F6-4194-BAFC-FE6161F5908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4" name="Picture 10" descr="IUDCPlippesloop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3994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1"/>
          <p:cNvSpPr/>
          <p:nvPr/>
        </p:nvSpPr>
        <p:spPr>
          <a:xfrm>
            <a:off x="702000" y="914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PPE’S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6" name="Picture 12" descr="wh1c2002"/>
          <p:cNvPicPr/>
          <p:nvPr/>
        </p:nvPicPr>
        <p:blipFill>
          <a:blip r:embed="rId2"/>
          <a:stretch/>
        </p:blipFill>
        <p:spPr>
          <a:xfrm>
            <a:off x="4572000" y="1828800"/>
            <a:ext cx="4572000" cy="409572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4"/>
          <p:cNvSpPr/>
          <p:nvPr/>
        </p:nvSpPr>
        <p:spPr>
          <a:xfrm>
            <a:off x="4695840" y="971640"/>
            <a:ext cx="40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u T &amp; PROGESTAS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F7A0-F313-4DF9-89B3-5BD267DA8D3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9" name="Picture 2" descr="IUD_ppt_graphic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B1D4-C746-4D32-B81C-6A8DBD07CEC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UD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, effective, convenient, reversible, long lasting, cost effective, easy to 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Providers can ensure safety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scre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follow-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9A1F-AB0F-4964-9E54-5CD80E26621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25804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pperplate Gothic Bold"/>
              </a:rPr>
              <a:t>HORMONAL CONTRACEPTI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429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Rounded MT Bold"/>
              </a:rPr>
              <a:t>ALSO CALLED ORAL PILLS OR ORAL CONTRACEPT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Rounded MT Bold"/>
              </a:rPr>
              <a:t>ARE USUALLY HORMONES OR COMBINATIONS TAKEN BY MOU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Rounded MT Bold"/>
              </a:rPr>
              <a:t>THEY CAUSE THE TEMPORARY CESSATION OF THE OVARIAN CYC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6" name="Picture 5" descr="progestinpills-large"/>
          <p:cNvPicPr/>
          <p:nvPr/>
        </p:nvPicPr>
        <p:blipFill>
          <a:blip r:embed="rId1"/>
          <a:stretch/>
        </p:blipFill>
        <p:spPr>
          <a:xfrm>
            <a:off x="1219320" y="4724280"/>
            <a:ext cx="624816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2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9D83-A0BB-40BB-B6C9-DFBFE5CAB70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501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ORAL CONTRACEP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PIL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BOTH ESTROGEN &amp; PROGESTER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ESTRONE ONLY P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T FORM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ABLES: DEPOT PROV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5FF0-80E4-43A9-9D93-E54C800711A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rtion is the termination of pregna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b09"/>
                </a:solidFill>
                <a:latin typeface="Times New Roman"/>
                <a:ea typeface="Times New Roman"/>
              </a:rPr>
              <a:t>Therapeutic Ab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tional termination of pregnancy before age of viability to preserve the health of the m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b09"/>
                </a:solidFill>
                <a:latin typeface="Times New Roman"/>
                <a:ea typeface="Times New Roman"/>
              </a:rPr>
              <a:t>Elective Ab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tional termination of pregnancy for reasons unrelated to mothers heal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838080" y="838080"/>
            <a:ext cx="7772400" cy="7621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pperplate Gothic Bold"/>
              </a:rPr>
              <a:t>POST CONCEPTION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3B30-02A3-4A8A-B6E8-2DA6E0C283C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838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pperplate Gothic Bold"/>
              </a:rPr>
              <a:t>CONTRA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conception is called 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eption is useful to prev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explo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called as Birth Control methods or Family Planning Meth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n be done at the female, male or coital s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CAD8-ACC3-422F-9CEB-FF2D5C893DB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92920" cy="89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pperplate Gothic Bold"/>
              </a:rPr>
              <a:t>OTHER METHOD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ABSTINENCE: THE B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COITUS INTERRUPTU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HISTORICALLY THE OLDEST IN HUMA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THE SEMEN WAS SPILLED ON THE GR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THE MALE PI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GOSSYPOL : COTTON SEED O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KILLS SPERMATI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3" dur="2000"/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2000"/>
                                        <p:tgtEl>
                                          <p:spTgt spid="7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7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10E3-95E4-44C1-843E-68C51F8B12D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NATURAL FAMILY PLANNING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AFE PERIOD METHO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URING THE FERTILE PERIOD, COITUS IS AVOI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THE REST OF THE CYCLE IS ‘SAFE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OVULATION TES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BASAL BODY TEMPERATURE CH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CERVICAL MUCUS : BILLINGS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YMPTOTHERMIC: ‘SELF RECOGNITION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20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3" dur="2000"/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E0BE-0764-48E7-88F9-0DD99358A83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214200"/>
            <a:ext cx="7529760" cy="812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pperplate Gothic Bold"/>
              </a:rPr>
              <a:t>SAFE PERIOD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1" name="Picture 6" descr="cyc2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EBD5-A65D-4F52-94EA-438F9E78B18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pperplate Gothic Bold"/>
              </a:rPr>
              <a:t>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257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eption is the prevention of conception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two main type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 or Terminal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ectomy or Male steri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ectomy or Female steri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or Spacing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C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0" dur="2000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1580-E039-403D-A363-58FDD4C4752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92920" cy="130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pperplate Gothic Bold"/>
              </a:rPr>
              <a:t>CONTRACEPTIVE METHODS: A CLASSIFI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OR PERMANENT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permanent stopping of conce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uples who have finished their fami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SPACING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spacing or giving a gap between child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ostpone children’s arrival while the couple gets adjus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" dur="2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" dur="20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" dur="20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" dur="20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2000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4" dur="2000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DE11-AFE6-4E66-9D87-46E4056F2DE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3152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TERMINAL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I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SECTO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LE STERILIS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SIMPLE OUT PATIENT PROCED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‘VAS DEFERENS’ IS ISOLATED AND C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WO ENDS ARE LIG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4778-3720-4326-810D-0B69E3E66C0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9292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Copperplate Gothic Bold"/>
              </a:rPr>
              <a:t>VASECTOMY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98" name="Picture 6" descr="vasectomy_3"/>
          <p:cNvPicPr/>
          <p:nvPr/>
        </p:nvPicPr>
        <p:blipFill>
          <a:blip r:embed="rId1"/>
          <a:srcRect l="0" t="5315" r="0" b="4429"/>
          <a:stretch/>
        </p:blipFill>
        <p:spPr>
          <a:xfrm>
            <a:off x="4343400" y="2209680"/>
            <a:ext cx="4800600" cy="39625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7" descr="vasectomy1"/>
          <p:cNvPicPr/>
          <p:nvPr/>
        </p:nvPicPr>
        <p:blipFill>
          <a:blip r:embed="rId2"/>
          <a:stretch/>
        </p:blipFill>
        <p:spPr>
          <a:xfrm>
            <a:off x="380880" y="2133720"/>
            <a:ext cx="4343400" cy="3935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263E-6019-45E7-AFDF-5409CA3877A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TUBECTO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 STERILIZ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FALLOPIAN TUBE IS REMOV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ENDS ARE TIGHTLY LIG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DONE 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PARTUM STER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AROSCOPIC STERELIZ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TERMINAL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0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" dur="2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0" dur="2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5" dur="20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0" dur="20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20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0" dur="2000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B0C8-06DE-4F61-8E77-E16A51C6019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486640" cy="113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Copperplate Gothic Bold"/>
              </a:rPr>
              <a:t>TUBECTOMY: TYP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05" name="Picture 6" descr="nr551766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44F0-DF3D-470F-BEA6-C90200A25EF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3733920" cy="76212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SPA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5638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RIER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HYSICAL BARRI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O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PHRAG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 SPO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 COND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HEMICAL BARRIER:SPERMICID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5181480" y="380880"/>
            <a:ext cx="3733920" cy="76428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pperplate Gothic Bold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7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20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7" dur="20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2" dur="20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7" dur="20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2000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2" dur="2000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7" dur="2000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2" dur="2000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7" dur="2000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B6B5-FBF3-4CF0-9C8C-C561BC7D9FA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CONDOMS        SPERMICI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2" name="Picture 6" descr="condoms-450-756760"/>
          <p:cNvPicPr/>
          <p:nvPr/>
        </p:nvPicPr>
        <p:blipFill>
          <a:blip r:embed="rId1"/>
          <a:stretch/>
        </p:blipFill>
        <p:spPr>
          <a:xfrm>
            <a:off x="533520" y="1371600"/>
            <a:ext cx="3276360" cy="24541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9" descr="spermicide"/>
          <p:cNvPicPr/>
          <p:nvPr/>
        </p:nvPicPr>
        <p:blipFill>
          <a:blip r:embed="rId2"/>
          <a:stretch/>
        </p:blipFill>
        <p:spPr>
          <a:xfrm>
            <a:off x="5638680" y="39625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0" descr="GU-28"/>
          <p:cNvPicPr/>
          <p:nvPr/>
        </p:nvPicPr>
        <p:blipFill>
          <a:blip r:embed="rId3"/>
          <a:stretch/>
        </p:blipFill>
        <p:spPr>
          <a:xfrm>
            <a:off x="533520" y="38862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1" descr="foam"/>
          <p:cNvPicPr/>
          <p:nvPr/>
        </p:nvPicPr>
        <p:blipFill>
          <a:blip r:embed="rId4"/>
          <a:stretch/>
        </p:blipFill>
        <p:spPr>
          <a:xfrm>
            <a:off x="5715000" y="1371600"/>
            <a:ext cx="234000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-PC</cp:lastModifiedBy>
  <dcterms:modified xsi:type="dcterms:W3CDTF">2017-03-08T07:28:48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