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722E-945B-437A-87AD-BCAE62035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0A531-ABFC-4A81-9BCA-1606B042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F2E19-E36C-43EC-9E22-9AA83B811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6FB94-A1AF-40D7-B261-B7A3A25D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BEB4A-44F9-485E-AB3B-F844237A8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E606-B867-4F17-9287-60D36A3B3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1EFA6-1D78-4431-A7DD-FB02557DF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D7256-F951-4196-9105-47D33C621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D9F9B-4D90-45CD-AC36-80A9763E1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3B486-EB3D-426D-84C9-80C85885A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8CFEE-D33D-4D60-94A0-C7D085DC0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F15C-811E-4E3D-86B9-BF5B8C6C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E6E84-080C-49D3-9343-48B637D49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59848-DEEE-4D0B-87F5-2D9AAA907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13887-5B7C-4665-85B2-8E1AD8F42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8D01B-C33D-4896-B953-D381F4F36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72B14-7295-449F-95D6-63522F0F0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D42D3-C43F-43D8-85E9-0F02DB68DF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1B26D-0137-4F9B-950E-AAAE1BF10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8CD1B-0802-4E74-9BB9-063CF39D5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A3C07-058F-412F-93C5-42FEADFAE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B4FE1-8DBD-4119-8CC7-74E542994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E715-3919-427A-BBB5-5B0E20A64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BCFC8-C947-4705-B72C-A4C89CE44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CBB36-431D-4EAE-893C-8A63889DC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ACAF5-D1B3-49C6-AD7E-7E159D77F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1F4FD-7976-446D-910C-051AB752B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766B3-684E-474A-BB82-98C596449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D8BF7-FBCF-4CDB-B57A-C7599F9D6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687D0-9337-455B-B753-80F1B0B48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8802E7-3417-4768-B216-397E71FFB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C0274-6C7C-44F5-B2AC-357A42BE2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73B76-B738-446C-B6FF-412F9E8F1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BCC99-A631-4455-AEDA-311AFE77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EF840-EFA6-4DF0-A437-0C63A5F07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4CD9B-13BE-4CB6-84DF-0562EA3F6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CFF9C-2D86-427E-B066-9A6045D83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0E1C6-C714-4BF7-92B2-ABFD78176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CCDAE-123E-42CB-8E1E-C012BF6A8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43897-8B24-47F5-978D-4B2E36061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3084D-AE6E-451E-9D84-8DE0C597C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CD5CC2-9857-4FEE-90BE-8CB4A3B25E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C19FA-6FFC-4C4E-BB38-494DAC40F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79EB-F4FB-4FD2-AD95-BD2DFE0EF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2799-53C3-4834-9A8D-D6CCF5DD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E12E-1BA8-4A57-B9AF-6DF3808C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73E4-2D15-46FE-A182-F1C145E2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1F8F9-8D13-4456-A35D-A07CFF99D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3B54D-9FC1-4143-94B0-83C2D18AADCA}"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0" y="-7920"/>
            <a:ext cx="12192120" cy="6865920"/>
            <a:chOff x="0" y="-7920"/>
            <a:chExt cx="12192120" cy="6865920"/>
          </a:xfrm>
        </p:grpSpPr>
        <p:sp>
          <p:nvSpPr>
            <p:cNvPr id="53" name="Freeform 14"/>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8"/>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19"/>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22"/>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6"/>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CA26B-F155-4F50-B310-FF145863073B}"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BFEEB-C8B4-41CB-9558-475889A8EC52}"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4FF0D-BC0F-43FE-A3C2-B1612099503E}"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727ca3"/>
                </a:solidFill>
                <a:latin typeface="Arabic Typesetting"/>
                <a:cs typeface="Arabic Typesetting"/>
              </a:rPr>
              <a:t>التعريب (المحاضرة </a:t>
            </a:r>
            <a:r>
              <a:rPr b="0" lang="ar-SA" sz="5400" spc="-1" strike="noStrike">
                <a:solidFill>
                  <a:srgbClr val="727ca3"/>
                </a:solidFill>
                <a:latin typeface="Arabic Typesetting"/>
                <a:ea typeface="Arabic Typesetting"/>
              </a:rPr>
              <a:t>8</a:t>
            </a:r>
            <a:r>
              <a:rPr b="0" lang="ar-SA" sz="5400" spc="-1" strike="noStrike">
                <a:solidFill>
                  <a:srgbClr val="727ca3"/>
                </a:solidFill>
                <a:latin typeface="Arabic Typesetting"/>
                <a:ea typeface="Arabic Typesetting"/>
              </a:rPr>
              <a:t>)</a:t>
            </a:r>
            <a:br>
              <a:rPr sz="5400"/>
            </a:br>
            <a:r>
              <a:rPr b="0" lang="ar-SA" sz="5400" spc="-1" strike="noStrike">
                <a:solidFill>
                  <a:srgbClr val="727ca3"/>
                </a:solidFill>
                <a:latin typeface="Arabic Typesetting"/>
                <a:cs typeface="Arabic Typesetting"/>
              </a:rPr>
              <a:t>مؤسسات التعريب: الجامعات وهيئات التعريب </a:t>
            </a:r>
            <a:endParaRPr b="0" lang="en-US" sz="5400" spc="-1" strike="noStrike">
              <a:solidFill>
                <a:srgbClr val="727ca3"/>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7f7f7f"/>
                </a:solidFill>
                <a:latin typeface="Arabic Typesetting"/>
                <a:cs typeface="Arabic Typesetting"/>
              </a:rPr>
              <a:t>د. سلوى الحارثي</a:t>
            </a:r>
            <a:endParaRPr b="0" lang="en-US" sz="1800" spc="-1" strike="noStrike">
              <a:solidFill>
                <a:srgbClr val="404040"/>
              </a:solidFill>
              <a:latin typeface="Trebuchet MS"/>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7f7f7f"/>
                </a:solidFill>
                <a:latin typeface="Arabic Typesetting"/>
                <a:cs typeface="Arabic Typesetting"/>
              </a:rPr>
              <a:t>أستاذ مساعد في قسم اللغة الإنجليزية والترجمة، كلية اللغات والترجم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480"/>
            <a:ext cx="8596440" cy="7984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633f32"/>
                </a:solidFill>
                <a:latin typeface="Trebuchet MS"/>
                <a:cs typeface="Tahoma"/>
              </a:rPr>
              <a:t>الهيئات المساندة للتعريب</a:t>
            </a:r>
            <a:endParaRPr b="0" lang="en-US" sz="2800" spc="-1" strike="noStrike">
              <a:solidFill>
                <a:srgbClr val="727ca3"/>
              </a:solidFill>
              <a:latin typeface="Trebuchet MS"/>
            </a:endParaRPr>
          </a:p>
        </p:txBody>
      </p:sp>
      <p:sp>
        <p:nvSpPr>
          <p:cNvPr id="231" name=""/>
          <p:cNvSpPr txBox="1"/>
          <p:nvPr/>
        </p:nvSpPr>
        <p:spPr>
          <a:xfrm>
            <a:off x="677520" y="1447920"/>
            <a:ext cx="8596440" cy="5068800"/>
          </a:xfrm>
          <a:prstGeom prst="rect">
            <a:avLst/>
          </a:prstGeom>
          <a:noFill/>
          <a:ln w="0">
            <a:noFill/>
          </a:ln>
        </p:spPr>
        <p:txBody>
          <a:bodyPr anchor="t">
            <a:normAutofit/>
          </a:bodyPr>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ليس التعريب من مهام الهيئات المساندة الأساسية لكن طبيعة عملها اقتضت الإسهام فيه ومعظم إنجازاتها تدور حول إعداد معاجم المصطلحات ومنها:</a:t>
            </a:r>
            <a:endParaRPr b="0" lang="en-US" sz="1500" spc="-1" strike="noStrike">
              <a:solidFill>
                <a:srgbClr val="404040"/>
              </a:solidFill>
              <a:latin typeface="Trebuchet MS"/>
            </a:endParaRPr>
          </a:p>
          <a:p>
            <a:pPr algn="r" rtl="1">
              <a:lnSpc>
                <a:spcPct val="130000"/>
              </a:lnSpc>
              <a:spcBef>
                <a:spcPts val="1001"/>
              </a:spcBef>
              <a:buClr>
                <a:srgbClr val="727ca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cs typeface="Tahoma"/>
              </a:rPr>
              <a:t>منظمات الجامعة العربية مثل: </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لأمانة العامة لجامعة الدول العربية – المنظمة العربية للتربية والثقافة والعلوم – مجلس وزراء الصحة العرب – المنظمة العربية للمواصفات والمقاييس </a:t>
            </a:r>
            <a:endParaRPr b="0" lang="en-US" sz="1500" spc="-1" strike="noStrike">
              <a:solidFill>
                <a:srgbClr val="404040"/>
              </a:solidFill>
              <a:latin typeface="Trebuchet MS"/>
            </a:endParaRPr>
          </a:p>
          <a:p>
            <a:pPr algn="r" rtl="1">
              <a:lnSpc>
                <a:spcPct val="130000"/>
              </a:lnSpc>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ea typeface="Tahoma"/>
              </a:rPr>
              <a:t>2</a:t>
            </a:r>
            <a:r>
              <a:rPr b="0" lang="ar-SA" sz="1500" spc="-1" strike="noStrike">
                <a:solidFill>
                  <a:srgbClr val="00b0f0"/>
                </a:solidFill>
                <a:latin typeface="Trebuchet MS"/>
                <a:ea typeface="Tahoma"/>
              </a:rPr>
              <a:t>. الاتحادات العربية المهنية مثل:</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تحاد الأطباء العرب – اتحاد المهندسين العرب – اتحاد الكيميائيين العرب – الاتحاد البريدي العربي – الاتحاد العربي للسكك الحديدية </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ea typeface="Tahoma"/>
              </a:rPr>
              <a:t>3</a:t>
            </a:r>
            <a:r>
              <a:rPr b="0" lang="ar-SA" sz="1500" spc="-1" strike="noStrike">
                <a:solidFill>
                  <a:srgbClr val="00b0f0"/>
                </a:solidFill>
                <a:latin typeface="Trebuchet MS"/>
                <a:ea typeface="Tahoma"/>
              </a:rPr>
              <a:t>. المنظمات والهيئات الدولية مثل:</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لمنظمة العالمية للتربية والعلوم والثقافة – المنظمة العالمة للملكية الفكرية – منظمة الصحة العالمية – برنامج الأمم المتحدة للإنماء</a:t>
            </a: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356600" y="1123560"/>
            <a:ext cx="213336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633f32"/>
                </a:solidFill>
                <a:latin typeface="Trebuchet MS"/>
                <a:cs typeface="Tahoma"/>
              </a:rPr>
              <a:t>المراجع</a:t>
            </a:r>
            <a:endParaRPr b="0" lang="en-US" sz="2400" spc="-1" strike="noStrike">
              <a:solidFill>
                <a:srgbClr val="727ca3"/>
              </a:solidFill>
              <a:latin typeface="Trebuchet MS"/>
            </a:endParaRPr>
          </a:p>
        </p:txBody>
      </p:sp>
      <p:sp>
        <p:nvSpPr>
          <p:cNvPr id="233" name=""/>
          <p:cNvSpPr txBox="1"/>
          <p:nvPr/>
        </p:nvSpPr>
        <p:spPr>
          <a:xfrm>
            <a:off x="561600" y="1708200"/>
            <a:ext cx="8596440" cy="3881520"/>
          </a:xfrm>
          <a:prstGeom prst="rect">
            <a:avLst/>
          </a:prstGeom>
          <a:noFill/>
          <a:ln w="0">
            <a:noFill/>
          </a:ln>
        </p:spPr>
        <p:txBody>
          <a:bodyPr anchor="t">
            <a:normAutofit/>
          </a:bodyPr>
          <a:p>
            <a:pPr algn="r" rtl="1">
              <a:lnSpc>
                <a:spcPct val="2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a:p>
            <a:pPr algn="r" rtl="1">
              <a:lnSpc>
                <a:spcPct val="2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د. عبدالكريم خليفة (</a:t>
            </a:r>
            <a:r>
              <a:rPr b="0" lang="ar-SA" sz="1800" spc="-1" strike="noStrike">
                <a:solidFill>
                  <a:srgbClr val="404040"/>
                </a:solidFill>
                <a:latin typeface="Trebuchet MS"/>
                <a:ea typeface="Tahoma"/>
              </a:rPr>
              <a:t>1997</a:t>
            </a:r>
            <a:r>
              <a:rPr b="0" lang="ar-SA" sz="1800" spc="-1" strike="noStrike">
                <a:solidFill>
                  <a:srgbClr val="404040"/>
                </a:solidFill>
                <a:latin typeface="Trebuchet MS"/>
                <a:ea typeface="Tahoma"/>
              </a:rPr>
              <a:t>) اللغة العربية والتعريب في العصر الحديث. عمان: دار الفرقان للنشر</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45800" y="101880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تعريب الجامعات في الدول العربية</a:t>
            </a:r>
            <a:endParaRPr b="0" lang="en-US" sz="3200" spc="-1" strike="noStrike">
              <a:solidFill>
                <a:srgbClr val="727ca3"/>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واقع التعريب في الجامعات العربية: </a:t>
            </a:r>
            <a:r>
              <a:rPr b="0" lang="ar-SA" sz="1800" spc="-1" strike="noStrike">
                <a:solidFill>
                  <a:srgbClr val="404040"/>
                </a:solidFill>
                <a:latin typeface="Trebuchet MS"/>
                <a:cs typeface="Tahoma"/>
              </a:rPr>
              <a:t>تعريب التعليم الجامعي مطبق تماما في سورية، وبنسب متدرجة نزولا في كل من:</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سودان</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العراق</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السعودية</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ليبيا</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مصر</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التجربة السورية</a:t>
            </a:r>
            <a:endParaRPr b="0" lang="en-US" sz="3200" spc="-1" strike="noStrike">
              <a:solidFill>
                <a:srgbClr val="727ca3"/>
              </a:solidFill>
              <a:latin typeface="Trebuchet MS"/>
            </a:endParaRPr>
          </a:p>
        </p:txBody>
      </p:sp>
      <p:sp>
        <p:nvSpPr>
          <p:cNvPr id="217" name=""/>
          <p:cNvSpPr txBox="1"/>
          <p:nvPr/>
        </p:nvSpPr>
        <p:spPr>
          <a:xfrm>
            <a:off x="677520" y="1536840"/>
            <a:ext cx="8596440" cy="450504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الجامعات السور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عهد الطب (نواة جامعة دمشق) - والذي تحول إلى كلية لاحقا -  تبنى التعريب منذ قيامه عام </a:t>
            </a:r>
            <a:r>
              <a:rPr b="0" lang="ar-SA" sz="1800" spc="-1" strike="noStrike">
                <a:solidFill>
                  <a:srgbClr val="404040"/>
                </a:solidFill>
                <a:latin typeface="Trebuchet MS"/>
                <a:ea typeface="Tahoma"/>
              </a:rPr>
              <a:t>1919</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عظم أساتذته كانوا قد تخرجوا من المدارس التركية التي كانت تعتمد في مصطلحاتها على اللغة العرب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لف أساتذة كلية الطب شبه مجمع لغوي يعرض عليه الأساتذة ألفاظ تخصصاتهم</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لف الأساتذة كتبا جليلة في مختلف التخصصات في أواخرها مسارد للمصطلحات بالعربية والفرنس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حثوا عن مرادفات المصطلحات في كتب الطب القديمة وإن لم يجدوا بغيتهم لجأوا إلى التوليد أو الاقتراض</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هكذا توفرت للسوريين متطلبات التعريب: الأستاذ المؤهل، والكتاب العلمي، و المصطلح العربي</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61560" y="59796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التجربة الأردنية</a:t>
            </a:r>
            <a:endParaRPr b="0" lang="en-US" sz="3200" spc="-1" strike="noStrike">
              <a:solidFill>
                <a:srgbClr val="727ca3"/>
              </a:solidFill>
              <a:latin typeface="Trebuchet MS"/>
            </a:endParaRPr>
          </a:p>
        </p:txBody>
      </p:sp>
      <p:sp>
        <p:nvSpPr>
          <p:cNvPr id="219" name=""/>
          <p:cNvSpPr txBox="1"/>
          <p:nvPr/>
        </p:nvSpPr>
        <p:spPr>
          <a:xfrm>
            <a:off x="1292040" y="1550880"/>
            <a:ext cx="8118360" cy="3881520"/>
          </a:xfrm>
          <a:prstGeom prst="rect">
            <a:avLst/>
          </a:prstGeom>
          <a:noFill/>
          <a:ln w="0">
            <a:noFill/>
          </a:ln>
        </p:spPr>
        <p:txBody>
          <a:bodyPr anchor="t">
            <a:normAutofit fontScale="91000"/>
          </a:bodyPr>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كان الأردن في العصر العثماني جزءا من ولاية الشام، وكانت التركية لغة الإدارة والدوائر</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عد استقلال سوريا كان الأردن جزءا منها، ودامت هذه الدولة العربية </a:t>
            </a:r>
            <a:r>
              <a:rPr b="0" lang="ar-SA" sz="2000" spc="-1" strike="noStrike">
                <a:solidFill>
                  <a:srgbClr val="404040"/>
                </a:solidFill>
                <a:latin typeface="Trebuchet MS"/>
                <a:ea typeface="Tahoma"/>
              </a:rPr>
              <a:t>20</a:t>
            </a:r>
            <a:r>
              <a:rPr b="0" lang="ar-SA" sz="2000" spc="-1" strike="noStrike">
                <a:solidFill>
                  <a:srgbClr val="404040"/>
                </a:solidFill>
                <a:latin typeface="Trebuchet MS"/>
                <a:ea typeface="Tahoma"/>
              </a:rPr>
              <a:t> شهرا استطاعت خلالها تعريب جميع دوائر الدولة ومؤسساتها والتعليم بجميع مراحله</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ع الأردن تحت الانتداب البريطاني ونودي بالأمير عبدالله بن الحسين أميراً عليه</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كان الأمير عبدالله شاعراً وأديباً ولغوياً، وأقر إنشاء مجمع علمي لكن المجمع لم يستمر لقلة المال والرجال</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7520" y="609480"/>
            <a:ext cx="8596440" cy="177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1" name=""/>
          <p:cNvSpPr txBox="1"/>
          <p:nvPr/>
        </p:nvSpPr>
        <p:spPr>
          <a:xfrm>
            <a:off x="740880" y="1539720"/>
            <a:ext cx="8596440" cy="3881520"/>
          </a:xfrm>
          <a:prstGeom prst="rect">
            <a:avLst/>
          </a:prstGeom>
          <a:noFill/>
          <a:ln w="0">
            <a:noFill/>
          </a:ln>
        </p:spPr>
        <p:txBody>
          <a:bodyPr anchor="t">
            <a:normAutofit/>
          </a:bodyPr>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الدولة الأردنية  والتعريب فيها سياسة واقعية. العربية لغتها الرسمية ولغة التعليم في الابتدائية والثانوية ولغة الدوائر الحكومية</a:t>
            </a:r>
            <a:endParaRPr b="0" lang="en-US" sz="2000" spc="-1" strike="noStrike">
              <a:solidFill>
                <a:srgbClr val="404040"/>
              </a:solidFill>
              <a:latin typeface="Trebuchet MS"/>
            </a:endParaRPr>
          </a:p>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ما أنشئت الجامعات استخدمت الإنجليزية في تدريس التخصصات العلمية جميعها رغم أن قانون الجامعات ينص على أن لغة التدريس هي العربية</a:t>
            </a:r>
            <a:endParaRPr b="0" lang="en-US" sz="2000" spc="-1" strike="noStrike">
              <a:solidFill>
                <a:srgbClr val="404040"/>
              </a:solidFill>
              <a:latin typeface="Trebuchet MS"/>
            </a:endParaRPr>
          </a:p>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 مجمع اللغة العربية الأردني عام </a:t>
            </a:r>
            <a:r>
              <a:rPr b="0" lang="ar-SA" sz="2000" spc="-1" strike="noStrike">
                <a:solidFill>
                  <a:srgbClr val="404040"/>
                </a:solidFill>
                <a:latin typeface="Trebuchet MS"/>
                <a:ea typeface="Tahoma"/>
              </a:rPr>
              <a:t>1976</a:t>
            </a:r>
            <a:r>
              <a:rPr b="0" lang="ar-SA" sz="2000" spc="-1" strike="noStrike">
                <a:solidFill>
                  <a:srgbClr val="404040"/>
                </a:solidFill>
                <a:latin typeface="Trebuchet MS"/>
                <a:ea typeface="Tahoma"/>
              </a:rPr>
              <a:t> وبدأ بحملة واسعة لتعريب التعليم الجامعي ولقي ترحيبا من معظم الأساتذة رغم أنهم تعلموا في جامعات أجنبية</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63720"/>
          </a:xfrm>
          <a:prstGeom prst="rect">
            <a:avLst/>
          </a:prstGeom>
          <a:noFill/>
          <a:ln w="0">
            <a:noFill/>
          </a:ln>
        </p:spPr>
        <p:txBody>
          <a:bodyPr tIns="18000" bIns="180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3" name=""/>
          <p:cNvSpPr txBox="1"/>
          <p:nvPr/>
        </p:nvSpPr>
        <p:spPr>
          <a:xfrm>
            <a:off x="677520" y="1307880"/>
            <a:ext cx="8596440" cy="473364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525b7e"/>
                </a:solidFill>
                <a:latin typeface="Trebuchet MS"/>
                <a:cs typeface="Tahoma"/>
              </a:rPr>
              <a:t>المرحلة الأولى</a:t>
            </a:r>
            <a:r>
              <a:rPr b="0" lang="en-GB" sz="2000" spc="-1" strike="noStrike">
                <a:solidFill>
                  <a:srgbClr val="525b7e"/>
                </a:solidFill>
                <a:latin typeface="Trebuchet MS"/>
              </a:rPr>
              <a:t> </a:t>
            </a:r>
            <a:r>
              <a:rPr b="0" lang="ar-SA" sz="2000" spc="-1" strike="noStrike">
                <a:solidFill>
                  <a:srgbClr val="525b7e"/>
                </a:solidFill>
                <a:latin typeface="Trebuchet MS"/>
                <a:ea typeface="Tahoma"/>
              </a:rPr>
              <a:t> للتعريب في الجامعات الأردنية: </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955e4b"/>
                </a:solidFill>
                <a:latin typeface="Trebuchet MS"/>
                <a:ea typeface="Tahoma"/>
              </a:rPr>
              <a:t>1</a:t>
            </a:r>
            <a:r>
              <a:rPr b="0" lang="ar-SA" sz="2000" spc="-1" strike="noStrike">
                <a:solidFill>
                  <a:srgbClr val="955e4b"/>
                </a:solidFill>
                <a:latin typeface="Trebuchet MS"/>
                <a:ea typeface="Tahoma"/>
              </a:rPr>
              <a:t>- ترجمة الكتب العلمية للسنة الأولى في التخصصات العلمية</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ختيرت الكتب واللجان وبدأت الترجمة مع الاطلاع على نتاج جهود المجامع اللغوية ومؤتمرات التعريب – ويراجَع كل كتاب مترجم علمياً ولغوياً ويشرف المترجمون على الطباعة – وأجريت دراسة ميدانية لتقييم هذه المرحلة</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ن نتائج الدراسة أن نسبة الرسوب في مادة الأحياء هبطت من </a:t>
            </a:r>
            <a:r>
              <a:rPr b="0" lang="ar-SA" sz="2000" spc="-1" strike="noStrike">
                <a:solidFill>
                  <a:srgbClr val="404040"/>
                </a:solidFill>
                <a:latin typeface="Trebuchet MS"/>
                <a:ea typeface="Tahoma"/>
              </a:rPr>
              <a:t>35</a:t>
            </a:r>
            <a:r>
              <a:rPr b="0" lang="ar-SA" sz="2000" spc="-1" strike="noStrike">
                <a:solidFill>
                  <a:srgbClr val="404040"/>
                </a:solidFill>
                <a:latin typeface="Trebuchet MS"/>
                <a:ea typeface="Tahoma"/>
              </a:rPr>
              <a:t> % إلى </a:t>
            </a:r>
            <a:r>
              <a:rPr b="0" lang="ar-SA" sz="2000" spc="-1" strike="noStrike">
                <a:solidFill>
                  <a:srgbClr val="404040"/>
                </a:solidFill>
                <a:latin typeface="Trebuchet MS"/>
                <a:ea typeface="Tahoma"/>
              </a:rPr>
              <a:t>3</a:t>
            </a:r>
            <a:r>
              <a:rPr b="0" lang="ar-SA" sz="2000" spc="-1" strike="noStrike">
                <a:solidFill>
                  <a:srgbClr val="404040"/>
                </a:solidFill>
                <a:latin typeface="Trebuchet MS"/>
                <a:ea typeface="Tahoma"/>
              </a:rPr>
              <a:t> % عندما درس الطلاب باللغة العربية كما أنهم درسوا منهجاً أوسع وأعمق </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عادت الكليات بعد التجربة إلى التدريس بالإنجليزية في العام التالي؟؟؟ لماذا؟</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5" name=""/>
          <p:cNvSpPr txBox="1"/>
          <p:nvPr/>
        </p:nvSpPr>
        <p:spPr>
          <a:xfrm>
            <a:off x="677520" y="1434600"/>
            <a:ext cx="8596440" cy="46069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المرحلة الثانية: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ea typeface="Tahoma"/>
              </a:rPr>
              <a:t>2</a:t>
            </a:r>
            <a:r>
              <a:rPr b="0" lang="ar-SA" sz="1800" spc="-1" strike="noStrike">
                <a:solidFill>
                  <a:srgbClr val="955e4b"/>
                </a:solidFill>
                <a:latin typeface="Trebuchet MS"/>
                <a:ea typeface="Tahoma"/>
              </a:rPr>
              <a:t>- ترجمة جميع الكتب العلمية في مستوى السنة الثاني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المجمع يهدي نسخا من الكتب التي يترجمها إلى كل الجامعات العربية، ويبيعها بسعر التكلفة. ولكن أعيد تصوير جميع تلك الكتب في بيروت وأغرقت بها السوق فلم يستطع المجمع الاستمرار بالدفع للمترجمين لضعف إمكاناته وأقام دعوى قضائية ضد مجهو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633f32"/>
                </a:solidFill>
                <a:latin typeface="Trebuchet MS"/>
                <a:cs typeface="Tahoma"/>
              </a:rPr>
              <a:t>من إنجازات مجمع اللغة العربية الأردني أيض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توحيد المصطلحات بين التخصصات العلمية المختلفة، مثلا بين الفيزياء والرياضي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تعريب الرموز العلمية في التخصصات العلمية لأن الحروف الأجنبية فقدت إيحاءاتها بالنسبة للمتعلم العربي.</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727ca3"/>
                </a:solidFill>
                <a:latin typeface="Trebuchet MS"/>
                <a:cs typeface="Tahoma"/>
              </a:rPr>
              <a:t>هيئات التعريب المتخصصة</a:t>
            </a:r>
            <a:endParaRPr b="0" lang="en-US" sz="3600" spc="-1" strike="noStrike">
              <a:solidFill>
                <a:srgbClr val="727ca3"/>
              </a:solidFill>
              <a:latin typeface="Trebuchet MS"/>
            </a:endParaRPr>
          </a:p>
        </p:txBody>
      </p:sp>
      <p:sp>
        <p:nvSpPr>
          <p:cNvPr id="227" name=""/>
          <p:cNvSpPr txBox="1"/>
          <p:nvPr/>
        </p:nvSpPr>
        <p:spPr>
          <a:xfrm>
            <a:off x="677520" y="1638360"/>
            <a:ext cx="8596440" cy="4403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f0"/>
                </a:solidFill>
                <a:latin typeface="Trebuchet MS"/>
                <a:ea typeface="Tahoma"/>
              </a:rPr>
              <a:t>1</a:t>
            </a:r>
            <a:r>
              <a:rPr b="0" lang="ar-SA" sz="1800" spc="-1" strike="noStrike">
                <a:solidFill>
                  <a:srgbClr val="00b0f0"/>
                </a:solidFill>
                <a:latin typeface="Trebuchet MS"/>
                <a:ea typeface="Tahoma"/>
              </a:rPr>
              <a:t>. مكتب تنسيق ا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cs typeface="Tahoma"/>
              </a:rPr>
              <a:t>أهدافه:   </a:t>
            </a:r>
            <a:r>
              <a:rPr b="0" lang="ar-SA" sz="1800" spc="-1" strike="noStrike">
                <a:solidFill>
                  <a:srgbClr val="404040"/>
                </a:solidFill>
                <a:latin typeface="Trebuchet MS"/>
                <a:ea typeface="Tahoma"/>
              </a:rPr>
              <a:t>- توحيد المصطلح عن طريق التنسيق بين جهود المجامع العربية والجامعات     والمختصين في الدول العربي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إعداد مؤتمرات ا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نشر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استكمال النقص في المصطلحات العربية</a:t>
            </a:r>
            <a:endParaRPr b="0" lang="en-US" sz="1800" spc="-1" strike="noStrike">
              <a:solidFill>
                <a:srgbClr val="404040"/>
              </a:solidFill>
              <a:latin typeface="Trebuchet MS"/>
            </a:endParaRPr>
          </a:p>
          <a:p>
            <a:pPr algn="r" rtl="1">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f0"/>
                </a:solidFill>
                <a:latin typeface="Trebuchet MS"/>
                <a:ea typeface="Tahoma"/>
              </a:rPr>
              <a:t>2</a:t>
            </a:r>
            <a:r>
              <a:rPr b="0" lang="ar-SA" sz="1800" spc="-1" strike="noStrike">
                <a:solidFill>
                  <a:srgbClr val="00b0f0"/>
                </a:solidFill>
                <a:latin typeface="Trebuchet MS"/>
                <a:ea typeface="Tahoma"/>
              </a:rPr>
              <a:t>. معهد الدراسات والأبحاث ل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cs typeface="Tahoma"/>
              </a:rPr>
              <a:t>أهدافه: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دراسة مشكلات تعريب التعلي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تطبيق التكنولوجيا لمعالجة مشكلات اللغة العربية (التعريب المواكب)</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16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9" name=""/>
          <p:cNvSpPr txBox="1"/>
          <p:nvPr/>
        </p:nvSpPr>
        <p:spPr>
          <a:xfrm>
            <a:off x="793440" y="555120"/>
            <a:ext cx="8596440" cy="590868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b0f0"/>
                </a:solidFill>
                <a:latin typeface="Trebuchet MS"/>
                <a:ea typeface="Tahoma"/>
              </a:rPr>
              <a:t>3</a:t>
            </a:r>
            <a:r>
              <a:rPr b="0" lang="ar-SA" sz="1600" spc="-1" strike="noStrike">
                <a:solidFill>
                  <a:srgbClr val="00b0f0"/>
                </a:solidFill>
                <a:latin typeface="Trebuchet MS"/>
                <a:ea typeface="Tahoma"/>
              </a:rPr>
              <a:t>. الهيئة العليا للتعريب في السودان:</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أهم إنجازاتها إصدار عدد من المعاجم المتخصصة الموحدة مثل:</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معجم الفيزياء الموحد</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المعجم الهندسي الموحد</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معجم الكيمياء الموحد  </a:t>
            </a:r>
            <a:endParaRPr b="0" lang="en-US" sz="1600" spc="-1" strike="noStrike">
              <a:solidFill>
                <a:srgbClr val="404040"/>
              </a:solidFill>
              <a:latin typeface="Trebuchet MS"/>
            </a:endParaRPr>
          </a:p>
          <a:p>
            <a:pPr algn="r" rtl="1">
              <a:lnSpc>
                <a:spcPct val="110000"/>
              </a:lnSpc>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b0f0"/>
                </a:solidFill>
                <a:latin typeface="Trebuchet MS"/>
                <a:ea typeface="Tahoma"/>
              </a:rPr>
              <a:t>4</a:t>
            </a:r>
            <a:r>
              <a:rPr b="0" lang="ar-SA" sz="1600" spc="-1" strike="noStrike">
                <a:solidFill>
                  <a:srgbClr val="00b0f0"/>
                </a:solidFill>
                <a:latin typeface="Trebuchet MS"/>
                <a:ea typeface="Tahoma"/>
              </a:rPr>
              <a:t>. فريق التعريب بالأمانة العامة لمجلس التعاون:</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كانت الانطلاقة الرسمية للتعريب عام </a:t>
            </a:r>
            <a:r>
              <a:rPr b="0" lang="ar-SA" sz="1600" spc="-1" strike="noStrike">
                <a:solidFill>
                  <a:srgbClr val="404040"/>
                </a:solidFill>
                <a:latin typeface="Trebuchet MS"/>
                <a:ea typeface="Tahoma"/>
              </a:rPr>
              <a:t>1985</a:t>
            </a:r>
            <a:r>
              <a:rPr b="0" lang="ar-SA" sz="1600" spc="-1" strike="noStrike">
                <a:solidFill>
                  <a:srgbClr val="404040"/>
                </a:solidFill>
                <a:latin typeface="Trebuchet MS"/>
                <a:ea typeface="Tahoma"/>
              </a:rPr>
              <a:t> عندما نص البيان السياسي للمجلس الأعلى لمجلس التعاون لدول الخليج العربية على «الالتزام بتعريب التعليم العالي والجامعي بكل فروعه وتخصصاته كلما كان ذلك ممكنا»</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955e4b"/>
                </a:solidFill>
                <a:latin typeface="Trebuchet MS"/>
                <a:cs typeface="Tahoma"/>
              </a:rPr>
              <a:t>من اهتماماته: </a:t>
            </a:r>
            <a:r>
              <a:rPr b="0" lang="ar-SA" sz="1600" spc="-1" strike="noStrike">
                <a:solidFill>
                  <a:srgbClr val="404040"/>
                </a:solidFill>
                <a:latin typeface="Trebuchet MS"/>
                <a:ea typeface="Tahoma"/>
              </a:rPr>
              <a:t>- حصر الكفاءات المهتمة بالتعريب</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ترجمة وتأليف الكتاب الجامعي</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متابعة جهود الجامعات في مجال التعريب</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9T06:56:43Z</dcterms:created>
  <dc:creator>Reem Alsalem</dc:creator>
  <dc:description/>
  <dc:language>en-US</dc:language>
  <cp:lastModifiedBy>user</cp:lastModifiedBy>
  <dcterms:modified xsi:type="dcterms:W3CDTF">2017-11-13T08:14:03Z</dcterms:modified>
  <cp:revision>24</cp:revision>
  <dc:subject/>
  <dc:title>التعريب (المحاضرة 8) مؤسسات التعريب: الجامعات</dc:title>
</cp:coreProperties>
</file>