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&amp; DEVELOPMENT (NUR 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57E4-F809-4C6A-AD51-8AC38A0957E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Header Placeholder 3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WTH &amp; DEVELOPMENT (NUR 35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7B7C-B57C-4923-B3AE-A3CE321F6F1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2"/>
          <p:cNvSpPr/>
          <p:nvPr/>
        </p:nvSpPr>
        <p:spPr>
          <a:xfrm>
            <a:off x="518004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CTURE 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FE89-B3FA-4476-8EB5-3665815E0BD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Header Placeholder 5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WTH &amp; DEVELOPMENT (NUR 35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D819-5E24-4A0F-A962-3F618945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24DE-3C42-4457-A026-6DA90B32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B7DF-BD25-4A56-BFBE-3AAACDB0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26DF-CB5C-4737-A21C-9F3A14EE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2B79-F5AE-4EAD-8E85-D3781357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0A79-5D11-432D-86E4-5BA49D0D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902F-B446-4C33-94E2-01C3FBCA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180A-25A7-4D50-8F79-DC9943FC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B4D7-A25D-43CE-857D-5DA7B461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3ABC-624F-45E2-B68F-D92DA5BD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0870-A6D8-44C8-95E7-AD2D2EB8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4E5-7162-433E-BF5A-AFF18DA5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FBEE-10D3-48C4-9296-AB3EEDBA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F2BC-89B2-48C3-BF7C-440A0264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B850-9662-4EEF-8596-F8C5EAA7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5348-3922-4B6C-B484-D2739AE9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B3C3-44EF-48B7-9B34-A37B9F2B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59F6-7EAB-4DAA-90D0-4F5BC11C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D9C2-FB2B-497F-9DD3-17B7FF08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FD0C-F9E8-43B5-873A-9D2E6263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ED97-4185-41F3-82F2-70BDB1FD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FB30-8F41-4B33-B11A-1D2A81F8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7EF-65EE-4693-B111-D7187C6C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0F3F-7EBA-49A5-96E8-1555008F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A7E4-3922-491E-8184-AC1BFB32BED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D76C-C1F6-4EB9-B2DB-C1308E197F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9A1A-296D-4134-A521-0B8116839212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C205-0816-4789-A5B2-F783E77F292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2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e-school children growth &amp; developm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2F45-B83D-4E00-B25A-44BDC7A7787C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Adolescence growth and development</a:t>
            </a:r>
            <a:r>
              <a:rPr b="0" lang="en-US" sz="4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cture 8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00E1-5A34-479A-BE10-636D13DBEBD6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584000" y="1803240"/>
            <a:ext cx="609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 Growth and Development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UR 31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04560" y="2057400"/>
            <a:ext cx="84582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ay in sexual maturation and biological development, especially among males, may lead to the development of poor body image and lowered self-este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er influence is a dominant psychosocial issue during adolescence, especially during the early st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9452-1C50-4A8F-9028-0D9B4FF7280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537120" y="837720"/>
            <a:ext cx="50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sychosocial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arly stage of adolescence is a time of great cognitive developm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beginning of adolescence, cognitive abilities are dominated by concrete thinking, egocentrism, and impulsive behavi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ng adolescents lack the skills necessary to problem sol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842040" y="83772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Cognitive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68360" y="1828440"/>
            <a:ext cx="82296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ddle adolescence is characterized by growth in emotional autonomy and increasing detachment from famil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er groups become more important than family and their influence with regard to making food choices pea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842040" y="83772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Cognitive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24000" y="1828440"/>
            <a:ext cx="82296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 reasoning skills begin to emerge among most teens during middle adolescence, however, these skills may not be highly develop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lescents will often regress to concrete thinking skills when faced with overwhelming emotions or stressful situa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842040" y="83772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Cognitive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ate stage of adolescence is characterized by the development of a strong personal ident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der adolescents are able to manage increasingly sophisticated social situations, are able to suppress impulsive behaviors, and are less affected by peer pres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842040" y="83772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Cognitive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need for energy and nutrients among         adolesc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ing financial  in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ing need for aut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887C-A64B-4D7B-A0D4-005FC62D0B7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90120" y="838080"/>
            <a:ext cx="71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dolescence growth and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eginning of biological growth and development during adolescence is signified by the onset of pubert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erty: The physical transformation of a child into an adult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logical changes occur during puberty includ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xual matur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s in height and weigh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ion of skeletal growt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3A3A-C74F-4CF2-85DE-23395D7440B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09600" y="76140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Normal physical growth and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xual Maturation Rating (SMR) is based o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(among fema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earance of pubic h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of bre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currence of menar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(among ma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gree of testicular and penil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earance of pubic h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6566-91F1-4042-875F-0C5941ABEDD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09600" y="76140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Normal physical growth and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6840" y="18288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erty among females are th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velopment of breast bud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parse pubic hair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hich occurs between ages 8-13 on averag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esticular enlargement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hange in scrotal coloring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re the first signs of puberty among males, usually occurring between 10.5 and 14.5 years of ag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rmarche, or the onset of sperm production, occurs at approximately age 14 among mal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4022-4AB6-4115-A75D-48779FE22B9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09600" y="76140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Normal physical growth and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0948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half of maximal adult bone mass is accumulated during adolesc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18 years of age, more than 90% of adult skeletal mass has been accru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443E-27D7-4AF8-A5CA-4AA9755801B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09600" y="76140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Normal physical growth and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half of adult ideal body weight is gained during adolesc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erage weight gains during puberty among females are between (7-25 kg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lescent males gain an average of (9 kg) per year during puber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12A0-2C5E-4BE7-B223-7C599327D9B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613440" y="837720"/>
            <a:ext cx="77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Changes in weight and body com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088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adolescence teens develop a stronger recognition of their own personal identity, including recognition of a set of personal moral and ethical values, and greater perception of feelings of self-esteem or self wor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93D0-D688-4E06-A7E1-055C6A0B203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522000" y="913680"/>
            <a:ext cx="81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Normal psychosocial and cognitive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160" y="2057400"/>
            <a:ext cx="80010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lescents experience dramatic biological changes related to pub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biological changes can significantly affect psychosocial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5205-F772-4E84-876D-919812BC1F8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537120" y="837720"/>
            <a:ext cx="50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sychosocial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2:32:15Z</dcterms:created>
  <dc:creator>Maneer</dc:creator>
  <dc:description/>
  <dc:language>en-US</dc:language>
  <cp:lastModifiedBy>User-PC</cp:lastModifiedBy>
  <dcterms:modified xsi:type="dcterms:W3CDTF">2017-03-12T06:20:41Z</dcterms:modified>
  <cp:revision>37</cp:revision>
  <dc:subject/>
  <dc:title>Pre-school children growth &amp; development</dc:title>
</cp:coreProperties>
</file>