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B0AA-31DF-4D0D-BDD6-4841AADC8F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Header Placeholder 3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9BE-A1B0-4E84-BFA2-264E30F72E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CTURE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31F9-9F16-4BA7-B0A7-788F44204B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Header Placeholder 5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 &amp; DEVELOPMENT (NUR 35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165-266C-4BAF-B8AF-8A360C5C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2EB-43F0-4699-A033-1FEB167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BA7-0A6D-4770-B447-8274C8C1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F49-13DA-48CF-9D68-D1393E52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EDDB-7510-41A2-B673-9314FDB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E7C7-EB1C-4CB3-B0C9-63226A6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9A29-DD46-4447-A569-05789816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F78-9F60-4A72-9567-9795390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2E5-8DF8-4D30-AF97-46675E7A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768-055C-4208-97FD-F5526F21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76C-6341-4226-B6DD-9E9A5F0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9C3-601B-4B53-9218-EAD67FC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E381-4AF2-4E3E-947B-ED12682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AA19-897B-4A43-B28D-BA6ADD4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7089-8C0C-4116-B038-73E8C885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512-2B5E-4986-9862-F827EA77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57B2-920B-4635-B273-FAB2FBC9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E71-67F7-4188-9A9B-FA63C24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B47-6F94-471A-909F-F68C3E6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9A6-4DDC-4204-836D-DA45AD4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A5F-EB20-42F1-9930-D854345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452-4880-4619-A112-19645F9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A86-5D2B-4A25-A618-0DE76AC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D80-1D28-44EF-9133-4274A6D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5957-FA6E-440D-85D4-E86D7C09884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4AE-8C6A-415C-9D9A-85A19D53A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FCC-5000-4BDA-BE5E-CA039D000E0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F00-F598-487F-A1FD-570F9A6072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-school children growth &amp; develop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5228-BCC8-40F2-9DAB-8C51111ECC0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Adolescence growth and development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8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57AC-F748-4239-AE7C-70C49672D97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84000" y="180324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20574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ay in sexual maturation and biological development, especially among males, may lead to the development of poor body image and lowered self-este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influence is a dominant psychosocial issue during adolescence, especially during the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401E-3252-4C58-8C29-0A95ACE291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7120" y="837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sychosoci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arly stage of adolescence is a time of great cognitive develop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adolescence, cognitive abilities are dominated by concrete thinking, egocentrism, and impulsive behavi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ng adolescents lack the skills necessary to problem sol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8284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 adolescence is characterized by growth in emotional autonomy and increasing detachment from fam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groups become more important than family and their influence with regard to making food choices pea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182844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 reasoning skills begin to emerge among most teens during middle adolescence, however, these skills may not be highly develop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s will often regress to concrete thinking skills when faced with overwhelming emotions or stressful situ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te stage of adolescence is characterized by the development of a strong personal id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er adolescents are able to manage increasingly sophisticated social situations, are able to suppress impulsive behaviors, and are less affected by peer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2040" y="8377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gnitive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need for energy and nutrients among         adolesc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financial 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need for aut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F2D-53E4-4F4F-A632-11D2582E91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90120" y="83808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dolescence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ginning of biological growth and development during adolescence is signified by the onset of pube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: The physical transformation of a child into an adult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logical changes occur during puberty inclu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atu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in height and we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of skeletal grow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B33-8673-4DA6-9648-83435AFD36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aturation Rating (SMR) is based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among fe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pubic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bre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rrence of men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among 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gree of testicular and penil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pubic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08EA-C168-49F1-B375-EDC4A605FB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6840" y="18288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erty among females are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velopment of breast bud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arse pubic hai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occurs between ages 8-13 on avera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esticular enlar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hange in scrotal coloring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the first signs of puberty among males, usually occurring between 10.5 and 14.5 years of a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rmarche, or the onset of sperm production, occurs at approximately age 14 among m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09BF-F5F8-4C0C-80E0-F3DA80A2D8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half of maximal adult bone mass is accumulated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18 years of age, more than 90% of adult skeletal mass has been accru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1FB-8101-4E92-A246-13D89F9AC0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09600" y="76140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hysical growth a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half of adult ideal body weight is gained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weight gains during puberty among females are between (7-25 kg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 males gain an average of (9 kg) per year during pub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725-438B-42A8-B279-F02A33BDEE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3440" y="837720"/>
            <a:ext cx="77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hanges in weight and body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dolescence teens develop a stronger recognition of their own personal identity, including recognition of a set of personal moral and ethical values, and greater perception of feelings of self-esteem or self w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6EC-64D7-4027-9101-BDE10102BA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22000" y="91368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Normal psychosocial and cognitiv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2057400"/>
            <a:ext cx="80010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cents experience dramatic biological changes related to pub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biological changes can significantly affect psychosocial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FAA-BC42-44DA-A3A7-BA7B409B42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7120" y="837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sychosoci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32:15Z</dcterms:created>
  <dc:creator>Maneer</dc:creator>
  <dc:description/>
  <dc:language>en-US</dc:language>
  <cp:lastModifiedBy>User-PC</cp:lastModifiedBy>
  <dcterms:modified xsi:type="dcterms:W3CDTF">2017-03-12T06:20:41Z</dcterms:modified>
  <cp:revision>37</cp:revision>
  <dc:subject/>
  <dc:title>Pre-school children growth &amp; development</dc:title>
</cp:coreProperties>
</file>