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8F3-5F29-4BA6-841D-F04086D8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61A-C6B2-43CA-A21C-30FA9E23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0CF35-E459-48DC-934F-EEB81A0F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5AD5D-26CB-400F-AFC8-41E54731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E3409-6906-456E-ACE0-A49B5184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24A57-2D1A-4CAA-A036-754F67C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1BDAA-7209-429D-85B3-0D128DE3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0B8D2-1C01-4125-A83D-98C667B8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AAF10-4D38-486A-9050-5EF7C870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26390-7FFA-4B5F-B425-A8D4F95A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C7324-2919-4C77-B077-BD5CE25F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38361-7347-4FE7-A629-6DCA65F0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669-E661-4C9C-8B98-9C4A51DC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2B36C-799D-48FB-9298-5C3083CB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7BCA9-46C0-42BC-A9EA-5E0981C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036BF-A061-42C9-B686-92CF47AC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D72CF-013C-426A-960C-989DDF33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16E79-211B-4F54-AFBF-4A44B318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CF6CB-C640-4AE3-BC58-75BEB7D4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40AD8-3C14-4D7F-9F71-407E945B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5AD10-0A79-4097-84FC-8773A0AB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3179E-C156-4AD6-8C8E-AB2C7063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40DED-B51D-4E42-A930-A72AB37A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17E-9C3E-401F-B8CD-0E06E68C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7A16D-703A-4F7B-998D-B8ADFBB2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44CAD-04B0-4119-B991-25BD1589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B68D0-3007-4333-9DC0-22970D6A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7FBB2-B25F-49A5-973A-18115261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1AED3-9EFD-4B43-BF1D-28B01B31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F4C46-1763-4FAF-A844-53A0C7BA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B6C67-B7AA-46CE-A702-C8A1FBA1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199F9-6DAC-443C-B758-6D9FF83F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035D5-C59B-4C65-90C0-77C30800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2EE22-5F0A-4BE6-B47A-A1F7323A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D42B-8D05-4EAF-9451-24510992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3FD2F-6264-4BCE-9B58-19CB4FDA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2BDB3-DD73-41E5-9D10-6A8C0FEA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26A79-0BF1-4528-BC3C-EB70475E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F8F15-0B08-4DB1-A94C-1F27A682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8770B-01C0-4CAC-A4D9-799E38D7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9D970-04CF-42DF-9FD3-3353D626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5F5FE-B86A-4210-BA6A-5AF93025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BACE3-B89D-421C-BF81-EC301B12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50CAE-F1D9-421A-BC02-A8CED60F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B16F3-B034-4187-86D8-5CE32EC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FB98-868D-44D9-A861-DFA1D0EF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A0E4C-C59B-4B8B-9A32-A34657D4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F120A-29A7-4FED-8ABD-1720B834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705CC-DEF3-481F-AD56-AA3B0D65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0A5F1-373F-4C69-89D6-0D926202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BA506-87B9-443A-8659-D5F5576C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23439-75D9-4226-9A49-EF7514C0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D66FD-7016-4B8A-8F6B-380DC160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8ECE9-4BCF-4906-B96A-978689C4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1B3E0-2D7E-4FF6-B46B-7AA516D2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2E846-A37B-4A90-8C03-F8FED12A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5BFE-E9A6-47A6-8476-51806B4C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E91863-66CF-4B4E-AA04-5ED6667C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D6A8D-2FED-4E4C-AA55-639AFEF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2935D-28A1-4C23-8B13-A994833C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EC3E0-8112-41D3-B16E-BBA359AF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A9CB1-22BB-438D-B327-283E10BA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80CD4-7254-4073-BAFA-5DA8F4CD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ACD9E-2D75-48C1-A4D2-8452FD38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B6A4-7B2A-41F8-A5E5-20C0D89D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88D0-9574-4EDA-8F30-102D2350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12CB-FABD-459D-BDCB-3F5A7B37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CA67-59D0-43BA-A434-7505FF3D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D5D-9754-4970-9A0C-FC70D305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CA39-8094-4FBA-9630-41516EA0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9441-BC90-4E49-B12E-C0FB5A27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24DB-ECC9-4A8E-BCC1-16ADC144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68F8-EBEE-4AC7-8DC6-9FE566AA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6119-CE8F-42F6-B92B-7958B1CA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26F56-54FE-4AAC-9E08-C04248B8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404B-8202-4DC9-A2BE-5288BEC9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F57D-E3CE-4918-916B-95719E35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4A10-7CE2-451C-8D63-EBC36769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4A70-4062-41DE-85CC-F7FD0D6A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EB13-0B8A-42B8-85CC-48929BD1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10A6-918C-42A0-B17A-CE2C6C5B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6806-32DF-46B6-8DE1-A7C6FB75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E63AF-5CE5-43F4-9C89-D434DA85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867D1-0672-45F6-96B3-A4E2A481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C484E-4521-490C-8B54-578179AB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AB6C9-E27A-47E1-8ABC-8A50FA30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8D343-BFEC-46D6-BB37-6E95BBDC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0A04-B339-422D-9522-F0DCE916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2903-9AB4-4C26-B5BF-B99EBFDC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C673-2DAA-47C2-906E-FBF8334F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D12-6DBA-4B97-B101-0EB386D9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167E-6C0E-4A0A-98B6-DA8BF57A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BECF3-B121-4D9F-AE58-FE895E85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BD2F-B8CD-4280-9EAB-D631E7B5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911EC-08C7-4FCE-ABB7-D7A48937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1D21A-B5C1-45B1-8B50-FFDE0BBF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3724F-F314-4098-A6C2-4CE8C33C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BF0E9-BF3B-4BA5-ADBA-CE6EDCA0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5AB1-C91D-40D1-9E60-2B631DCC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A123-1038-4E3E-9CBA-B2E1098E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BFFB5-94F2-4BA4-BD67-C4EC42EE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BA0-AA4E-4705-8D84-DB0E8696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E7582-FC53-4DCB-885C-6E1CA4B2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593E5-1058-454C-954E-FD523906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1AB21-69F2-41A5-9978-C0248B7C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01273-1A84-45CB-9E4E-6A26DEF1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237EA-B2BE-498F-97BA-742399AE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47C86-C6E1-454C-8299-B744F85B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7867C-9FDB-4400-A793-C87011AD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84B19-58EA-4734-B1E5-BD84234F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9FC8E-F770-4D05-AC99-D29C56EA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06501-FBC5-42BD-890E-B1BA97FE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F43-C704-4662-9757-462A498B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CE30-67CA-41F6-A5F8-8C8D4E3F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5D03B-E9C1-47B2-B428-05403E94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3BDED-591F-4FBE-A4C0-1328EBA4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C3D37-5B75-412F-8E38-657986FA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59CE2-D738-427C-981A-D8CA7DA0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FDA3E-8D66-4D9F-AEB5-159A26A4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371E6-8B0B-4CF9-83D2-1CAA522E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CB21-3C44-4581-9A0A-BCEB91B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88DF7-7F26-4CFF-94DE-7E1EC326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7BBA3-7306-45A7-B2A1-5F47007B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757-9120-436C-9755-4E689EAF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09273-EAE6-46A0-9B8C-149A7881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9B726-12AE-4186-B17C-4B517EF6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5C341-5644-4D6A-82CD-14004785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B08C1-D8FA-49A9-BDEC-0F9552D2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D9401-5F60-4F71-B16E-8988D359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9B926-4DCC-45A8-8DEE-0857BD7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12A88-ADAC-4AF2-9A8F-74771C35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09F7A-A7B5-4979-8F5A-72C36465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B3FE2-A800-4E1D-BB87-5BD985A6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07510-6496-420E-8E69-B2E106E2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008-51E3-4CB7-9F1D-ABAA5797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298DE-B56C-4085-AE96-2B89338C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88E17-BFCA-4655-8A2D-01479C4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19D3F-DFCC-430B-8D9E-1225A175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8A84A-7903-42AD-B644-2BC075C0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A142D-BA25-403A-9674-0CF426AD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7836D-E040-4EFE-AB0D-9058B782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00CDB-E0F6-4C5A-9A4F-CB1F6749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44F13-AB71-4062-9AC8-ACA0F690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BC8DC-45BF-4AEA-A3C1-DAC26679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6F215-D0F0-4640-9E2E-43B949A4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091-3EF5-434F-A209-5FCE4A6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3338B-DD2D-40ED-B046-5FE77CF9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A2A37-FAD9-4097-9DFE-776AE6D2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9F468-7997-4A30-A415-3325AC58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A8C96-A7A7-4958-88E1-04C54F31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15893-7B23-4D33-B03F-EFCAE0DF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DA1E6-10CB-46E1-8653-821357DD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D1FB5-E591-419E-A3EF-58723678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512FC-01F9-4067-891C-6E8A026A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F9B00-3216-4C0F-AAAC-E8BF2436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360C6-4AF3-4C64-8800-BF45803F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52BF-C9E2-4222-8CD4-8A670F3C71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7B44-D26A-4975-82CC-633E1D3791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74FF-C274-4A34-954E-CA4FD9C4D2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F4A3-096C-4CEB-9B37-C9B80C647D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2E48-DF0E-47CC-B4C7-52D6777AA3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F43D-ADCC-49AD-9474-A49661AA2B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70BB-8DDE-4111-ADE9-5DD8E4433C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9893-14B1-4DFA-8451-639D199785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7A03-2A70-4CD0-B06E-E5F93EB8FB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E2BA-5A43-4349-9C46-A5F6FAFEB4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89E-05B7-4B03-8BDA-DEE0E642B7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C300-0FB1-4972-A898-DE9D36C49E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A057-775F-46CA-96F2-80E15FEC85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536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540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6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34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42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C707-BCFD-46E2-9347-7084F14F05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67D1-343D-40F1-B47B-CE3F2FDC1E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4545-6FDE-4BAD-9CD9-5F8736FC0F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7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58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58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58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DC53-E7D7-493B-9560-43D7637E8B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2A92-013D-438A-B1EF-9A3C5CAEE4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16AB-427E-484D-8C66-31D8AAA1D4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5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المستخدم</cp:lastModifiedBy>
  <dcterms:modified xsi:type="dcterms:W3CDTF">2017-03-01T06:32:08Z</dcterms:modified>
  <cp:revision>243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