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753-CC89-4737-BFBE-EFE5E4FE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4EEE-60DE-4F71-81D8-F5E5992A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2304A-10EF-47C0-BF89-71FE30E4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F7B61-5868-43B1-AA4A-493E3FF5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A20A7-2795-4850-A20A-BE430720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8B2DA-F697-4439-A5EF-C27455E8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7205B-DA38-498C-8259-C038A627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B71CC-DFCC-4CB3-BA4B-71CDF64E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3324B-BEBA-46DA-90F7-42271639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1B244-7E55-48AE-97CC-5EA6443A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BFEE4-5F9D-4AE0-97C4-1705AAA3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17896-0235-4081-9B29-A304561F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AF59-23E4-4BF4-BB02-985EDB07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10F9E-4598-4EB4-BE67-C6904F60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96EEF-C3F1-4F57-8F10-ECD0DC05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7B2C8-FF48-4AB9-91CA-74DD2F75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D52C4-298A-4315-B22C-F6C46F51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97E44-AEF2-43FE-9446-FA1BE206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457A0-8C57-4F78-B80C-4B1E8878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81520-05F4-4AE6-9A77-1089B975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98050-6DEC-4B21-851D-9A13DE2E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94DBF-662E-4339-8F89-C656EDC1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3FA58-2F0D-479D-840E-5844FED0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84F2-5702-450D-982A-535EA355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38663-BEC2-47BA-90A8-8CABE435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1499A-47BB-45E2-A766-53D88956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B988D-947C-4F85-93E9-384B211E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32BC4-73E8-4A8A-84F3-33876FA7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1BCD0-0D33-4A8E-A1BC-CF131628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FBDF3-83AB-4B37-B6BC-2C1BB960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7E9D3-5B1A-48C4-8DB7-8857120A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61BE0-C3EE-45CC-91C5-4E7610C2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EB59B-A4BB-41BA-A726-D5CA78C0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C49EB-DF44-41ED-9669-5857E64E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196F-4CA7-431E-B14E-78F838AB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172E2-A6B4-403C-AD31-1FD9C082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E4AD2-F665-4686-9768-7E12B5C5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E425B-34F3-4838-BB77-D7694251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89A1D-0140-4462-95C9-50D74D22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99736-3C96-42FB-B3DE-11517349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E7C20-13D2-483B-B342-721BDA6F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47DEC-4241-4760-B66E-C324230C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97679-061C-4731-BD8E-121F35DD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546AF-84D5-452A-A2AC-B15E9798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43889-A1E4-47ED-AD8F-502518E5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35BD-B26C-4B07-8898-65C47870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94457-9F34-4F1E-87E4-D4CE11EC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287BE-C925-4A70-834D-421E4451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56424-12CA-44F3-82CE-1302EFDD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CE0B5-42B1-42D6-B2B1-F0906C65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67FF1-DF3C-48B9-A4C7-FF759B8E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41A46-C207-48CB-853C-A7125EBB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7B9E11-ADA7-489C-B111-6A410A15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6366DA-4DEE-4CFE-9BB5-9A62DE44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5981A-1D0F-488C-B83D-38BF7793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3AF36-156C-40BB-85F9-2019334F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9874-38DB-4CBE-85E4-1F900119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45B74-64D5-46AD-BA89-CC1A0653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F81B1-6890-44BC-8509-AED0A28C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82E44-4A78-4E5F-889F-6B0092CB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BC252-299B-4ABB-8D0D-5717186A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C534B0-08FB-4FA9-9584-0F79D66B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2DACC-D971-42CF-9EEE-7E5FB18E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07858D-B49A-46A7-8520-1C71557A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F6EC-7902-4285-A548-CB2CA7AD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395C-7008-43F7-9F91-2FADDCC7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15E5-1816-4C64-AA78-209CBFA9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DB5E-05BC-4803-BAE9-B1A01049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290-3A7C-40BD-B946-DB90FD54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8255-3E4C-48D3-9F51-4A11FD5D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D66B-9C7A-4762-934A-BD92B74E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7DF4-D953-4EBD-9201-0DA30018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C43B-8193-4731-AB46-D9333A85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E1EF-1C05-47C5-84F2-91CDE1F4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1E067-AE2B-4132-88E1-9743BDF9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B01E5-546F-45C9-A12B-8D50602F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CA8B9-E706-48F4-B085-86E70689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02EC3-3350-4EC6-B06A-B91DE39E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CE88E-5105-4B37-9ED6-96C1991F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3109-D456-4DDC-A553-6FEAE142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FBCD7-7A1E-4B82-9F7D-509186AF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2D3D0-CF40-4550-8A86-75985F2C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F1B84-AD6E-4670-AD46-163C93E2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570A6-2895-4120-8891-893AEB9D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716B1-7913-46E8-A900-9829E129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61822-BD1B-4B5C-9B39-D6BE1318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21BC8-58D4-44F0-80EC-4665AA88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50DB3-0EF9-452F-98CD-02F97853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76CCB-BC9A-422F-AFFF-321E0119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45B20-5315-418B-AF5C-3FD90594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BA73-B214-4EA4-BD14-2F782D03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3BE76-4CC8-4AD9-8059-69A41C2A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4B724-E1ED-4D2E-B2F8-8D99A596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9E96B-8B1C-41CA-9B7C-417DAF4E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33A74-9282-4F29-97FE-EAE938F1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5A4E2-D5F6-4145-A2BD-C02A7D18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D44E5-3B3A-486C-ACCA-96702E82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EEEE0-2D55-4E2A-A603-0BE87AE4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BED16-9A63-4EDE-9D67-6D82C1C5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4CE67-8CF5-4DA4-997B-4B2DBD4A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21FFA-0C31-4BED-B30A-05A0ECD3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55E3-1DAD-40D7-8532-DCBE55E3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8483D-64C9-4460-A705-4F0E0B66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579ED-1968-472F-AD8D-CA47410F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E62B8-76A6-44FE-B6E5-B4AEED48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AE892-E43B-43A7-9193-534D02ED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98CDF-5247-4A3D-B251-DA29E13F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65BFE-04EE-4DA1-A81A-C89D7B0F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5C80C-8D38-4C58-86AF-76DCF96A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61C1A-A9AE-498C-ABFD-1F5E9154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8F8CA-645F-4D7F-B444-5D7DF66C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BBFF0-1A0C-4E26-8449-E10A80C4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C369-0DAD-4FCD-8C52-ED0EBDF7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3B84C-9942-449B-A604-89A4E95F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BB4CC-EF1C-4E43-B5CB-2B45B5F8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854CE-9970-4F9C-BCD7-EE52B701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C5D2D-2215-4F9B-A964-2568A22B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E4479-31FD-4255-89E8-4C0C6DC2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4D70B-AA23-4DD9-9F02-D4B84CF9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5B12D-17AC-465F-A377-E8DA0922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87438-CB16-4CB4-A04F-41B74C90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E3530-1E04-493F-964E-7D6B160D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18D74-4A53-4C64-821A-24FB3B19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EFE9-3BE0-4898-95AE-C7176E09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D1F14-BAA0-461B-967E-F41FC80D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46CCD-7DD7-434D-AE85-0997FA43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A8DA0-9601-401B-AF03-FF297231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68576-4D79-42CD-A687-B93635C3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3CB73-8E29-43C6-A125-390A958F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124B3-2A1C-4B56-B02B-82C297B0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A8197-5165-4B44-81AE-837C51E3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5E1DB-C710-4928-8571-EB2940CD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D0A6E-8536-4639-90AD-F7E598EE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76FEB-5187-440A-A4DA-2AFFD02B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87E8-115C-4E9D-A92E-44247AF8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BBE61-1BF6-44B1-922B-80EEFE37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BF3C5-C477-4065-A43A-AC13B691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A0D83-50D9-4816-96B3-B25954D6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5D959-ABDA-4D15-BC4B-2A0C5291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3E74A-85B3-43F1-80E4-3AB5E4E7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2A35F-B97D-4AFE-B5E8-6C0D8256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9C035-1F4E-4BB4-8296-51CDDD8F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A7264-7C45-4314-A81B-1FADA1B6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3B682-1148-453D-938C-FE8E8FDA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0E7B6-A59F-431D-9839-2DDFCA6C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BAF-2E15-4816-8F71-27E2E817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6941E-850E-46C2-8154-9DE659F4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5DEB2-32E2-48A5-9E17-08699EAC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8B79D-4C15-4D28-BC0A-996B42FC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D69D8-32E0-4D45-99CC-419ABB28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8BE6E-DF32-41FF-9787-8FA1C8D8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C9267-B027-43FD-986B-9130F191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6B032-786B-413E-BDCE-44E2D0DC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0AA82-F8AC-41CD-AF89-B9D88BF2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76C6A-7CEC-48F0-B1C0-3D641305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00ABE-FED5-4581-986C-7140D45F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8503-BE88-4E40-894A-04A8665769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93DC-4396-4E09-8B1C-8C1F7C9A61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BF4E-C3CE-4A0F-A78A-4CDA624236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2010-AB91-46D2-AA3F-F091A9029F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7B46-9513-4EE0-B4F8-4D31FC9F67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0F0D-A862-4E32-865E-249339656D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4C7E-054A-48F6-90DD-B533251CA9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242D-6C3F-4AA1-9524-30B53BA8EB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8013-42B9-4457-B902-EBF44D25E5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F8BA-CD6D-4910-87B0-321135FD31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8CD3-E27F-4DA2-88E7-67C6A55DA5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8FBF-E9DB-43D9-93EC-E3450A30E3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2A8E-EB80-4460-BD1A-1DE497B00F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4"/>
          <p:cNvSpPr/>
          <p:nvPr/>
        </p:nvSpPr>
        <p:spPr>
          <a:xfrm>
            <a:off x="457200" y="2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536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540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1"/>
          <p:cNvSpPr/>
          <p:nvPr/>
        </p:nvSpPr>
        <p:spPr>
          <a:xfrm>
            <a:off x="3962520" y="4114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GB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6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34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42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AD09-D9C0-4105-8717-FD711FE035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of the enzyme molecule 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6"/>
          <p:cNvSpPr/>
          <p:nvPr/>
        </p:nvSpPr>
        <p:spPr>
          <a:xfrm>
            <a:off x="304920" y="4168800"/>
            <a:ext cx="86104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from vitamins.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enzy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4" descr=""/>
          <p:cNvPicPr/>
          <p:nvPr/>
        </p:nvPicPr>
        <p:blipFill>
          <a:blip r:embed="rId1"/>
          <a:srcRect l="3702" t="50129" r="3702" b="8220"/>
          <a:stretch/>
        </p:blipFill>
        <p:spPr>
          <a:xfrm>
            <a:off x="4952880" y="205740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D30D-0546-41BF-B669-BF1F808C86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-360" y="23302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he inhibitor bind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us prevent the enzymat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895480"/>
            <a:ext cx="4419720" cy="19814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955960"/>
            <a:ext cx="4419720" cy="192096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7"/>
          <p:cNvSpPr/>
          <p:nvPr/>
        </p:nvSpPr>
        <p:spPr>
          <a:xfrm>
            <a:off x="1828800" y="304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)- Enzyme inhibitors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ـثـبِّطات ال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834080"/>
            <a:ext cx="4038840" cy="194760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10"/>
          <p:cNvSpPr/>
          <p:nvPr/>
        </p:nvSpPr>
        <p:spPr>
          <a:xfrm>
            <a:off x="228600" y="5165640"/>
            <a:ext cx="4724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لا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hibitor binds somewhere other than the active site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2"/>
          <p:cNvSpPr/>
          <p:nvPr/>
        </p:nvSpPr>
        <p:spPr>
          <a:xfrm>
            <a:off x="380880" y="1219320"/>
            <a:ext cx="8610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s are chemicals that reduce the rate of enzym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re usually specific and they work at low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block the enzyme but they do not usually destro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drugs and poisons are inhibitors of enzymes in the nervous system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140C-92E0-496D-9A38-03D0354758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09588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1980720" y="301320"/>
            <a:ext cx="403884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)- Metabol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7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10552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579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581" name="Group 13"/>
          <p:cNvGrpSpPr/>
          <p:nvPr/>
        </p:nvGrpSpPr>
        <p:grpSpPr>
          <a:xfrm>
            <a:off x="6172200" y="838080"/>
            <a:ext cx="2971800" cy="1828800"/>
            <a:chOff x="6172200" y="838080"/>
            <a:chExt cx="2971800" cy="1828800"/>
          </a:xfrm>
        </p:grpSpPr>
        <p:pic>
          <p:nvPicPr>
            <p:cNvPr id="582" name="Picture 9" descr=""/>
            <p:cNvPicPr/>
            <p:nvPr/>
          </p:nvPicPr>
          <p:blipFill>
            <a:blip r:embed="rId3"/>
            <a:srcRect l="0" t="0" r="0" b="68252"/>
            <a:stretch/>
          </p:blipFill>
          <p:spPr>
            <a:xfrm>
              <a:off x="6172200" y="83808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3" name="Group 12"/>
            <p:cNvGrpSpPr/>
            <p:nvPr/>
          </p:nvGrpSpPr>
          <p:grpSpPr>
            <a:xfrm>
              <a:off x="6616800" y="1485720"/>
              <a:ext cx="1396440" cy="914400"/>
              <a:chOff x="6616800" y="1485720"/>
              <a:chExt cx="1396440" cy="914400"/>
            </a:xfrm>
          </p:grpSpPr>
          <p:sp>
            <p:nvSpPr>
              <p:cNvPr id="584" name="Text Box 10"/>
              <p:cNvSpPr/>
              <p:nvPr/>
            </p:nvSpPr>
            <p:spPr>
              <a:xfrm>
                <a:off x="6616800" y="148572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11"/>
              <p:cNvSpPr/>
              <p:nvPr/>
            </p:nvSpPr>
            <p:spPr>
              <a:xfrm>
                <a:off x="7099200" y="179064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F7C1-17E0-4A1C-8F3E-85D16A2FE3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5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6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5FBB-F040-48BD-995C-AF141646F7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ii)- Feedback inhibition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الأثر الراجع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tion of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4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5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7B2A-7DE7-41CE-8274-730FD5BD63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B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ضام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.                                                  Lending a substrate to                         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pt addition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876920" y="1219320"/>
            <a:ext cx="4114800" cy="3222360"/>
          </a:xfrm>
          <a:prstGeom prst="rect">
            <a:avLst/>
          </a:prstGeom>
          <a:ln w="0">
            <a:noFill/>
          </a:ln>
        </p:spPr>
      </p:pic>
      <p:sp>
        <p:nvSpPr>
          <p:cNvPr id="59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المستخدم</cp:lastModifiedBy>
  <dcterms:modified xsi:type="dcterms:W3CDTF">2017-03-01T06:32:08Z</dcterms:modified>
  <cp:revision>243</cp:revision>
  <dc:subject/>
  <dc:title>Enzy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5229755-9252-4FC6-A750-583FBB9E108A</vt:lpwstr>
  </property>
  <property fmtid="{D5CDD505-2E9C-101B-9397-08002B2CF9AE}" pid="3" name="ArticulatePath">
    <vt:lpwstr>Lecture 11</vt:lpwstr>
  </property>
</Properties>
</file>