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4598-7878-4F8C-A0B1-CF0603F3A6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7A15-5749-4CB2-8F18-253EC12077B0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0C0-4374-4E1F-ACD0-25396EC5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8F9-594E-4108-B7E0-03A5C22D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65B-2CBA-4717-8FA4-FD92BB46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EC42-3BC7-4577-A030-B94CB4D5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C0D-D545-4A13-83C1-02EE82A0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49F-C0CB-4C9F-844B-34FF2A87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6E0-7098-41EC-9598-85DB27D6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E24-27C1-4778-9CC7-5FF771D6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9EE-CC24-4552-8E3D-B65BB04C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50C-839D-4F1F-B875-0853F555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342-6215-4683-8BB8-DEA5F96D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C8D-7995-43D1-8C4C-7028E9FF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F7D5-AF97-42BB-BEC3-ABA29E1AA7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0E7D-DB19-434F-BD5B-AD5C76AAD6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2286000" y="228600"/>
            <a:ext cx="5334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4648320" y="55627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Impact"/>
              </a:rPr>
              <a:t>Most plant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986C-0162-4405-BEAA-2E6208C2A7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685800" y="3962520"/>
            <a:ext cx="2209680" cy="1559160"/>
            <a:chOff x="685800" y="3962520"/>
            <a:chExt cx="2209680" cy="1559160"/>
          </a:xfrm>
        </p:grpSpPr>
        <p:grpSp>
          <p:nvGrpSpPr>
            <p:cNvPr id="312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3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Text Box 15"/>
            <p:cNvSpPr/>
            <p:nvPr/>
          </p:nvSpPr>
          <p:spPr>
            <a:xfrm>
              <a:off x="808560" y="448308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1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3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 is a polymer of amino acids (constructed from 20 amino acids)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se component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CEF9-0B17-469A-B52F-178F43D154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9440" y="1278720"/>
            <a:ext cx="2986200" cy="2330640"/>
            <a:chOff x="1279440" y="1278720"/>
            <a:chExt cx="298620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5880" y="2958840"/>
              <a:ext cx="129528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9440" y="1278720"/>
              <a:ext cx="1826640" cy="1811160"/>
              <a:chOff x="1279440" y="1278720"/>
              <a:chExt cx="1826640" cy="181116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960" y="1879200"/>
                <a:ext cx="1905120" cy="609480"/>
              </a:xfrm>
              <a:prstGeom prst="rightArrow">
                <a:avLst>
                  <a:gd name="adj1" fmla="val 50000"/>
                  <a:gd name="adj2" fmla="val 7814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Peptide p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3680" y="2094120"/>
                <a:ext cx="137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20E3-0222-4476-9CF4-8267205B60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7858440" y="646596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s 69-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99072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914400" y="525780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2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3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6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9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10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4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7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30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3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6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9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2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5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8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5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ash</cp:lastModifiedBy>
  <dcterms:modified xsi:type="dcterms:W3CDTF">2013-01-09T23:04:37Z</dcterms:modified>
  <cp:revision>600</cp:revision>
  <dc:subject/>
  <dc:title>Cell Molecules</dc:title>
</cp:coreProperties>
</file>