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9070-17DF-4C9D-8686-D9B3A6B492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D5B2-A060-40DD-9202-1AE286D64E4B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825-C521-410D-9F00-8A6F5969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0FE-BD31-49D6-8C5F-7CDB6E04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71D-8452-4776-BE8F-9290A5D7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815-E949-48FD-9FAD-596780F6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D31-E6D5-4A6D-B17A-089FBD1B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11B-9A81-4B32-A6C1-70025C18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F7A-F1A3-42D3-B45B-458F11DE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5DA-549C-4CAB-9849-E6A95F47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16C-301A-4DDC-9E13-8B70E776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DBF-C066-43CB-9924-A8A616BB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30D-2FB1-4BF4-81BC-FEEF1AB4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C23-EF38-439D-8409-9918F151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3AFA-A602-48A0-BB6C-8EF59E8B0A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9E8D-D81C-4B40-8C05-83D59E7FAF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8590" t="8065" r="4048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286000" y="228600"/>
            <a:ext cx="5334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648320" y="55627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Most plant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6470-DF14-4928-A8D2-B390492B33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685800" y="3962520"/>
            <a:ext cx="2209680" cy="1559160"/>
            <a:chOff x="685800" y="3962520"/>
            <a:chExt cx="2209680" cy="1559160"/>
          </a:xfrm>
        </p:grpSpPr>
        <p:grpSp>
          <p:nvGrpSpPr>
            <p:cNvPr id="312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3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Text Box 15"/>
            <p:cNvSpPr/>
            <p:nvPr/>
          </p:nvSpPr>
          <p:spPr>
            <a:xfrm>
              <a:off x="808560" y="448308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1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3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 is a polymer of amino acids (constructed from 20 amino acids)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se component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39FC-8E11-4199-A11D-AE04D0374D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9440" y="1278720"/>
            <a:ext cx="2986200" cy="2330640"/>
            <a:chOff x="1279440" y="1278720"/>
            <a:chExt cx="298620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5880" y="2958840"/>
              <a:ext cx="129528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9440" y="1278720"/>
              <a:ext cx="1826640" cy="1811160"/>
              <a:chOff x="1279440" y="1278720"/>
              <a:chExt cx="1826640" cy="181116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960" y="1879200"/>
                <a:ext cx="1905120" cy="609480"/>
              </a:xfrm>
              <a:prstGeom prst="rightArrow">
                <a:avLst>
                  <a:gd name="adj1" fmla="val 50000"/>
                  <a:gd name="adj2" fmla="val 7814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Peptide p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3680" y="2094120"/>
                <a:ext cx="137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A382-AF8E-4DA2-8109-A1CF0EA7FF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7858440" y="646596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s 69-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99072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914400" y="525780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2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3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6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9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10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4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7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30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3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6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9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2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5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8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5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ash</cp:lastModifiedBy>
  <dcterms:modified xsi:type="dcterms:W3CDTF">2013-01-09T23:04:37Z</dcterms:modified>
  <cp:revision>600</cp:revision>
  <dc:subject/>
  <dc:title>Cell Molecules</dc:title>
</cp:coreProperties>
</file>