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70DA-4F6E-48B6-AEE6-1A8857C86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CA1E-B685-451C-979B-3A00B2433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D5E7-67F1-4F42-8BEB-6934DBC7C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8BA8-9791-458E-854F-9268AF867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DA9EB-3DB8-4620-B8B7-5712B8EDA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53272-ED04-4C69-A72E-EF9298CC9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ACC79-C535-4D0B-B73D-ACD0409E7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85634-5D20-4964-873E-4499CC009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353E4-52D4-4E8F-ABD6-08479AD7E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D7CBA-BA58-4C49-8FDE-9EDACBF67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55A7B-AC74-4955-B153-2E8DC112A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B236-6297-4428-8E61-0C56C18CF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C6DEE-1F12-4959-B670-C485F9A1C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228D6-442C-476A-9F47-AF8DC4250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6CE68-17E1-4AC9-82EF-E2E5BDBE3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45C18-2C3F-436C-8715-EDF7029B7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1E68C-7C4D-4C52-AE2C-85C29699B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FF024-8E68-414D-AC6F-EBB1ABB56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F9EA2-664C-46DA-8D3E-BE855A2F1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C1D54-F13D-4388-8988-048B8DF0A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CF157-4730-4DEC-B585-2A75DBF55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3EE60-D63B-445B-B01A-7AEE3336E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5EBD-1480-4EB3-80A8-81760AE4E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85E0C-2400-420D-BF11-9628EA600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68C90-2B2C-4D3A-BFD5-F1D473C3E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416E9-1E8F-41C5-82F5-EB8DFD014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59A68-7FF7-42C4-8BE6-949593A21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9B63D-A1E5-4404-97B0-4B577ED17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5B54F-DEDF-4132-8671-9D6CEA7FD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B2063-E027-484F-B2FC-02F882097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5E09A-CBE7-4B5D-AEE6-A7212DA11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64DC2-B232-4491-9192-910D0817E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49F3A-C915-411E-86F8-C4A046A5C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B5AD-C61D-476E-802B-5DBB421A3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18019-C1EC-42AD-A110-80A19B22A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A58BB-3AE7-4716-A5FA-EBF61C4AB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76B28-D4AB-47DB-83F8-F15602C0F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A9A7C-37F7-4CBF-8450-7A7174168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0D01A-5F90-45B8-8D8B-4BA5A2585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B4D64-E751-421D-BAB6-57C0AEB20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2FBB8-A19D-438D-9D6B-6F3F6625E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2FCC3-E6B8-4D00-B80A-2BACD0ECF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7325C-F952-4BAE-9067-9411D9E7A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ECD7-31EB-47D2-A793-B754FD874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91CF-67F4-46B6-81D2-81207E97A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53DC-7C66-40DC-A560-B509D051C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4854-A87B-468D-8DBF-2480D2D64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FE82-22F8-4C3A-B588-138F5C607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Chapter 15-</a:t>
            </a:r>
            <a:fld id="{6A2E46CC-E7BC-46C1-B3D9-57D7010753D8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7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8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Straight Connector 19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Freeform 20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reeform 21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22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reeform 23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Freeform 24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25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reeform 26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Chapter 15-</a:t>
            </a:r>
            <a:fld id="{B146E0E0-39A3-49A5-9808-E575BEF17ACE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Chapter 15-</a:t>
            </a:r>
            <a:fld id="{EABFBEC5-8F14-4416-A4FE-D20B25D4151D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Chapter 15-</a:t>
            </a:r>
            <a:fld id="{91FCFA0D-BB9E-41B6-A769-06039546F1D6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110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0c226"/>
                </a:solidFill>
                <a:latin typeface="Trebuchet MS"/>
              </a:rPr>
              <a:t>Drugs Affecting the</a:t>
            </a:r>
            <a:br>
              <a:rPr sz="4400"/>
            </a:br>
            <a:r>
              <a:rPr b="0" lang="en-US" sz="4400" spc="-1" strike="noStrike">
                <a:solidFill>
                  <a:srgbClr val="90c226"/>
                </a:solidFill>
                <a:latin typeface="Trebuchet MS"/>
              </a:rPr>
              <a:t>Respiratory System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2643120"/>
            <a:ext cx="6400800" cy="29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Trebuchet MS"/>
              </a:rPr>
              <a:t>Antihistamines,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Trebuchet MS"/>
              </a:rPr>
              <a:t>Decongestants,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Trebuchet MS"/>
              </a:rPr>
              <a:t>Antitussives,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Trebuchet MS"/>
              </a:rPr>
              <a:t>and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Trebuchet MS"/>
              </a:rPr>
              <a:t>Expectorant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40880" y="609120"/>
            <a:ext cx="76755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0c226"/>
                </a:solidFill>
                <a:latin typeface="Trebuchet MS"/>
              </a:rPr>
              <a:t>Antihistamines: Mechanism of Action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More effective in preventing the actions of histamine rather than reversing the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hould be given early in treatment, before 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ll the histamine binds to the receptor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Histamine vs. Antihistamine Effect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ardiovascular (small blood vessels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Histamine effects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Dilation and increased permeability </a:t>
            </a:r>
            <a:br>
              <a:rPr sz="1600"/>
            </a:b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(allowing substances to leak into tissues)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Antihistamine effects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Prevent dilation of blood vessels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Prevent increased permeability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Histamine vs. Antihistamine Effect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mooth Muscle (on exocrine glands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Histamine effects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Stimulate salivary, gastric, lacrimal, and </a:t>
            </a:r>
            <a:br>
              <a:rPr sz="1600"/>
            </a:b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bronchial secretions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Antihistamine effects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Prevent salivary, gastric, lacrimal, and </a:t>
            </a:r>
            <a:br>
              <a:rPr sz="1600"/>
            </a:b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bronchial secretions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Histamine vs. Antihistamine Effect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801360" y="1738080"/>
            <a:ext cx="7635960" cy="45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mmune System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(Release of substances commonly 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ssociated with allergic reactions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Histamine effects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Mast cells release histamine and other substances, resulting in allergic reactions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Antihistamine effect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Binds to histamine receptors, thus preventing histamine from causing a response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Antihistamines:  Other Effect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762120" y="1709640"/>
            <a:ext cx="7635600" cy="45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kin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Block capillary permeability, wheal-and-flare formation, itching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nticholinergic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Drying effect that reduces nasal, salivary, and lacrimal gland secretions (runny nose, tearing, and itching eyes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dative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ome antihistamines cause drowsines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Antihistamines:  Therapeutic Use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62120" y="1981080"/>
            <a:ext cx="763560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Management of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Nasal allergie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easonal or perennial allergic rhinitis </a:t>
            </a:r>
            <a:br>
              <a:rPr sz="2400"/>
            </a:b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(hay fever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Allergic reaction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leep disorder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Antihistamines:  Therapeutic Use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762120" y="1981080"/>
            <a:ext cx="763560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lso used to relieve symptoms associated 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with the common cold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neezing, runny nos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Palliative treatment, not curativ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Antihistamines:  Side effect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96600" y="1784520"/>
            <a:ext cx="770076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nticholinergic (drying) effects, most common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Dry mouth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Difficulty urinating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Constipation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Changes in vision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Drowsines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(Mild drowsiness to deep sleep)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Antihistamines:  Two Type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774360" y="2361960"/>
            <a:ext cx="763596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raditional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or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Nonsedating/Peripherally Act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Antihistamines</a:t>
            </a: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762120" y="1980720"/>
            <a:ext cx="7635600" cy="41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211464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raditiona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211464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Older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211464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Work both peripherally and centrally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211464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Have anticholinergic effects, making them more effective than nonsedating agents in some case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211464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Examples: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diphenhydramine (Benadryl)</a:t>
            </a:r>
            <a:br>
              <a:rPr sz="2400"/>
            </a:b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chlorpheniramine (Chlor-Trimeton)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Understanding the Common Cold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Most caused by viral infection 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(rhinovirus or influenza virus—the “flu”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Virus invades tissues (mucosa) of upper respiratory tract, causing upper respiratory infection (URI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xcessive mucus production results from the inflammatory response to this invasio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luid drips down the pharynx into the esophagus and lower respiratory tract, causing cold symptoms: sore throat, coughing, upset stomach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Antihistamines</a:t>
            </a: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762120" y="1980720"/>
            <a:ext cx="7635600" cy="42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199692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Nonsedating/Peripherally Act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99692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Developed to eliminate unwanted side effects,      mainly sedatio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99692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Work peripherally to block the actions of histamine; thus, fewer CNS side effect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99692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Longer duration of action (increases compliance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199692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Examples: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fexofenadine (Allegra)</a:t>
            </a:r>
            <a:br>
              <a:rPr sz="2400"/>
            </a:b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loratadine (Claritin)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Nursing Implications: Antihistamine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762120" y="1981080"/>
            <a:ext cx="763560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nstruct patients to report excessive sedation, confusion, or hypotensio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void driving or operating heavy machinery, and do not consume alcohol or other CNS depressant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Do not take these medications with other prescribed or OTC medications without checking with prescriber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Nursing Implications: Antihistamine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762120" y="1981080"/>
            <a:ext cx="7635600" cy="42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Best tolerated when taken with meals—reduces GI upset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f dry mouth occurs, teach patient to perform frequent mouth care, chew gum, or suck on hard candy (preferably sugarless) to ease discomfort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Monitor for intended therapeutic effect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Nasal Congestio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762120" y="1980720"/>
            <a:ext cx="7635600" cy="41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xcessive nasal secretion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nflamed and swollen nasal mucosa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rimary causes: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Allergies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Upper respiratory infections (common cold)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Decongestant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62120" y="1981080"/>
            <a:ext cx="7635600" cy="42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wo main types are used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Adrenergics (largest group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Corticosteroid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Decongestant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762120" y="1980720"/>
            <a:ext cx="763560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wo dosage forms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Ora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Inhaled/topically applied to the nasal membrane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Oral Decongestant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762120" y="1981080"/>
            <a:ext cx="763560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228276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rolonged decongestant effects, 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but delayed onse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228276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ffect less potent than topical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228276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No rebound congestio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228276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xclusively adrenergic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228276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xamples: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henylephrine 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seudoephedrine (Sudafed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Topical Nasal Decongestant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762120" y="1981080"/>
            <a:ext cx="7635600" cy="42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Both adrenergics and steroid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rompt onse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oten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ustained use over several days causes rebound congestion, making the condition wors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Topical Nasal Decongestant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762120" y="1980720"/>
            <a:ext cx="7702560" cy="41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00536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drenergics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>
              <a:spcBef>
                <a:spcPts val="1001"/>
              </a:spcBef>
              <a:tabLst>
                <a:tab algn="l" pos="0"/>
                <a:tab algn="l" pos="400536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ephedrine (Vicks)</a:t>
            </a: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naphazoline (Privine)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>
              <a:spcBef>
                <a:spcPts val="1001"/>
              </a:spcBef>
              <a:tabLst>
                <a:tab algn="l" pos="0"/>
                <a:tab algn="l" pos="400536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oxymetazoline (Afrin)</a:t>
            </a: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phenylephrine </a:t>
            </a: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(Neo Synephrine)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00536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ntranasal Steroids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>
              <a:spcBef>
                <a:spcPts val="1001"/>
              </a:spcBef>
              <a:tabLst>
                <a:tab algn="l" pos="0"/>
                <a:tab algn="l" pos="400536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beclomethasone dipropionate </a:t>
            </a: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(Beconase, Vancenase)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>
              <a:spcBef>
                <a:spcPts val="1001"/>
              </a:spcBef>
              <a:tabLst>
                <a:tab algn="l" pos="0"/>
                <a:tab algn="l" pos="400536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flunisolide (Nasalide)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Nasal Decongestants: </a:t>
            </a: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	</a:t>
            </a: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Mechanism of Actio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762120" y="1981080"/>
            <a:ext cx="763560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te of action:  blood vessels surrounding 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nasal sinuse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Adrenergic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Constrict small blood vessels that supply </a:t>
            </a:r>
            <a:br>
              <a:rPr sz="1600"/>
            </a:b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URI structures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As a result, these tissues shrink and nasal secretions in the swollen mucous membranes </a:t>
            </a: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are better able to drain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Nasal stuffiness is relieved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Understanding the Common Cold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rritation of nasal mucosa often triggers the sneeze reflex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Mucosal irritation also causes release of several inflammatory and vasoactive substances, dilating small blood vessels in the nasal sinuses and causing nasal congestio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Nasal Decongestants:  </a:t>
            </a: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	</a:t>
            </a: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Mechanism of Actio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762120" y="1943280"/>
            <a:ext cx="7635600" cy="42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te of action:  blood vessels surrounding 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nasal sinuse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Nasal steroid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Anti-inflammatory effect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Work to turn off the immune system cells </a:t>
            </a: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involved in the inflammatory response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Decreased inflammation results in decreased congestion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Nasal stuffiness is relieved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Nasal Decongestants:  Drug Effect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762120" y="1981080"/>
            <a:ext cx="7635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hrink engorged nasal mucous membrane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Relieve nasal stuffines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Nasal Decongestants: </a:t>
            </a:r>
            <a:br>
              <a:rPr sz="3600"/>
            </a:b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Therapeutic Use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762120" y="1981080"/>
            <a:ext cx="7635600" cy="42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Relief of nasal congestion associated with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Acute or chronic rhiniti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Common cold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inusiti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Hay fever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Other allergie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May also be used to reduce swelling of the nasal passage and  facilitate visualization of the nasal/pharyngeal membranes before surgery or diagnostic procedures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Nasal Decongestants:  Side Effect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89120" y="1771200"/>
            <a:ext cx="7596000" cy="44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377028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404040"/>
                </a:solidFill>
                <a:uFillTx/>
                <a:latin typeface="Trebuchet MS"/>
              </a:rPr>
              <a:t>Adrenergics</a:t>
            </a:r>
            <a:r>
              <a:rPr b="0" lang="en-US" sz="1800" spc="-1" strike="noStrike" u="sng">
                <a:solidFill>
                  <a:srgbClr val="404040"/>
                </a:solidFill>
                <a:uFillTx/>
                <a:latin typeface="Trebuchet MS"/>
              </a:rPr>
              <a:t>	</a:t>
            </a:r>
            <a:r>
              <a:rPr b="0" lang="en-US" sz="1800" spc="-1" strike="noStrike" u="sng">
                <a:solidFill>
                  <a:srgbClr val="404040"/>
                </a:solidFill>
                <a:uFillTx/>
                <a:latin typeface="Trebuchet MS"/>
              </a:rPr>
              <a:t>Steroid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377028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nervousness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local mucosal dryness 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and irritatio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377028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insomnia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377028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palpitation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377028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remor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377028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(systemic effects due to adrenergic stimulation of 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e heart, blood vessels, and CNS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Nursing Implications:  </a:t>
            </a: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	</a:t>
            </a: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	</a:t>
            </a: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	</a:t>
            </a: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Nasal Decongestant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09120" y="2651040"/>
            <a:ext cx="763596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Decongestants may cause hypertension, palpitations, and CNS stimulation—avoid in patients with these condition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ssess for drug allergie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Nursing Implications: Decongestant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762120" y="1981080"/>
            <a:ext cx="7635600" cy="42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atients should avoid caffeine and caffeine-containing product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Report a fever, cough, or other symptoms lasting longer than a week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Monitor for intended therapeutic effect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50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0c226"/>
                </a:solidFill>
                <a:latin typeface="Trebuchet MS"/>
              </a:rPr>
              <a:t>Antitussives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ough Physiology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762120" y="1980720"/>
            <a:ext cx="7635600" cy="42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Respiratory secretions and foreign objects are naturally removed by the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ough reflex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Induces coughing and expectoration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Initiated by irritation of sensory receptors in the respiratory tract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Two Basic Types of Cough</a:t>
            </a: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2120" y="1981080"/>
            <a:ext cx="76356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roductive Cough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Congested, removes excessive secretions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Nonproductive Cough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Dry cough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oughing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762120" y="1980720"/>
            <a:ext cx="7635600" cy="42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Most of the time, coughing is beneficia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Removes excessive secretion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Removes potentially harmful foreign substance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n some situations, coughing can be harmful, such as after hernia repair surger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Treatment of the Common Cold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nvolves combined use of antihistamines, nasal decongestants, antitussives, and expectorant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reatment is SYMPTOMATIC only, not curative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ymptomatic treatment does not eliminate the causative pathoge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Antitussive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762120" y="1980720"/>
            <a:ext cx="7635600" cy="42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Drugs used to stop or reduce cough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Opioid and nonopioid 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(narcotic and non-narcotic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Used only for NONPRODUCTIVE coughs!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Antitussives: Mechanism of Actio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62120" y="1980720"/>
            <a:ext cx="7635600" cy="42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199692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Opioi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99692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uppress the cough reflex by direct action on the cough center in the medulla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199692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Examples: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codeine (Robitussin A-C, 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Dimetane-DC) 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hydrocodon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Antitussives: Mechanism of Actio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762120" y="1980720"/>
            <a:ext cx="7635600" cy="42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20620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Nonopioi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20620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uppress the cough reflex by numbing the stretch receptors in the respiratory tract and preventing the cough reflex from being stimulated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20620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Examples: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benzonatate (Tessalon)</a:t>
            </a:r>
            <a:br>
              <a:rPr sz="2400"/>
            </a:b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dextromethorphan (Vicks Formula 44,</a:t>
            </a:r>
            <a:br>
              <a:rPr sz="2400"/>
            </a:b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Robitussin-DM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Antitussives: Therapeutic Use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762120" y="1981080"/>
            <a:ext cx="76356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Used to stop the cough reflex when the cough is nonproductive and/or harmfu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Antitussives: Side Effect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2120" y="1981080"/>
            <a:ext cx="7635600" cy="42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Benzonatat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Dizziness, headache, sedation</a:t>
            </a:r>
            <a:br>
              <a:rPr sz="2400"/>
            </a:b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Dextromethorpha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Dizziness, drowsiness, nausea</a:t>
            </a:r>
            <a:br>
              <a:rPr sz="2400"/>
            </a:b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Opioid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edation, nausea, vomiting, lightheadedness, constipatio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Nursing Implications: </a:t>
            </a: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	</a:t>
            </a: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	</a:t>
            </a: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Antitussive Agent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762120" y="1981080"/>
            <a:ext cx="7635600" cy="42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erform respiratory and cough assessment, and assess for allergie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nstruct patients to avoid driving or operating heavy equipment due to possible sedation, drowsiness, or dizzines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f taking chewable tablets or lozenges, 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do not drink liquids for 30 to 35 minutes afterward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Nursing Implications: </a:t>
            </a: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	</a:t>
            </a: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	</a:t>
            </a: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Antitussive Agent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762120" y="1980720"/>
            <a:ext cx="7635600" cy="42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Report any of the following symptoms to the caregiver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Cough that lasts more than a week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A persistent headach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Fever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Rash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Antitussive agents are for NONPRODUCTIVE cough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Monitor for intended therapeutic effect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0c226"/>
                </a:solidFill>
                <a:latin typeface="Trebuchet MS"/>
              </a:rPr>
              <a:t>Expectorants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Expectorant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762120" y="1875960"/>
            <a:ext cx="7635600" cy="42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Drugs that aid in the expectoration 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(removal) of mucu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Reduce the viscosity of secretion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Disintegrate and thin secretion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Expectorants: Mechanisms of Actio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62120" y="1980720"/>
            <a:ext cx="7635600" cy="42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Direct stimulation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o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Reflex stimulatio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Final result: thinner mucus that is easier to remov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Treatment of the Common Cold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Difficult to identify whether cause is viral or bacterial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reatment is “empiric therapy,” treating the most likely cause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ntivirals and antibiotics may be used, but viral or bacterial cause may not be easily identified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Expectorants:  Mechanism of Actio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762120" y="1981080"/>
            <a:ext cx="7635600" cy="42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189216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Direct stimulation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89216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e secretory glands are stimulated directly to increase their production of respiratory tract fluid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189216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Examples:  terpin hydrate, iodine-containing 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products such as iodinated glycerol and 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potassium iodide (direct and indirect 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timulation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Expectorants:  Mechanism of Actio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762120" y="1980720"/>
            <a:ext cx="7635600" cy="42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Reflex stimulation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Agent causes irritation of the GI tract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Loosening and thinning of respiratory tract secretions occur in response to this irritatio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Examples: guaifenesin, syrup of ipecac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Expectorants:  Drug Effect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762120" y="1981080"/>
            <a:ext cx="7635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By loosening and thinning sputum and bronchial secretions, the tendency to cough is indirectly diminished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Expectorants: Common Side Effect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762120" y="1980720"/>
            <a:ext cx="7635600" cy="41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360036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404040"/>
                </a:solidFill>
                <a:uFillTx/>
                <a:latin typeface="Trebuchet MS"/>
              </a:rPr>
              <a:t>guaifenesin</a:t>
            </a:r>
            <a:r>
              <a:rPr b="0" lang="en-US" sz="1800" spc="-1" strike="noStrike" u="sng">
                <a:solidFill>
                  <a:srgbClr val="404040"/>
                </a:solidFill>
                <a:uFillTx/>
                <a:latin typeface="Trebuchet MS"/>
              </a:rPr>
              <a:t>	</a:t>
            </a:r>
            <a:r>
              <a:rPr b="0" lang="en-US" sz="1800" spc="-1" strike="noStrike" u="sng">
                <a:solidFill>
                  <a:srgbClr val="404040"/>
                </a:solidFill>
                <a:uFillTx/>
                <a:latin typeface="Trebuchet MS"/>
              </a:rPr>
              <a:t>	</a:t>
            </a:r>
            <a:r>
              <a:rPr b="0" lang="en-US" sz="1800" spc="-1" strike="noStrike" u="sng">
                <a:solidFill>
                  <a:srgbClr val="404040"/>
                </a:solidFill>
                <a:uFillTx/>
                <a:latin typeface="Trebuchet MS"/>
              </a:rPr>
              <a:t>terpin hydrate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360036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Nausea, vomiting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Gastric upse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360036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Gastric irritation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(Elixir has high alcohol 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content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Nursing Implications:  Expectorant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750600" y="2404800"/>
            <a:ext cx="76359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xpectorants should be used with caution in the elderly, or those with asthma or respiratory insufficiency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atients taking expectorants should receive more fluids, if permitted, to help loosen and liquefy secretion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Report a fever, cough, or other symptoms lasting longer than a week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Monitor for intended therapeutic effect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12680" y="3123720"/>
            <a:ext cx="63468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Question</a:t>
            </a: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?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Antihistamine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872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Drugs that directly compete with histamine 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r specific receptor site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87280" indent="-287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wo histamine receptors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H</a:t>
            </a:r>
            <a:r>
              <a:rPr b="0" lang="en-US" sz="2000" spc="-1" strike="noStrike" baseline="-25000">
                <a:solidFill>
                  <a:srgbClr val="404040"/>
                </a:solidFill>
                <a:latin typeface="Trebuchet MS"/>
              </a:rPr>
              <a:t>1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  histamine-1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H</a:t>
            </a:r>
            <a:r>
              <a:rPr b="0" lang="en-US" sz="2000" spc="-1" strike="noStrike" baseline="-25000">
                <a:solidFill>
                  <a:srgbClr val="404040"/>
                </a:solidFill>
                <a:latin typeface="Trebuchet MS"/>
              </a:rPr>
              <a:t>2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 histamine-2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Antihistamine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240048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H</a:t>
            </a:r>
            <a:r>
              <a:rPr b="0" lang="en-US" sz="1800" spc="-1" strike="noStrike" baseline="-25000">
                <a:solidFill>
                  <a:srgbClr val="404040"/>
                </a:solidFill>
                <a:latin typeface="Trebuchet MS"/>
              </a:rPr>
              <a:t>2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 Blockers or H</a:t>
            </a:r>
            <a:r>
              <a:rPr b="0" lang="en-US" sz="1800" spc="-1" strike="noStrike" baseline="-25000">
                <a:solidFill>
                  <a:srgbClr val="404040"/>
                </a:solidFill>
                <a:latin typeface="Trebuchet MS"/>
              </a:rPr>
              <a:t>2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 Antagonist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240048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Used to reduce gastric acid in PUD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240048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Examples: </a:t>
            </a: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cimetidine (Tagamet), </a:t>
            </a: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ranitidine (Zantac), or </a:t>
            </a: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famotidine (Pepcid)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Antihistamine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H</a:t>
            </a:r>
            <a:r>
              <a:rPr b="0" lang="en-US" sz="1800" spc="-1" strike="noStrike" baseline="-25000">
                <a:solidFill>
                  <a:srgbClr val="404040"/>
                </a:solidFill>
                <a:latin typeface="Trebuchet MS"/>
              </a:rPr>
              <a:t>1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 antagonists are commonly referred to as antihistamine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Antihistamines have several effects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Antihistaminic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Anticholinergic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Sedative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16040" y="609120"/>
            <a:ext cx="77025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0c226"/>
                </a:solidFill>
                <a:latin typeface="Trebuchet MS"/>
              </a:rPr>
              <a:t>Antihistamines: Mechanism of Action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11000" y="1968480"/>
            <a:ext cx="768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BLOCK action of histamine at the receptor site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Compete with histamine for binding at unoccupied receptor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CANNOT push histamine off the receptor if already bound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2T01:00:27Z</dcterms:created>
  <dc:creator>Jonathan &amp; Julie Snyder</dc:creator>
  <dc:description/>
  <dc:language>en-US</dc:language>
  <cp:lastModifiedBy>Alharbi</cp:lastModifiedBy>
  <dcterms:modified xsi:type="dcterms:W3CDTF">2016-03-21T07:54:03Z</dcterms:modified>
  <cp:revision>37</cp:revision>
  <dc:subject/>
  <dc:title>PowerPoint Presentation</dc:title>
</cp:coreProperties>
</file>