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801-BF2A-412C-8CA0-09E690C4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0B2-E91C-4816-8636-CC0FC716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42A-F2F0-423E-88B7-D93C75CD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99A-BB11-409D-ADB0-BD60D69F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CC66-D7D3-4616-981B-1B640635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2638-E79E-4B45-BD96-53ECBFE5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718D-DB93-4641-969E-0AF79D5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BA2-ED3D-473B-80EB-44DC2A2F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D3B1-42A6-4318-B753-BDB58149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489F-14CC-4E0C-80F6-0C64FC42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0171-9011-491A-9208-1F482060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EA3-4118-41C5-8A50-9B241B57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B15D-1988-4277-AD43-9987A2D2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DA8D-1312-47C5-8308-8AD447D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EDBA-6589-4D90-9E8A-964D7680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BAF9-F436-4C9B-80D2-06C24526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9370-7CCD-4A25-8FB6-12CDD2F6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3362-6967-4FC6-B773-4198EEB0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FC5A-735C-4DEF-8AF0-9EBB51E5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0AB0-4735-45B1-AD1C-D16B608F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8119-E50B-446B-9937-F3679C07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7C02-1017-4953-8312-0CD37A55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04A-8D8B-4F7D-AFFC-7E23F7C3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18A3-0ECA-49A5-BE5E-8F728479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9A02-2BF4-4424-883F-00A24469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8658-2748-4B78-A89C-14CFCDF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F677-5C9A-4B0E-9060-6E71B5C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5A1D-E96E-4592-B666-A568190B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2B9A-0408-45A7-B71B-653F91D9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6004-690E-4798-A2B6-3D87F5C4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2F8F-3769-4212-9F37-2B5491A1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33DCD-4B62-4BC1-89B4-8FA8F3E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21E9-D5B9-4A94-80E2-D4204BAA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821-E776-4E24-8940-D31203BA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6E34-493E-4A3D-9FF6-AC0C1DA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6574-5357-4468-8635-19D41383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5715-587F-4A29-B382-D074B612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9583-9E4C-46FE-9B52-1901A8D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3C1EB-80A8-427F-A901-45D72965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A47B-2744-4AE1-B987-612BF8D1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E4DB-2B2B-4176-A6B9-95D86DD9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E474-5AD0-49C2-A56E-2814EB24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5542-A2F2-4770-9F88-853ADE53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2D8-5DA0-4CF6-9526-DD638C64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84B-5BEC-42A6-B3B5-E897E584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0A6-CBE7-4932-B4F7-178F905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A22-3B6F-4B62-BE07-33837CE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552-DECA-455C-A5CD-968D23FF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61E2593D-6381-4BEF-AE7E-DF7A4C3B786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95721701-C68C-48D9-A9DA-2A78069B317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AF06C7F4-C5F1-4023-B25F-DE19521FCF0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7806B85F-6063-4BC0-8F79-FDED1A1A315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rugs Affecting the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Respiratory System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643120"/>
            <a:ext cx="640080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tihistamine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Decongestant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titussive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Expectora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67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Antihistamines: 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re effective in preventing the actions of histamine rather than reversing th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be given early in treatment, befor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l the histamine binds to the recepto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vascular (small blood vessel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ilation and increased permeability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allowing substances to leak into tissues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dilation of blood vessel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increased permeabi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mooth Muscle (on exocrine gland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timulate salivary, gastric, lacrimal, and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ronchial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salivary, gastric, lacrimal, and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ronchial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01360" y="1738080"/>
            <a:ext cx="76359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mune Syst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elease of substances commonly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ociated with allergic reaction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st cells release histamine and other substances, resulting in allergic reaction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inds to histamine receptors, thus preventing histamine from causing a respons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Other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1709640"/>
            <a:ext cx="76356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lock capillary permeability, wheal-and-flare formation, itc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rying effect that reduces nasal, salivary, and lacrimal gland secretions (runny nose, tearing, and itching ey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dativ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ome antihistamines cause drowsi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62120" y="1981080"/>
            <a:ext cx="7635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nagement of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sal allerg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asonal or perennial allergic rhiniti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hay f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lergic rea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leep disord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used to relieve symptoms associate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th the common col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neezing, runny n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liative treatment, not curati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96600" y="1784520"/>
            <a:ext cx="77007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 (drying) effects, most comm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ry mouth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ifficulty urina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stipa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hanges in vis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ows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Mild drowsiness to deep sleep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wo Typ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74360" y="2361960"/>
            <a:ext cx="763596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ditiona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sedating/Peripherally Ac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dition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l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rk both peripherally and cent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anticholinergic effects, making them more effective than nonsedating agents in some ca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phenhydramine (Benadryl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lorpheniramine (Chlor-Trimeton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caused by viral infection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hinovirus or influenza virus—the “flu”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rus invades tissues (mucosa) of upper respiratory tract, causing upper respiratory infection (URI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ssive mucus production results from the inflammatory response to this invas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luid drips down the pharynx into the esophagus and lower respiratory tract, causing cold symptoms: sore throat, coughing, upset stomac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sedating/Peripherally Ac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veloped to eliminate unwanted side effects,      mainly sed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rk peripherally to block the actions of histamine; thus, fewer CNS side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nger duration of action (increases complianc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exofenadine (Allegra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ratadine (Claritin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struct patients to report excessive sedation, confusion, or hypotens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void driving or operating heavy machinery, and do not consume alcohol or other CNS depressa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take these medications with other prescribed or OTC medications without checking with prescrib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st tolerated when taken with meals—reduces GI upse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dry mouth occurs, teach patient to perform frequent mouth care, chew gum, or suck on hard candy (preferably sugarless) to ease discomfo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Cong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ssive nasal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ed and swollen nasal muco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imary caus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ller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pper respiratory infections (common col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wo main types are use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drenergics (largest gro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rticostero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2120" y="1980720"/>
            <a:ext cx="7635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wo dosage form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r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haled/topically applied to the nasal membran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r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longed decongestant effects,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delayed ons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ffect less potent than topica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rebound conges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lusively adrenerg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enylephrin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seudoephedrine (Sudaf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al 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oth adrenergics and 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mpt ons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t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tained use over several days causes rebound congestion, making the condition wor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al 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1980720"/>
            <a:ext cx="7702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renergic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phedrine (Vicks)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phazoline (Privin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xymetazoline (Afrin)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henylephrine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Neo Synephrin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tranasal Steroid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eclomethasone dipropionate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Beconase, Vancenas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lunisolide (Nasalid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te of action:  blood vessels surround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sal sinu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strict small blood vessels that supply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RI structur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s a result, these tissues shrink and nasal secretions in the swollen mucous membranes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re better able to drai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sal stuffiness is reliev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rritation of nasal mucosa often triggers the sneeze reflex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ucosal irritation also causes release of several inflammatory and vasoactive substances, dilating small blood vessels in the nasal sinuses and causing nasal conges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943280"/>
            <a:ext cx="7635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te of action:  blood vessels surround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sal sinu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sal stero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-inflammatory effec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ork to turn off the immune system cells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volved in the inflammatory respons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inflammation results in decreased conges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sal stuffiness is reliev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2120" y="1981080"/>
            <a:ext cx="7635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rink engorged nasal mucous membra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lieve nasal stuff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2120" y="1981080"/>
            <a:ext cx="7635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lief of nasal congestion associated with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cute or chronic rhinit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mon c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nusit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y fev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ther allerg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ay also be used to reduce swelling of the nasal passage and  facilitate visualization of the nasal/pharyngeal membranes before surgery or diagnostic procedur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89120" y="1771200"/>
            <a:ext cx="7596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Adrenergics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ervous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cal mucosal dryness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irrit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somni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pit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rem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systemic effects due to adrenergic stimulation of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eart, blood vessels, and CN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651040"/>
            <a:ext cx="76359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congestants may cause hypertension, palpitations, and CNS stimulation—avoid in patients with these condi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for drug allergi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avoid caffeine and caffeine-containing produ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 fever, cough, or other symptoms lasting longer than a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5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Antitussiv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ugh Physi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secretions and foreign objects are naturally removed by th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 reflex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duces coughing and expectora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itiated by irritation of sensory receptors in the respiratory trac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wo Basic Types of Cough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2120" y="1981080"/>
            <a:ext cx="7635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ductive Coug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gested, removes excessive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productive Coug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ry cough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ugh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2120" y="1980720"/>
            <a:ext cx="7635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of the time, coughing is benefici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moves excessive secre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moves potentially harmful foreign subs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some situations, coughing can be harmful, such as after hernia repair surger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eatment of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volves combined use of antihistamines, nasal decongestants, antitussives, and expectora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is SYMPTOMATIC only, not curati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ymptomatic treatment does not eliminate the causative pathog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62120" y="1980720"/>
            <a:ext cx="76356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used to stop or reduce coug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 and nonopioi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narcotic and non-narcotic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only for NONPRODUCTIVE coughs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uppress the cough reflex by direct action on the cough center in the medull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deine (Robitussin A-C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metane-DC)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ydrocodo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2120" y="1980720"/>
            <a:ext cx="7635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opio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uppress the cough reflex by numbing the stretch receptors in the respiratory tract and preventing the cough reflex from being stimul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enzonatate (Tessalon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xtromethorphan (Vicks Formula 44,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obitussin-D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62120" y="1981080"/>
            <a:ext cx="7635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stop the cough reflex when the cough is nonproductive and/or harmfu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981080"/>
            <a:ext cx="7635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nzonata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, headache, sed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xtromethorph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, drowsiness, nausea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dation, nausea, vomiting, lightheadedness,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 Ag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erform respiratory and cough assessment, and assess for allergi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struct patients to avoid driving or operating heavy equipment due to possible sedation, drowsiness, or dizzi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aking chewable tablets or lozenges,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drink liquids for 30 to 35 minutes afterwar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 Ag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62120" y="1980720"/>
            <a:ext cx="76356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port any of the following symptoms to the caregiver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ugh that lasts more than a we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 persistent headach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eve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tussive agents are for NONPRODUCTIVE cough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Expectoran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2120" y="1875960"/>
            <a:ext cx="7635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that aid in the expectoration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emoval) of muc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uce the viscosity of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integrate and thin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Mechanisms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1980720"/>
            <a:ext cx="7635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rect stimula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flex stimul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nal result: thinner mucus that is easier to remo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eatment of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fficult to identify whether cause is viral or bacteri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is “empiric therapy,” treating the most likely caus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virals and antibiotics may be used, but viral or bacterial cause may not be easily identifi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rect stimulati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secretory glands are stimulated directly to increase their production of respiratory tract fluid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  terpin hydrate, iodine-containing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ducts such as iodinated glycerol and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tassium iodide (direct and indirect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timul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flex stimulati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gent causes irritation of the GI tra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osening and thinning of respiratory tract secretions occur in response to this irrit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 guaifenesin, syrup of ipeca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1981080"/>
            <a:ext cx="7635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loosening and thinning sputum and bronchial secretions, the tendency to cough is indirectly diminish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Common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guaifenesin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terpin hydrat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, vomiting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ic upse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ic irrita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Elixir has high alcohol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ten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 Expector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50600" y="2404800"/>
            <a:ext cx="7635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ctorants should be used with caution in the elderly, or those with asthma or respiratory insufficie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taking expectorants should receive more fluids, if permitted, to help loosen and liquefy secre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 fever, cough, or other symptoms lasting longer than a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12680" y="31237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that directly compete with histamin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specific receptor si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87280" indent="-287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wo histamine receptor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histamine-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histamine-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Blockers or 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tagonis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sed to reduce gastric acid in PU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xamples: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imetidine (Tagamet),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anitidine (Zantac), or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amotidine (Pepci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tagonists are commonly referred to as antihistami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s have several effect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histaminic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cholinergic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edativ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6040" y="60912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Antihistamines: 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1000" y="1968480"/>
            <a:ext cx="768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LOCK action of histamine at the receptor si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ete with histamine for binding at unoccupied recepto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NNOT push histamine off the receptor if already boun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Alharbi</cp:lastModifiedBy>
  <dcterms:modified xsi:type="dcterms:W3CDTF">2016-03-21T07:54:03Z</dcterms:modified>
  <cp:revision>37</cp:revision>
  <dc:subject/>
  <dc:title>PowerPoint Presentation</dc:title>
</cp:coreProperties>
</file>