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293-1484-4906-806B-2C7CA46E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6C4A-BFE7-43C2-BC4F-BEDCB72C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5F8-060C-4BDB-AF48-A9916468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D4E6-6FDB-4957-9DA5-EE2DE4BF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49BA-E14E-48D8-9042-953AAEA2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04D4-4875-42D9-AA9A-1656026C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2AF3-E8C5-49E4-8DFB-482EF65C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F59D-20CE-4353-800F-F3D1CFB7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83F7-997C-4462-A751-D6C1A8B8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BDA6-750A-4F9E-A1A1-420EB7BB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2458-EF4C-4899-B738-EC149446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747-C12A-40A4-8BDD-A7F254EE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B3BA-3490-4229-8F54-890C01E2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6CC9-BAB9-4268-8ED3-26BD1E1A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2C6F-7F7C-48FE-8994-180166C2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1C46-2727-4623-A11C-FC9C18AD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E924-F771-4BC4-9057-D8750208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E4C08-81B4-4E89-B19A-5DE99A68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AFB50-4246-4E6A-96F8-70333927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D7F47-B8D3-4BDB-9416-16E626FF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6783A-B3FA-4923-9548-A5B8838A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0BC09-61D7-4599-AF9F-DE9E034B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42F4-49A7-4646-9FA0-65BAC304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33558-B3EF-497D-B513-88D6A82D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DC060-582B-4788-9C73-D987EF1A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7CD48-F5F4-47F3-9D66-635ACC1E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60869-21BD-4BE8-A02C-0B9ED2E7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D030F-5551-45B5-87EB-C66A489C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33CB3-18AC-46FC-B615-681EB572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5AA0A-163B-4F34-8722-75E4A714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CC17E-9ECB-4EB1-8491-3972CDFD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4627E-A2AB-4161-98B5-AA612631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DE618-1573-47A0-A066-69DEAB0B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34D4-F205-40E2-B515-CD645941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FF191-0C65-4536-80C7-2810C2AC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9A286-7ADD-4FC9-91A0-5D13A701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6E62A-FCC0-448F-913F-B5190B57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D3D33-3EED-40F3-8EE2-CA2432D5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24F33-CEE6-4375-B0FA-5DA2A4B2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C8555-61EA-41FC-89B5-803114AC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A8A8C-5BCB-419F-B24D-3E41A32E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18AA8-C791-4C0D-B56A-2527F478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0646B-F7E3-4A05-82AE-AE96A14A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581D-CFF4-4FED-8813-7091C0E2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6C70-3F1F-4A44-8260-B451A928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9E89-9EAC-496B-9DD9-C4A178A5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077A-2A41-4C10-98E4-388B4B63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1653-B567-42E4-AC95-DDE36116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5-</a:t>
            </a:r>
            <a:fld id="{60C0EF52-59D8-45C1-BE51-15FC3CFC28F6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5-</a:t>
            </a:r>
            <a:fld id="{FBA6DFBD-EE84-4780-A1E7-54333C2B118A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5-</a:t>
            </a:r>
            <a:fld id="{0076C183-E4F3-4B4B-A669-B7B6A0E46954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5-</a:t>
            </a:r>
            <a:fld id="{5A9C8FDB-4BD5-488E-ACB6-449B5B66D63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1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Drugs Affecting the</a:t>
            </a:r>
            <a:br>
              <a:rPr sz="4400"/>
            </a:b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Respiratory System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2643120"/>
            <a:ext cx="6400800" cy="29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Trebuchet MS"/>
              </a:rPr>
              <a:t>Antihistamines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Trebuchet MS"/>
              </a:rPr>
              <a:t>Decongestants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Trebuchet MS"/>
              </a:rPr>
              <a:t>Antitussives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Trebuchet MS"/>
              </a:rPr>
              <a:t>an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Trebuchet MS"/>
              </a:rPr>
              <a:t>Expectorant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40880" y="609120"/>
            <a:ext cx="7675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"/>
              </a:rPr>
              <a:t>Antihistamines: Mechanism of Action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re effective in preventing the actions of histamine rather than reversing the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hould be given early in treatment, befor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ll the histamine binds to the recepto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istamine vs. Antihistamin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ardiovascular (small blood vessel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istamine effect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ilation and increased permeability </a:t>
            </a:r>
            <a:br>
              <a:rPr sz="1600"/>
            </a:b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(allowing substances to leak into tissues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tihistamine effect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Prevent dilation of blood vessel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Prevent increased permeability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istamine vs. Antihistamin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mooth Muscle (on exocrine gland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istamine effect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Stimulate salivary, gastric, lacrimal, and </a:t>
            </a:r>
            <a:br>
              <a:rPr sz="1600"/>
            </a:b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ronchial secretion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tihistamine effect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Prevent salivary, gastric, lacrimal, and </a:t>
            </a:r>
            <a:br>
              <a:rPr sz="1600"/>
            </a:b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ronchial secretion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istamine vs. Antihistamin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01360" y="1738080"/>
            <a:ext cx="763596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mmune Syste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Release of substances commonly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sociated with allergic reaction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istamine effect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Mast cells release histamine and other substances, resulting in allergic reactions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tihistamine effect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inds to histamine receptors, thus preventing histamine from causing a response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:  Other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62120" y="1709640"/>
            <a:ext cx="763560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ki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Block capillary permeability, wheal-and-flare formation, itch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cholinergic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rying effect that reduces nasal, salivary, and lacrimal gland secretions (runny nose, tearing, and itching eye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dativ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ome antihistamines cause drowsines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: 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62120" y="1981080"/>
            <a:ext cx="7635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anagement of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asal allergi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asonal or perennial allergic rhinitis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(hay fev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llergic rea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leep disorde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: 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62120" y="1981080"/>
            <a:ext cx="7635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lso used to relieve symptoms associated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ith the common cold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neezing, runny n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alliative treatment, not curativ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: 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96600" y="1784520"/>
            <a:ext cx="770076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cholinergic (drying) effects, most commo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ry mouth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ifficulty urinating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Constipatio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Changes in visio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rowsines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(Mild drowsiness to deep sleep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:  Two Typ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74360" y="2361960"/>
            <a:ext cx="763596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aditional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r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nsedating/Peripherally Ac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62120" y="1980720"/>
            <a:ext cx="76356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adition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Old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ork both peripherally and centrall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ave anticholinergic effects, making them more effective than nonsedating agents in some ca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xamples: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phenhydramine (Benadryl)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hlorpheniramine (Chlor-Trimeton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Understanding the Common Col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st caused by viral infection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rhinovirus or influenza virus—the “flu”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Virus invades tissues (mucosa) of upper respiratory tract, causing upper respiratory infection (URI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cessive mucus production results from the inflammatory response to this invas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luid drips down the pharynx into the esophagus and lower respiratory tract, causing cold symptoms: sore throat, coughing, upset stomach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62120" y="1980720"/>
            <a:ext cx="763560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nsedating/Peripherally Ac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eveloped to eliminate unwanted side effects,      mainly sed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ork peripherally to block the actions of histamine; thus, fewer CNS side effec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Longer duration of action (increases complianc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xamples: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exofenadine (Allegra)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loratadine (Claritin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Antihistami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62120" y="1981080"/>
            <a:ext cx="7635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struct patients to report excessive sedation, confusion, or hypotens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void driving or operating heavy machinery, and do not consume alcohol or other CNS depressan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o not take these medications with other prescribed or OTC medications without checking with prescrib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Antihistami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62120" y="1981080"/>
            <a:ext cx="7635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st tolerated when taken with meals—reduces GI upse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dry mouth occurs, teach patient to perform frequent mouth care, chew gum, or suck on hard candy (preferably sugarless) to ease discomfor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nitor for intended therapeutic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Conges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62120" y="1980720"/>
            <a:ext cx="76356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cessive nasal secretio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flamed and swollen nasal muco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imary causes: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llergie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Upper respiratory infections (common cold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2120" y="1981080"/>
            <a:ext cx="7635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wo main types are used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drenergics (largest group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rticosteroid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62120" y="1980720"/>
            <a:ext cx="7635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wo dosage form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Or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haled/topically applied to the nasal membran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Oral 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62120" y="1981080"/>
            <a:ext cx="7635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2827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olonged decongestant effects,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ut delayed ons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2827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ffect less potent than topical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2827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rebound conges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2827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clusively adrenergic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2827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amples: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enylephrin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seudoephedrine (Sudafe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opical Nasal 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62120" y="1981080"/>
            <a:ext cx="7635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oth adrenergics and steroid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ompt ons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ote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ustained use over several days causes rebound congestion, making the condition wor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opical Nasal 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62120" y="1980720"/>
            <a:ext cx="77025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0053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drenergic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40053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ephedrine (Vicks)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naphazoline (Privine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40053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oxymetazoline (Afrin)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phenylephrine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(Neo Synephrine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0053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tranasal Steroid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40053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eclomethasone dipropionate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(Beconase, Vancenase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40053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flunisolide (Nasalide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Decongestants: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62120" y="1981080"/>
            <a:ext cx="7635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te of action:  blood vessels surrounding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asal sinus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drenergic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Constrict small blood vessels that supply </a:t>
            </a:r>
            <a:br>
              <a:rPr sz="1600"/>
            </a:b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URI structure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s a result, these tissues shrink and nasal secretions in the swollen mucous membranes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re better able to drai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Nasal stuffiness is relieved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Understanding the Common Col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rritation of nasal mucosa often triggers the sneeze reflex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ucosal irritation also causes release of several inflammatory and vasoactive substances, dilating small blood vessels in the nasal sinuses and causing nasal conges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Decongestants: 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62120" y="1943280"/>
            <a:ext cx="76356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te of action:  blood vessels surrounding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asal sinus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asal steroid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nti-inflammatory effec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Work to turn off the immune system cells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nvolved in the inflammatory respons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ecreased inflammation results in decreased congestio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Nasal stuffiness is relieved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Decongestants:  Drug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62120" y="1981080"/>
            <a:ext cx="7635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hrink engorged nasal mucous membran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lieve nasal stuffines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Decongestants: </a:t>
            </a:r>
            <a:br>
              <a:rPr sz="3600"/>
            </a:b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762120" y="1981080"/>
            <a:ext cx="7635600" cy="42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lief of nasal congestion associated with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cute or chronic rhinit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mmon col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nusit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ay fev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Other allergi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May also be used to reduce swelling of the nasal passage and  facilitate visualization of the nasal/pharyngeal membranes before surgery or diagnostic procedur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Decongestants: 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89120" y="1771200"/>
            <a:ext cx="7596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377028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Adrenergics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Steroid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77028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ervousnes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local mucosal dryness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d irrit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77028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somnia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77028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alpita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77028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remo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77028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(systemic effects due to adrenergic stimulation of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eart, blood vessels, and CN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2651040"/>
            <a:ext cx="76359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congestants may cause hypertension, palpitations, and CNS stimulation—avoid in patients with these conditio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sess for drug allergi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62120" y="1981080"/>
            <a:ext cx="7635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atients should avoid caffeine and caffeine-containing produ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port a fever, cough, or other symptoms lasting longer than a week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nitor for intended therapeutic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50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Antitussive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ough Physiolog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62120" y="1980720"/>
            <a:ext cx="763560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spiratory secretions and foreign objects are naturally removed by th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ugh reflex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nduces coughing and expectoratio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nitiated by irritation of sensory receptors in the respiratory trac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wo Basic Types of Cough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2120" y="1981080"/>
            <a:ext cx="76356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oductive Coug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Congested, removes excessive secretion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nproductive Coug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ry cough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ough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62120" y="1980720"/>
            <a:ext cx="7635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st of the time, coughing is benefici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emoves excessive secre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emoves potentially harmful foreign substanc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some situations, coughing can be harmful, such as after hernia repair surger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reatment of the Common Col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volves combined use of antihistamines, nasal decongestants, antitussives, and expectoran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eatment is SYMPTOMATIC only, not curativ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ymptomatic treatment does not eliminate the causative pathog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762120" y="1980720"/>
            <a:ext cx="7635600" cy="42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rugs used to stop or reduce cough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pioid and nonopioid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narcotic and non-narcotic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only for NONPRODUCTIVE coughs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s: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62120" y="1980720"/>
            <a:ext cx="763560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pio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uppress the cough reflex by direct action on the cough center in the medull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xamples: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deine (Robitussin A-C,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metane-DC)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ydrocodo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s: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762120" y="1980720"/>
            <a:ext cx="7635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20620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nopio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0620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uppress the cough reflex by numbing the stretch receptors in the respiratory tract and preventing the cough reflex from being stimulat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20620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xamples: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benzonatate (Tessalon)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extromethorphan (Vicks Formula 44,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obitussin-DM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s: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762120" y="1981080"/>
            <a:ext cx="76356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to stop the cough reflex when the cough is nonproductive and/or harmfu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s: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2120" y="1981080"/>
            <a:ext cx="763560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nzonata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zziness, headache, sedation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xtromethorpha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zziness, drowsiness, nausea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pioid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dation, nausea, vomiting, lightheadedness, constip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 Age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62120" y="1981080"/>
            <a:ext cx="7635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erform respiratory and cough assessment, and assess for allergi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struct patients to avoid driving or operating heavy equipment due to possible sedation, drowsiness, or dizzine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taking chewable tablets or lozenges,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o not drink liquids for 30 to 35 minutes afterwar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 Age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762120" y="1980720"/>
            <a:ext cx="7635600" cy="42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eport any of the following symptoms to the caregiver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ough that lasts more than a we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 persistent headach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ever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as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titussive agents are for NONPRODUCTIVE cough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Monitor for intended therapeutic effect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Expectorant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pector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762120" y="1875960"/>
            <a:ext cx="763560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rugs that aid in the expectoration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removal) of muc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duce the viscosity of secretio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sintegrate and thin secretio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pectorants: Mechanisms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62120" y="1980720"/>
            <a:ext cx="7635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rect stimulatio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flex stimul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nal result: thinner mucus that is easier to remov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reatment of the Common Col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fficult to identify whether cause is viral or bacteria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eatment is “empiric therapy,” treating the most likely caus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virals and antibiotics may be used, but viral or bacterial cause may not be easily identifi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pectorants: 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62120" y="1981080"/>
            <a:ext cx="7635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18921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rect stimulatio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921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secretory glands are stimulated directly to increase their production of respiratory tract fluid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18921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xamples:  terpin hydrate, iodine-containing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oducts such as iodinated glycerol and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otassium iodide (direct and indirect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timulati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pectorants: 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762120" y="1980720"/>
            <a:ext cx="763560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flex stimulatio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gent causes irritation of the GI trac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Loosening and thinning of respiratory tract secretions occur in response to this irritati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xamples: guaifenesin, syrup of ipecac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pectorants:  Drug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62120" y="1981080"/>
            <a:ext cx="7635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y loosening and thinning sputum and bronchial secretions, the tendency to cough is indirectly diminish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pectorants: Common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762120" y="1980720"/>
            <a:ext cx="76356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guaifenesin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terpin hydrate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ausea, vomiting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Gastric upse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Gastric irritation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(Elixir has high alcohol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ntent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 Expector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750600" y="2404800"/>
            <a:ext cx="7635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pectorants should be used with caution in the elderly, or those with asthma or respiratory insufficie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atients taking expectorants should receive more fluids, if permitted, to help loosen and liquefy secretio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port a fever, cough, or other symptoms lasting longer than a week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nitor for intended therapeutic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12680" y="31237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Question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rugs that directly compete with histamine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specific receptor si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87280" indent="-287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wo histamine receptor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H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 histamine-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H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histamine-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240048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Blockers or H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Antagonis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40048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Used to reduce gastric acid in PUD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40048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Examples: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cimetidine (Tagamet),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ranitidine (Zantac), or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famotidine (Pepcid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antagonists are commonly referred to as antihistamin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tihistamines have several effect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ntihistaminic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nticholinergic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Sedativ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6040" y="609120"/>
            <a:ext cx="7702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"/>
              </a:rPr>
              <a:t>Antihistamines: Mechanism of Action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11000" y="1968480"/>
            <a:ext cx="768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LOCK action of histamine at the receptor sit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mpete with histamine for binding at unoccupied receptor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ANNOT push histamine off the receptor if already boun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1:00:27Z</dcterms:created>
  <dc:creator>Jonathan &amp; Julie Snyder</dc:creator>
  <dc:description/>
  <dc:language>en-US</dc:language>
  <cp:lastModifiedBy>Alharbi</cp:lastModifiedBy>
  <dcterms:modified xsi:type="dcterms:W3CDTF">2016-03-21T07:54:03Z</dcterms:modified>
  <cp:revision>37</cp:revision>
  <dc:subject/>
  <dc:title>PowerPoint Presentation</dc:title>
</cp:coreProperties>
</file>