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9DE-1D64-4C96-AA8E-26727849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DD7-AB79-4973-B32F-BC39633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F34-EF97-49A1-95AF-D5C67026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322-FA7A-4C96-9375-D28890D0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03BC-03A9-43D7-AD80-F0118E4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809-0ADC-4DAD-923E-9A4709BC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496D-3CEB-48A6-82C9-84A75C9C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8763-8F7F-4F05-9D85-D7C9625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3A63-CB94-4BA1-B613-87A79E8A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1402-76C8-4B5E-9683-A13E0C5A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1512-AE2F-4C06-B3BB-6731746D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AE5-98AD-49BB-8642-E15C254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ED76-8966-4A01-B280-85FDDD9E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D693-991C-448F-B98A-02743C7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3B5E-CE65-4EF8-A679-7BE5A0C9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299C-24DB-414E-856A-47B35486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84CB-9E3F-4F95-9A64-FAC49032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AD23-3775-49A5-93AB-13FA6F27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90E2-096A-4174-8F02-46EED1F2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A118-3B39-43F8-B17C-BC693FBC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D511-F155-4126-9671-F96F5F8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4611-7312-4AB6-AF9C-9D88483C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FBC-3AB1-4EB9-AF02-115F437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4239-ECF1-484B-A1B7-8FCD21D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2613-AB6D-4697-9AA1-5690F3F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EC9A-6BF4-446F-8576-E15857B9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B9A8-AD09-4469-B489-788AA856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2FC4-4F3B-41E5-854B-FEB8AF7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F027-56C3-4EA4-9D8A-D7C3B70D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FAE0-DCB3-4EE7-BC97-0E4EB8B7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6D78-5E1F-4B7F-996D-C16DDE16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EE8E-FDA7-4B75-9CF8-5E24BB67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AC3D-1FB4-4B49-9E54-09A2380E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2E9-CF9F-4B9D-BF79-8D64268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18E7-A187-4B21-9201-157C29B8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9247-6D8F-4B82-B300-AB482A0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704A-615A-4403-9678-FFB75D5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6E08-D8FC-4F43-9F18-C97B21FC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4B31-EC2B-4A0B-953A-D6495C49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D331-2C96-4659-B01A-9358908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76B0-9B49-41DA-889C-9A22FB44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EC443-AE01-46A0-B095-2F4A72E2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7DBF-45E6-468B-9587-80EDC823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C79-87E6-4890-8308-30D79BC9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783-6C6B-4583-B8A9-D9CF6358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A25-0754-4108-8D92-5BE45D5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609-6840-4604-852E-3A09243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428-0082-4DFF-9CEF-41F24E2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066ACBF2-0694-4FBC-BCDE-7CA46FFC620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9E3D0244-0BE2-4877-AD4E-2793741C990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0D95AC61-AFEF-410D-A67B-D2DB1240DBA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9A125ACF-1EB1-46D4-95AE-0728ACA1406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rugs Affecting the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Respiratory System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643120"/>
            <a:ext cx="640080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histamin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Decongestant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tussiv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Expectora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67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re effective in preventing the actions of histamine rather than reversing th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be given early in treatment, befor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l the histamine binds to the recep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vascular (small blood vessel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lation and increased permeabilit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allowing substances to leak into tissues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dilation of blood vessel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increased permeabi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mooth Muscle (on exocrine gland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timulate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1360" y="1738080"/>
            <a:ext cx="76359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mune Syst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lease of substances commonly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ociated with allergic reaction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st cells release histamine and other substances, resulting in allergic reaction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inds to histamine receptors, thus preventing histamine from causing a respons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Other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1709640"/>
            <a:ext cx="76356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lock capillary permeability, wheal-and-flare formation, itc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ing effect that reduces nasal, salivary, and lacrimal gland secretions (runny nose, tearing, and itching ey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dativ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ome antihistamines cause drow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62120" y="1981080"/>
            <a:ext cx="7635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nagement of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asonal or perennial allergic rhiniti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hay f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lergic re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leep disord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used to relieve symptoms associate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th the common col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neezing, runny 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liative treatment, not curati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96600" y="1784520"/>
            <a:ext cx="77007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 (drying) effects, most comm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fficulty urina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ip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hanges in vis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ows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Mild drowsiness to deep sleep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wo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74360" y="2361960"/>
            <a:ext cx="76359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l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both peripherally and cent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anticholinergic effects, making them more effective than nonsedating agents in some ca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phenhydramine (Benadryl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lorpheniramine (Chlor-Trimeto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caused by viral infec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hinovirus or influenza virus—the “flu”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rus invades tissues (mucosa) of upper respiratory tract, causing upper respiratory infection (URI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mucus production results from the inflammatory response to this inva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id drips down the pharynx into the esophagus and lower respiratory tract, causing cold symptoms: sore throat, coughing, upset stomac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veloped to eliminate unwanted side effects,      mainly sed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peripherally to block the actions of histamine; thus, fewer CNS 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nger duration of action (increases complia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exofenadine (Allegra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ratadine (Clariti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report excessive sedation, confusion, or hypoten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void driving or operating heavy machinery, and do not consume alcohol or other CNS depress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take these medications with other prescribed or OTC medications without checking with prescrib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st tolerated when taken with meals—reduces GI upse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ry mouth occurs, teach patient to perform frequent mouth care, chew gum, or suck on hard candy (preferably sugarless) to ease discomfo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Cong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nasal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ed and swollen nas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imary caus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pper respiratory infections (common col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main types are use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 (largest gro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2120" y="1980720"/>
            <a:ext cx="7635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dosage form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r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haled/topically applied to the nasal membran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longed decongestant effect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delayed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 less potent than topic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rebound conges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lusively adre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seudoephedrine (Sudaf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oth adrenergics and 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mpt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t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tained use over several days causes rebound congestion, making the condition wor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1980720"/>
            <a:ext cx="7702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renergic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phedrine (Vicks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phazoline (Priv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xymetazoline (Afrin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Neo Synephr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tranasal Steroid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Beconase, Vancenas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lunisolide (Nasalid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rict small blood vessels that suppl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RI structur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s a result, these tissues shrink and nasal secretions in the swollen mucous membrane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re better able to drai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rritation of nasal mucosa often triggers the sneeze reflex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ucosal irritation also causes release of several inflammatory and vasoactive substances, dilating small blood vessels in the nasal sinuses and causing nasal conges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943280"/>
            <a:ext cx="7635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-inflammatory effe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ork to turn off the immune system cell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volved in the inflammatory respons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inflammation results in decreased conges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2120" y="1981080"/>
            <a:ext cx="7635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rink engorged nasal mucous membra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ve nasal stuff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2120" y="1981080"/>
            <a:ext cx="7635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f of nasal congestion associated with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ute or chronic rhin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mon c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nus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y fe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ther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ay also be used to reduce swelling of the nasal passage and  facilitate visualization of the nasal/pharyngeal membranes before surgery or diagnostic procedur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89120" y="1771200"/>
            <a:ext cx="7596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Adrenergics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ervous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cal mucosal drynes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rem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systemic effects due to adrenergic stimulation of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eart, blood vessels, and CN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651040"/>
            <a:ext cx="76359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ongestants may cause hypertension, palpitations, and CNS stimulation—avoid in patients with these condi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for drug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avoid caffeine and caffeine-containing produ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 Physi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secretions and foreign objects are naturally removed by th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 reflex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duces coughing and expector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itiated by irritation of sensory receptors in the respiratory tra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wo Basic Types of Cough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gested, removes excessive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coug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of the time, coughing is benefici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excessive secre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potentially harmful foreign subs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some situations, coughing can be harmful, such as after hernia repair surge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volves combined use of antihistamines, nasal decongestants, antitussives, and expector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SYMPTOMATIC only, not cur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ymptomatic treatment does not eliminate the causative pathog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used to stop or reduce 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 and nonopioi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narcotic and non-narcotic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only for NONPRODUCTIVE cough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direct action on the cough center in the medull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deine (Robitussin A-C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metane-DC)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drocodo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2120" y="1980720"/>
            <a:ext cx="7635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numbing the stretch receptors in the respiratory tract and preventing the cough reflex from being stimul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enzonatate (Tessalon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xtromethorphan (Vicks Formula 44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obitussin-D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stop the cough reflex when the cough is nonproductive and/or harmfu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981080"/>
            <a:ext cx="7635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nzonata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headache, sed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tromethorph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drowsiness, nausea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dation, nausea, vomiting, lightheadedness,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respiratory and cough assessment, and assess for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avoid driving or operating heavy equipment due to possible sedation, drowsiness, or dizzi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aking chewable tablets or lozenge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drink liquids for 30 to 35 minutes afterwar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port any of the following symptoms to the caregiver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ugh that lasts more than a we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 persistent headach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eve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tussive agents are for NONPRODUCTIVE cough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2120" y="1875960"/>
            <a:ext cx="7635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aid in the expectora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moval) of muc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uce the viscosity of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integrate and thin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Mechanisms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nal result: thinner mucus that is easier to remo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fficult to identify whether cause is viral or bacteri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“empiric therapy,” treating the most likely cau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virals and antibiotics may be used, but viral or bacterial cause may not be easily identifi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secretory glands are stimulated directly to increase their production of respiratory tract fluid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 terpin hydrate, iodine-containing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ts such as iodinated glycerol and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tassium iodide (direct and indirect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timu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gent causes irritation of the GI tra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osening and thinning of respiratory tract secretions occur in response to this irrit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guaifenesin, syrup of ipeca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1981080"/>
            <a:ext cx="7635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loosening and thinning sputum and bronchial secretions, the tendency to cough is indirectly diminish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Common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guaifenesi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terpin hydrat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, vomiting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upse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irrita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Elixir has high alcohol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ten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50600" y="2404800"/>
            <a:ext cx="763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ctorants should be used with caution in the elderly, or those with asthma or respiratory insufficie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taking expectorants should receive more fluids, if permitted, to help loosen and liquefy secre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12680" y="31237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directly compete with histamin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specific receptor si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87280" indent="-287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wo histamine receptor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histamine-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histamine-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lockers or 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sed to reduce gastric acid in PU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xamples: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imetidine (Tagamet),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anitidine (Zantac), or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amotidine (Pepci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 are commonly referred to as antihistami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s have several effect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histamin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cholinerg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edativ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6040" y="60912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1000" y="1968480"/>
            <a:ext cx="768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CK action of histamine at the receptor si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ete with histamine for binding at unoccupied recepto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NNOT push histamine off the receptor if already boun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21T07:54:03Z</dcterms:modified>
  <cp:revision>37</cp:revision>
  <dc:subject/>
  <dc:title>PowerPoint Presentation</dc:title>
</cp:coreProperties>
</file>