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C862-77C9-4944-8666-A1147717A6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9BA3-BD6B-4DB7-914C-0E82F17D5B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CB86-DB6E-45A4-909A-261C74D934F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653C-AA0A-4E4C-A61C-80E6C92AB42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048-C8CD-42E2-8191-E768EF38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55B-45C8-481A-B512-2E065B09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579-F873-46A4-8A35-5E5759A2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1CD-3115-4723-9EBD-C87F886C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8AB-E714-4424-AA20-F84A8F1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3C2-CF9C-40D0-97AB-F12ED2CE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55F-E89E-4A55-ABAD-9FF3C95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98C-5856-4981-94A7-51B6DD37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19C-DB26-4B56-BFD4-977CC4CF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C4B-A817-49A5-9AF1-676D655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813-BB21-4393-BA18-B9EBA09F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991-1BE6-4D46-A0C6-7D95FCA9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3224-DADB-4599-9072-BE88B616AE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AFD-7082-4809-81F7-F15BEA6FB3E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8 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organel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22A4-C26F-4FC5-A402-318693C7B2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8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28600" y="49687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that guide motor proteins carrying organelles to their 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3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1" dur="8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3" dur="8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5" dur="8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5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C504-0549-4AFD-8994-F73CD254A9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33520" y="485640"/>
            <a:ext cx="815328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 + 0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C30C-190B-442C-A2FF-0DC5A137CD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4A4-363A-4D76-9E8E-77F2DC962F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9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178E-0107-4D51-BF46-0E6451A6D704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7"/>
          <p:cNvSpPr/>
          <p:nvPr/>
        </p:nvSpPr>
        <p:spPr>
          <a:xfrm>
            <a:off x="228600" y="923760"/>
            <a:ext cx="426708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RRECT THE SENTENCE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um and flagellum is identical to that of centrio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C041-D160-4E11-9A72-8AC98394BB83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191A-82FA-4654-880F-735FB03BA6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7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8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73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74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5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81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7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93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9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5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11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7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23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9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5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41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7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50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53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6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9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62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5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8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71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74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7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80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83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6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9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92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5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8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9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300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6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12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8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24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30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5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6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42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8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3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54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60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6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72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5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8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81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84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7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90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93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6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9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402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5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8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11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14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7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20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23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5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7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31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6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9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43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36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3DC-0EFC-4B34-B878-439E8A776B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8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 of the Cytoskele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tub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ia and Flag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406D-6643-41B5-8C5D-4CEFB53099E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6AC-B502-4200-88F5-80E5E8166195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4284720" y="1452600"/>
            <a:ext cx="4537080" cy="2676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3C52-F316-4AD8-BDBF-A6C3107A2D96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A647-85DA-464E-92E0-DF441D0C19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025"/>
          <p:cNvPicPr/>
          <p:nvPr/>
        </p:nvPicPr>
        <p:blipFill>
          <a:blip r:embed="rId1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6108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Cytoskeleton: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Microtubules and microfilament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152280" y="2562120"/>
            <a:ext cx="6545520" cy="4380840"/>
            <a:chOff x="152280" y="2562120"/>
            <a:chExt cx="6545520" cy="4380840"/>
          </a:xfrm>
        </p:grpSpPr>
        <p:pic>
          <p:nvPicPr>
            <p:cNvPr id="69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9532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10"/>
            <p:cNvSpPr/>
            <p:nvPr/>
          </p:nvSpPr>
          <p:spPr>
            <a:xfrm>
              <a:off x="4859280" y="589572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4197240" y="256212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3"/>
            <p:cNvSpPr/>
            <p:nvPr/>
          </p:nvSpPr>
          <p:spPr>
            <a:xfrm rot="5400000">
              <a:off x="-92160" y="442080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4"/>
            <p:cNvSpPr/>
            <p:nvPr/>
          </p:nvSpPr>
          <p:spPr>
            <a:xfrm>
              <a:off x="814320" y="262872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5"/>
            <p:cNvSpPr/>
            <p:nvPr/>
          </p:nvSpPr>
          <p:spPr>
            <a:xfrm>
              <a:off x="299880" y="322884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2"/>
            <p:cNvSpPr/>
            <p:nvPr/>
          </p:nvSpPr>
          <p:spPr>
            <a:xfrm rot="19328400">
              <a:off x="2758680" y="516204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0"/>
          <p:cNvSpPr/>
          <p:nvPr/>
        </p:nvSpPr>
        <p:spPr>
          <a:xfrm>
            <a:off x="76320" y="1523880"/>
            <a:ext cx="89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80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8C71-EFD0-455F-A92E-BE1D1E309D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86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95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4"/>
          <p:cNvGrpSpPr/>
          <p:nvPr/>
        </p:nvGrpSpPr>
        <p:grpSpPr>
          <a:xfrm>
            <a:off x="914400" y="3429000"/>
            <a:ext cx="7315200" cy="368280"/>
            <a:chOff x="914400" y="3429000"/>
            <a:chExt cx="7315200" cy="368280"/>
          </a:xfrm>
        </p:grpSpPr>
        <p:sp>
          <p:nvSpPr>
            <p:cNvPr id="99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F7FF-091F-4136-A8C9-886B525DC7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in one part and reassembling 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7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8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various destination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mohamed</cp:lastModifiedBy>
  <dcterms:modified xsi:type="dcterms:W3CDTF">2016-01-20T04:18:09Z</dcterms:modified>
  <cp:revision>344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