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5BF-3643-43ED-85EB-5A135919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2E6E-BD8E-4023-BC7D-68B3B52B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DA7-90DD-4167-BD09-4654EC4D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45D8-D568-4707-9125-78E05098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891D-D298-4179-AD4F-B04A823C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9B75-2574-46E8-B7A6-B2978043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76AC-5080-4626-8029-25D21AFD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1D4B-5EFF-4111-A9E4-1804FC7B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3635-BE60-463F-8389-976BC794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BEB3-1292-4013-AFFA-BB537791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EC0E-72CD-43F8-BB5B-CF04249E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956E-AA26-4675-A3BA-D0967AB3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1F6C-74DE-42C3-9851-4CABCA2F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F9D5-2954-4F80-A1D8-AF60FCD1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ECF3-3C5C-432C-9B16-FF7AFA08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2AA2-7D5E-46BD-8B3E-1ABBFA02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690C-6720-40C4-A2DE-77B65DCA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834A5-869C-46D9-A376-2CEA56A9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54DEF-4C79-4842-84D5-791092F7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76653-7626-484E-8959-1D475915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35CD8-1766-457F-90CF-8C7B8554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AA09D-848F-48A9-9478-711DB63B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1FFF-E7F3-46C4-84F7-34B19DEA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C96A8-FE13-4E79-A188-7ECA3623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D276B-69F2-430F-8F98-2281EA81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D4E2C-D1D6-4458-B1EA-0F3BA8A0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F2753-300A-42E7-AC75-E9CE792C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19968-414B-47EA-B391-A99742D4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9083D-AFAB-4701-8D27-4AA0C6AB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8913C-BED9-4113-B7BB-62A80A6D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906AB-2B0E-4C90-8013-6DB6D996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6D3DB-EB20-447E-84DE-2D0D1BD4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1FEC3-5958-45E3-9AF3-0F681DE6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261-0B3C-4389-B562-518019FA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CBE65-D02E-4748-BE71-863FC3A1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AA387-85C4-42B2-892E-D08262F1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6B50F-8965-4E27-94E9-AD407017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7B880-C89C-48CC-A421-4EDB6CF3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09352-CE3C-4B96-84C3-0531101F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9BD6E-423D-4DD4-86E3-15D2FC94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E9E35-27CB-49CA-A941-36FC0092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52786-274C-4FEB-8684-D5B69749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B9D6A-9482-4AE7-A1E4-760DB5D7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A6C9-975F-4FBB-9DAE-24225828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0163-8A08-4640-ABE7-7E9114F6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3A6D-B629-418B-8C82-650F563F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F9C9-2157-4027-A55A-D7E201C0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6F0-565C-421D-8186-6410E1AF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A1F1-5349-49DA-A289-7697C205C45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6975-29FF-44E4-98BF-C43A51D83726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3DD3-5A7F-4D72-8098-5C50C193B646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1943-BDE8-46C7-87BA-71C41BB1A07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402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0" y="1219320"/>
            <a:ext cx="9144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905120" y="2438280"/>
            <a:ext cx="563868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660240" y="314316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1523880" y="14619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0" descr=""/>
          <p:cNvPicPr/>
          <p:nvPr/>
        </p:nvPicPr>
        <p:blipFill>
          <a:blip r:embed="rId2"/>
          <a:stretch/>
        </p:blipFill>
        <p:spPr>
          <a:xfrm>
            <a:off x="4267080" y="3295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01" name="Rectangle 10"/>
          <p:cNvSpPr/>
          <p:nvPr/>
        </p:nvSpPr>
        <p:spPr>
          <a:xfrm>
            <a:off x="2532240" y="406440"/>
            <a:ext cx="406368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8: Genetic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76320" y="491760"/>
            <a:ext cx="868680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be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238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239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240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247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248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249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256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960" y="3731760"/>
            <a:ext cx="472428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2492-0EA1-43B2-A2B4-CAA734454391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269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282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285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288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296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300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304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308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312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313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318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322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6086-8EA6-4164-9DD1-64671D6A227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334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339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343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347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04560" y="228600"/>
            <a:ext cx="8381880" cy="52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Constantia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75960" y="228240"/>
            <a:ext cx="83818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09FD-8A3C-4BDD-9466-62755188046E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0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350640"/>
            <a:ext cx="34290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Objectiv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istinguish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between dominant and recessive trai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wo laws of heredity that were developed from Mendel’s work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escrib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how Mendel’s results can be explained by scientific knowledge of genes and chromosom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between the genotype and the phenotype of an organis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xplain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how probability is used to predict the results of genetic cross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Mendel brought an experimental and quantitative approach to genetic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320" y="1203120"/>
            <a:ext cx="5410080" cy="19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2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3" descr=""/>
          <p:cNvPicPr/>
          <p:nvPr/>
        </p:nvPicPr>
        <p:blipFill>
          <a:blip r:embed="rId1"/>
          <a:stretch/>
        </p:blipFill>
        <p:spPr>
          <a:xfrm>
            <a:off x="542880" y="152280"/>
            <a:ext cx="7918560" cy="8654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>
            <a:hlinkClick r:id="rId2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p84"/>
          <p:cNvPicPr/>
          <p:nvPr/>
        </p:nvPicPr>
        <p:blipFill>
          <a:blip r:embed="rId3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21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endel’s Results and Conclusi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4617b"/>
            </a:outerShdw>
          </a:effectLst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04920" y="266400"/>
            <a:ext cx="8686800" cy="61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 that revealed the two fundamental lows of heredity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)-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The law of segregation.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)-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The law of independent assortme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Calibri"/>
              </a:rPr>
              <a:t>A)- Law of segregation: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قانون الإنعزال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two allele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ﭽـينات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or a character are isolated into separate gamete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5960" y="1219320"/>
            <a:ext cx="47242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Constantia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Constantia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Constantia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EC33-60D7-4889-95EA-B59D3A53068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28600" y="761760"/>
            <a:ext cx="8610480" cy="64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see second lo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User</cp:lastModifiedBy>
  <dcterms:modified xsi:type="dcterms:W3CDTF">2015-03-11T03:45:49Z</dcterms:modified>
  <cp:revision>116</cp:revision>
  <dc:subject/>
  <dc:title>Slide 1</dc:title>
</cp:coreProperties>
</file>