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B9A-6E25-4B50-8AB4-D3F3B964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FFE-886D-434B-A074-90BE9FA7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D21-37F7-4879-8BE3-5D169131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9B9-9614-4773-9B49-32C7EAF8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7D4A-7BF0-4FF3-986B-0218BC3E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8E8-7EDC-43A8-90C8-B5C93CBE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3535-1413-4855-A6BC-81C3B600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84A-B1FE-4BAF-8A46-BE92389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C3A6-5AE9-4D19-9330-127080A6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5C9-4DF5-4003-91D6-0626B84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F944-CDD1-4ADF-98C5-AF50BC2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F65-E673-4C38-BC60-DF0097FB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D953-6551-43E1-8683-63FC896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5C44-498F-4AE2-9CCE-4BDB224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733-8B2E-472E-B880-A89894A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E55F-E5B7-4785-81E4-BE4AB7FB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EFA2-225B-47FA-BB73-4C79BCE0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E8DE-924A-48B4-ACCF-49660D72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4BFB-B472-40A3-8A41-275B5ED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2E7F-8A5E-46C8-92AE-819655A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0B46-B541-411A-AEA0-73D72714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DCE1-FB9A-4C0E-BA2E-9AFE31E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825-13E8-44A3-A2ED-A631FCFE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D820-5DBE-498B-8ABF-99EE4E5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A620-7047-49A3-9A4D-45F33FB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83C9-EBD7-4A22-9856-EE9297E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8335-3C17-416F-A9FE-106AA78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9359-C111-4DD2-8C50-3FF2311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C9B2-161F-4C5E-B9A9-84968587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A181-1DF2-4560-9EEF-E2B60DAE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7BB1-6717-4533-BB11-6F917BC3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8D47-931E-416D-9519-DF5990A8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6498-738A-41ED-A8F5-8173D18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F62-E01B-403A-96F3-C7E6A5C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171B-5DD1-460E-82E8-D9B8B832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835D-2166-4C14-B3C2-174C6FA1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1E81-AC78-45C4-B29C-405D57D0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2B2B2-B9AA-4842-9222-C500E01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3C37-5217-40F0-9676-1A60CF0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CDF0-8F27-474D-BA6F-25FA860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DC6C-9A18-42D3-B2A5-6B776587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7853-601F-4FDB-8FAD-A097377D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4CDE-9EB6-44C2-9B5E-6702C161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4B1-F29C-4623-878B-B717587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F53-D11C-419D-B9BE-AAB0C9C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E93-EC3A-4765-AEF6-07444AD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8E6-91F9-477E-BF91-647D85A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A99-5AFA-48CF-AEE6-CB4DDBD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5F7-7DDD-48EC-A7E2-32857AA690F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3EA6-79E4-4D0F-8149-C23D2FCB102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920-62F1-43F8-A572-E67F2B9A814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07A-95C7-474E-A689-7FDAD41A79C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5B0B-0C66-4E2E-8373-042A2C13642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973-D175-4817-B2C7-8DBE35FA1B4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3605-426E-4FF3-8F53-40823019E96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7918560" cy="865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646-6D43-4A06-88B1-DFBCABB7B12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5-03-11T03:45:49Z</dcterms:modified>
  <cp:revision>116</cp:revision>
  <dc:subject/>
  <dc:title>Slide 1</dc:title>
</cp:coreProperties>
</file>