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4C0-D213-40D4-8553-B311FD0E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112-3155-468C-952C-DA3F271D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510-1274-4D88-B4BD-E40FC0AE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B99-1B45-480D-A10D-62A0C415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8B87-55C5-488D-903C-85010174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DD40-3A81-4A47-A885-C890A029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F3F8-A217-4D8C-B1D2-0A107FCD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A51F-7270-4C51-A726-8805D28B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EACC-4107-4453-A259-3F1DDB40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E873-ACAD-477F-9975-B83E25B7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435C-C54C-4B2E-8A80-D5CB408C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953-CF04-4F4C-9B68-E14C10CD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F6A1-0A47-48D8-8562-68FC943C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715E-D4BD-4AE9-A238-DF80402A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3D50-3E34-44D0-A686-5474FCAF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4452-1DB2-43E8-B99A-7CD39E50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73EE-1814-4A80-895F-9B6C2E5D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1898-3EDF-437C-AFB7-BAA38CD6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CAE95-4B0F-4AF0-AC0E-8E1E2AE4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9D730-2FED-4E5F-9FF9-5ECA37B2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4DF5-86D5-48F1-A94B-4FE0707F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CBB5-43FB-4CB8-8FF5-4D155FEC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77D-B7C8-494B-B866-8BA239A5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877F-0898-4D27-8834-01869B6D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12B6-AD00-40F5-93D0-20D08224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C6E4-9DF8-425B-8FE7-23DE1E2E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472EB-C1E2-4786-9541-EE59408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4DAD8-9802-464B-8B1D-5703F9AD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6A38-69D8-4750-8E61-D4CDD726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2F467-DA03-481D-AAF9-44FF44CA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C322D-23AC-45AA-AD66-0A6E19C3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9D46B-CF90-4B0D-B8CD-3CBEDF85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128ED-3AD7-4BDE-B72B-C45E968C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288-0720-4689-925F-D46A01A2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284C-9F14-431D-9DAB-0D2DDF93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F970-E2D8-425F-9710-7CCE414B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D7626-DDF5-4893-89B1-E475E69A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A20C6-68F1-4523-A959-71989952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D3B6-0577-4144-8063-40299D3B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A914-FF80-42B4-9C13-0A9D39E4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5E961-4A54-4B1F-94E2-1DF02BDC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C1A55-6A17-4E3A-9A05-4F75FE43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FD9A0-1BA0-4224-B005-7A5C610C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239-C0F1-4B53-A9F0-35E8A8DE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061-7E67-4058-9CD9-65011237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145-8CEE-4FBC-8823-FB1C83FD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145-186D-4A1B-9D95-E97885A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762-05B2-4017-9209-EB0AA5DB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ADE3-F7DC-456D-B692-0C81C11F723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8F6F-3229-492F-9E25-86CE2A2B604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8103-B4F3-4089-9775-6F2B14427C5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8488-2173-475C-BD5B-4C25FBD2583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9"/>
          <p:cNvSpPr/>
          <p:nvPr/>
        </p:nvSpPr>
        <p:spPr>
          <a:xfrm>
            <a:off x="1905120" y="1523880"/>
            <a:ext cx="5257800" cy="947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647720" y="406440"/>
            <a:ext cx="5735880" cy="76428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8: Genetics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584280" y="2435400"/>
            <a:ext cx="7950240" cy="4270320"/>
            <a:chOff x="584280" y="2435400"/>
            <a:chExt cx="7950240" cy="4270320"/>
          </a:xfrm>
        </p:grpSpPr>
        <p:pic>
          <p:nvPicPr>
            <p:cNvPr id="198" name="Picture 18" descr=""/>
            <p:cNvPicPr/>
            <p:nvPr/>
          </p:nvPicPr>
          <p:blipFill>
            <a:blip r:embed="rId1"/>
            <a:srcRect l="9192" t="0" r="0" b="0"/>
            <a:stretch/>
          </p:blipFill>
          <p:spPr>
            <a:xfrm>
              <a:off x="749160" y="3019320"/>
              <a:ext cx="4318920" cy="30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7"/>
            <p:cNvSpPr/>
            <p:nvPr/>
          </p:nvSpPr>
          <p:spPr>
            <a:xfrm>
              <a:off x="584280" y="2435400"/>
              <a:ext cx="7950240" cy="42703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027" descr="hyd8760x_0201"/>
            <p:cNvPicPr/>
            <p:nvPr/>
          </p:nvPicPr>
          <p:blipFill>
            <a:blip r:embed="rId2"/>
            <a:srcRect l="0" t="6984" r="0" b="2679"/>
            <a:stretch/>
          </p:blipFill>
          <p:spPr>
            <a:xfrm>
              <a:off x="5142240" y="2543400"/>
              <a:ext cx="3144600" cy="40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5"/>
          <p:cNvGrpSpPr/>
          <p:nvPr/>
        </p:nvGrpSpPr>
        <p:grpSpPr>
          <a:xfrm>
            <a:off x="380880" y="3124080"/>
            <a:ext cx="3047760" cy="2699640"/>
            <a:chOff x="380880" y="3124080"/>
            <a:chExt cx="3047760" cy="2699640"/>
          </a:xfrm>
        </p:grpSpPr>
        <p:sp>
          <p:nvSpPr>
            <p:cNvPr id="301" name="Text Box 6"/>
            <p:cNvSpPr/>
            <p:nvPr/>
          </p:nvSpPr>
          <p:spPr>
            <a:xfrm>
              <a:off x="456840" y="434340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nstantia"/>
                </a:rPr>
                <a:t>Genoty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7"/>
            <p:cNvSpPr/>
            <p:nvPr/>
          </p:nvSpPr>
          <p:spPr>
            <a:xfrm>
              <a:off x="380880" y="4876560"/>
              <a:ext cx="30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nstantia"/>
                </a:rPr>
                <a:t>(Genetic make up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"/>
            <p:cNvSpPr/>
            <p:nvPr/>
          </p:nvSpPr>
          <p:spPr>
            <a:xfrm>
              <a:off x="1752480" y="31240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9"/>
          <p:cNvSpPr/>
          <p:nvPr/>
        </p:nvSpPr>
        <p:spPr>
          <a:xfrm>
            <a:off x="101448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06" name="Text Box 11"/>
            <p:cNvSpPr/>
            <p:nvPr/>
          </p:nvSpPr>
          <p:spPr>
            <a:xfrm>
              <a:off x="533520" y="533520"/>
              <a:ext cx="25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nstantia"/>
                </a:rPr>
                <a:t>Phenoty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2"/>
            <p:cNvSpPr/>
            <p:nvPr/>
          </p:nvSpPr>
          <p:spPr>
            <a:xfrm>
              <a:off x="914400" y="990720"/>
              <a:ext cx="19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ff"/>
                  </a:solidFill>
                  <a:latin typeface="Constantia"/>
                </a:rPr>
                <a:t>(Colour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4"/>
          <p:cNvGrpSpPr/>
          <p:nvPr/>
        </p:nvGrpSpPr>
        <p:grpSpPr>
          <a:xfrm>
            <a:off x="4038480" y="3184560"/>
            <a:ext cx="4648320" cy="777960"/>
            <a:chOff x="4038480" y="3184560"/>
            <a:chExt cx="4648320" cy="777960"/>
          </a:xfrm>
        </p:grpSpPr>
        <p:sp>
          <p:nvSpPr>
            <p:cNvPr id="310" name="Oval 15"/>
            <p:cNvSpPr/>
            <p:nvPr/>
          </p:nvSpPr>
          <p:spPr>
            <a:xfrm>
              <a:off x="4038480" y="320040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"/>
            <p:cNvSpPr/>
            <p:nvPr/>
          </p:nvSpPr>
          <p:spPr>
            <a:xfrm>
              <a:off x="7924680" y="318456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4876920" y="32306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Constantia"/>
                </a:rPr>
                <a:t>1) Homozygo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8"/>
          <p:cNvGrpSpPr/>
          <p:nvPr/>
        </p:nvGrpSpPr>
        <p:grpSpPr>
          <a:xfrm>
            <a:off x="4114800" y="4952880"/>
            <a:ext cx="3809880" cy="838440"/>
            <a:chOff x="4114800" y="4952880"/>
            <a:chExt cx="3809880" cy="838440"/>
          </a:xfrm>
        </p:grpSpPr>
        <p:sp>
          <p:nvSpPr>
            <p:cNvPr id="314" name="Oval 19"/>
            <p:cNvSpPr/>
            <p:nvPr/>
          </p:nvSpPr>
          <p:spPr>
            <a:xfrm>
              <a:off x="4114800" y="4952880"/>
              <a:ext cx="838080" cy="838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20"/>
            <p:cNvSpPr/>
            <p:nvPr/>
          </p:nvSpPr>
          <p:spPr>
            <a:xfrm>
              <a:off x="5029200" y="510552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Constantia"/>
                </a:rPr>
                <a:t>2) Heterozygo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1"/>
          <p:cNvSpPr/>
          <p:nvPr/>
        </p:nvSpPr>
        <p:spPr>
          <a:xfrm>
            <a:off x="4038480" y="395460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identical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allel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 المتماثل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a character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4114800" y="579924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differen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allel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 المختلف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a character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3809880" y="228600"/>
            <a:ext cx="5181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cc"/>
                </a:solidFill>
                <a:latin typeface="Constantia"/>
              </a:rPr>
              <a:t>Phenotype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راز المظهر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 description of an organism’s appearanc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ظه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3886200" y="1467000"/>
            <a:ext cx="51055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cc"/>
                </a:solidFill>
                <a:latin typeface="Constantia"/>
              </a:rPr>
              <a:t>Genotype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راز الجي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 description of an organism’s genetic makeup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ركيب الجيني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. Genotype may be eit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5791320" y="3029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Majalla UI"/>
              </a:rPr>
              <a:t>متماثل الجي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5943600" y="485604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باين الجي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75960" y="1066680"/>
            <a:ext cx="838188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lants have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ame phenotyp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but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ifferent genotype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nly way to produ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white phenotype is t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ces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p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for the flower-col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Genotypic ratio: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بة الجي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xpected numbers of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geno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Phenotypic ratio: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بة المظه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xpected numbers of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phenotype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67080" y="2438280"/>
            <a:ext cx="4827600" cy="41608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Phenotypic and genotypic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5960" y="1899720"/>
            <a:ext cx="4267080" cy="22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By Test cross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Crosses any organism with a recessive homozygo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an determine the identity of the unknown alle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52280" y="44956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Question: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What is the result of crossing between plants with purple and white flowe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713880"/>
            <a:ext cx="84960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ow could Mendel determine the F2 genotype as either homozygous dominant or heterozygous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Picture 7" descr="http://www.zo.utexas.edu/faculty/sjasper/images/14.6.gif"/>
          <p:cNvPicPr/>
          <p:nvPr/>
        </p:nvPicPr>
        <p:blipFill>
          <a:blip r:embed="rId1"/>
          <a:srcRect l="8499" t="2564" r="7183" b="5745"/>
          <a:stretch/>
        </p:blipFill>
        <p:spPr>
          <a:xfrm>
            <a:off x="4495680" y="1282680"/>
            <a:ext cx="4513320" cy="5423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05520" y="1066680"/>
            <a:ext cx="4011480" cy="56390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76320" y="1066680"/>
            <a:ext cx="5029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 was born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2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n Austria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مسا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5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Mendel began his classic experiments with the garde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ea plan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بات البازلاء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 discovered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laws of heredit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وانين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راث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plants and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 died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8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y a kidney dis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pea plant has mal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tame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د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and female (carpel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كرابل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nature, pea plants typical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lf-fertiliz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تلقيح ذات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rtilizing ova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ويضات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their own polle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بوب اللقاح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wever, Mendel could also move pollens from one plant to another to cross-pollinat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لقيح خلط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85800" y="2286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Mendel’s experimental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nstantia"/>
              </a:rPr>
              <a:t>Three steps of Mendel’s experiment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"/>
          <p:cNvGrpSpPr/>
          <p:nvPr/>
        </p:nvGrpSpPr>
        <p:grpSpPr>
          <a:xfrm>
            <a:off x="685800" y="1149480"/>
            <a:ext cx="7772400" cy="5556240"/>
            <a:chOff x="685800" y="1149480"/>
            <a:chExt cx="7772400" cy="5556240"/>
          </a:xfrm>
        </p:grpSpPr>
        <p:pic>
          <p:nvPicPr>
            <p:cNvPr id="209" name="Picture 9" descr="p84"/>
            <p:cNvPicPr/>
            <p:nvPr/>
          </p:nvPicPr>
          <p:blipFill>
            <a:blip r:embed="rId1"/>
            <a:srcRect l="2808" t="0" r="68062" b="88412"/>
            <a:stretch/>
          </p:blipFill>
          <p:spPr>
            <a:xfrm>
              <a:off x="761760" y="1683000"/>
              <a:ext cx="2616120" cy="52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0" name="Group 10"/>
            <p:cNvGrpSpPr/>
            <p:nvPr/>
          </p:nvGrpSpPr>
          <p:grpSpPr>
            <a:xfrm>
              <a:off x="3429000" y="1149480"/>
              <a:ext cx="5029200" cy="5556240"/>
              <a:chOff x="3429000" y="1149480"/>
              <a:chExt cx="5029200" cy="5556240"/>
            </a:xfrm>
          </p:grpSpPr>
          <p:pic>
            <p:nvPicPr>
              <p:cNvPr id="211" name="Picture 6" descr=""/>
              <p:cNvPicPr/>
              <p:nvPr/>
            </p:nvPicPr>
            <p:blipFill>
              <a:blip r:embed="rId2"/>
              <a:srcRect l="0" t="0" r="11666" b="46683"/>
              <a:stretch/>
            </p:blipFill>
            <p:spPr>
              <a:xfrm>
                <a:off x="3429000" y="1149480"/>
                <a:ext cx="5029200" cy="31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Picture 10" descr=""/>
              <p:cNvPicPr/>
              <p:nvPr/>
            </p:nvPicPr>
            <p:blipFill>
              <a:blip r:embed="rId3"/>
              <a:srcRect l="0" t="55320" r="7017" b="3357"/>
              <a:stretch/>
            </p:blipFill>
            <p:spPr>
              <a:xfrm>
                <a:off x="3429000" y="4412520"/>
                <a:ext cx="5029200" cy="2293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3" name="Picture 9" descr="p84"/>
            <p:cNvPicPr/>
            <p:nvPr/>
          </p:nvPicPr>
          <p:blipFill>
            <a:blip r:embed="rId4"/>
            <a:srcRect l="42816" t="0" r="39496" b="88412"/>
            <a:stretch/>
          </p:blipFill>
          <p:spPr>
            <a:xfrm>
              <a:off x="685800" y="3283560"/>
              <a:ext cx="1588320" cy="52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9" descr="p84"/>
            <p:cNvPicPr/>
            <p:nvPr/>
          </p:nvPicPr>
          <p:blipFill>
            <a:blip r:embed="rId5"/>
            <a:srcRect l="72389" t="0" r="10385" b="88412"/>
            <a:stretch/>
          </p:blipFill>
          <p:spPr>
            <a:xfrm>
              <a:off x="761760" y="5029560"/>
              <a:ext cx="1547280" cy="52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324000" y="1227240"/>
            <a:ext cx="8515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actor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also referred to these F1 (first generation) individuals a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ybrids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جين (خليط)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cause the offspring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ل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re a mixture from parents with different tr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 will refer to these offspring a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monohybrid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ecause they are hybrid for only one characteris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cause all the F1 plants we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urp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Mendel referred t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urple flow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trai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ة سائد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white flow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recessive trai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صفة متنح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wondered what happened to the white traits in the F1 generation. Therefore,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elf-fertiliz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as done to produce the second generation or F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cross produced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purpl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whit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tio of traits in the F2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nstantia"/>
              </a:rPr>
              <a:t>Mendel’s Results and Conclu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nstantia"/>
              </a:rPr>
              <a:t>The laws of Mendel in genet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50920" y="1143000"/>
            <a:ext cx="7902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First law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greg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انون انعزال الصف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Second law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dependent assortme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انون التوزيع الحر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152280" y="2286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First: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two alle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a characteristic are isolated into separate gametes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3301920"/>
            <a:ext cx="8610480" cy="389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as exhibit a variety of contrasting trai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ات متضادة (متباينة)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ven trait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3:1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rati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wo traits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ihybrid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among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fspring when he conducted crosses f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ix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ther characteristics, each represented by two different varieti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تين مختلفتين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produc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ذور مُستدير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plant produc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wrinkled seeds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ذور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ُجَعد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75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5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the second low in lecture 9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23760" y="380880"/>
            <a:ext cx="9067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results of Mendel’s F1 crosses from seven characteristics in pea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://gathabiotens.files.wordpress.com/2010/08/c7_14_1_traits1.jpg"/>
          <p:cNvPicPr/>
          <p:nvPr/>
        </p:nvPicPr>
        <p:blipFill>
          <a:blip r:embed="rId1"/>
          <a:srcRect l="0" t="6155" r="0" b="1458"/>
          <a:stretch/>
        </p:blipFill>
        <p:spPr>
          <a:xfrm>
            <a:off x="2362320" y="1014480"/>
            <a:ext cx="4343400" cy="568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6320" y="380520"/>
            <a:ext cx="868680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رض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 explain these resul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.  Alternative version of the same gene is called alle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fferent alleles vary somewha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وعاً ما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sequence of nucleotides at the specific locu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و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or each characteristic, an organism inherit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رث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wo alleles, one f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pa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the flower-color example, the F1 plants inherited a purple-flower allele from one parent and a white-flower allele from the oth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f the two alleles differ, one of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m will b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domina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and th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ther 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recessiv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two alleles for a characteristic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re separated (segregated) int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eparate  gametes and aggregate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gain by fertiliz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719600" y="3505320"/>
            <a:ext cx="4348080" cy="31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Rectangle 7"/>
          <p:cNvSpPr/>
          <p:nvPr/>
        </p:nvSpPr>
        <p:spPr>
          <a:xfrm>
            <a:off x="0" y="34290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rcRect l="2844" t="2658" r="4947" b="4466"/>
          <a:stretch/>
        </p:blipFill>
        <p:spPr>
          <a:xfrm>
            <a:off x="4876920" y="480960"/>
            <a:ext cx="4149720" cy="614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1" name="Rectangle 7"/>
          <p:cNvSpPr/>
          <p:nvPr/>
        </p:nvSpPr>
        <p:spPr>
          <a:xfrm>
            <a:off x="76320" y="304920"/>
            <a:ext cx="4724280" cy="74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ybrids will produce two classes of gametes, half with the purple-flower allele and half with the white-flower all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uring self-pollination, the gametes of these two classes unite random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can produce four equally likely combinations of sperm and ov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 Punnett squar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مربع بانيت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dicts the results of a genetic cross between individuals of known genotyp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راز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ـجي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’s model accounts for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: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ratio in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A8EE-ADDD-426A-B8D7-C8B5226D7C6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4241880" y="5943600"/>
            <a:ext cx="4876560" cy="7621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25560" y="5943600"/>
            <a:ext cx="4114800" cy="7621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37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50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53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56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7"/>
          <p:cNvSpPr/>
          <p:nvPr/>
        </p:nvSpPr>
        <p:spPr>
          <a:xfrm>
            <a:off x="914400" y="4967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2000" spc="-1" strike="noStrike">
                <a:solidFill>
                  <a:srgbClr val="ff00ff"/>
                </a:solidFill>
                <a:latin typeface="Constantia"/>
              </a:rPr>
              <a:t>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5562720" y="60958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i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5029200" y="5010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20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0"/>
          <p:cNvSpPr/>
          <p:nvPr/>
        </p:nvSpPr>
        <p:spPr>
          <a:xfrm>
            <a:off x="685800" y="61102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1" i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64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268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272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276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48"/>
          <p:cNvGrpSpPr/>
          <p:nvPr/>
        </p:nvGrpSpPr>
        <p:grpSpPr>
          <a:xfrm>
            <a:off x="25560" y="4006800"/>
            <a:ext cx="3961440" cy="703800"/>
            <a:chOff x="25560" y="4006800"/>
            <a:chExt cx="3961440" cy="703800"/>
          </a:xfrm>
        </p:grpSpPr>
        <p:grpSp>
          <p:nvGrpSpPr>
            <p:cNvPr id="280" name="Group 49"/>
            <p:cNvGrpSpPr/>
            <p:nvPr/>
          </p:nvGrpSpPr>
          <p:grpSpPr>
            <a:xfrm>
              <a:off x="2082600" y="4006800"/>
              <a:ext cx="1904400" cy="703800"/>
              <a:chOff x="2082600" y="4006800"/>
              <a:chExt cx="1904400" cy="703800"/>
            </a:xfrm>
          </p:grpSpPr>
          <p:sp>
            <p:nvSpPr>
              <p:cNvPr id="281" name="Text Box 50"/>
              <p:cNvSpPr/>
              <p:nvPr/>
            </p:nvSpPr>
            <p:spPr>
              <a:xfrm>
                <a:off x="2515320" y="4006800"/>
                <a:ext cx="1471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Recessive alle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nstantia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4"/>
          <p:cNvGrpSpPr/>
          <p:nvPr/>
        </p:nvGrpSpPr>
        <p:grpSpPr>
          <a:xfrm>
            <a:off x="380880" y="76320"/>
            <a:ext cx="2971440" cy="914400"/>
            <a:chOff x="380880" y="76320"/>
            <a:chExt cx="2971440" cy="914400"/>
          </a:xfrm>
        </p:grpSpPr>
        <p:sp>
          <p:nvSpPr>
            <p:cNvPr id="286" name="Oval 55"/>
            <p:cNvSpPr/>
            <p:nvPr/>
          </p:nvSpPr>
          <p:spPr>
            <a:xfrm>
              <a:off x="380880" y="7632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56"/>
            <p:cNvSpPr/>
            <p:nvPr/>
          </p:nvSpPr>
          <p:spPr>
            <a:xfrm>
              <a:off x="2333520" y="7632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57"/>
            <p:cNvSpPr/>
            <p:nvPr/>
          </p:nvSpPr>
          <p:spPr>
            <a:xfrm>
              <a:off x="1399680" y="22896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290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3"/>
          <p:cNvSpPr/>
          <p:nvPr/>
        </p:nvSpPr>
        <p:spPr>
          <a:xfrm>
            <a:off x="3476520" y="8424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4"/>
          <p:cNvSpPr/>
          <p:nvPr/>
        </p:nvSpPr>
        <p:spPr>
          <a:xfrm>
            <a:off x="762120" y="9907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Hom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5"/>
          <p:cNvSpPr/>
          <p:nvPr/>
        </p:nvSpPr>
        <p:spPr>
          <a:xfrm>
            <a:off x="5586480" y="9716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User</cp:lastModifiedBy>
  <dcterms:modified xsi:type="dcterms:W3CDTF">2015-10-13T05:29:10Z</dcterms:modified>
  <cp:revision>233</cp:revision>
  <dc:subject/>
  <dc:title>Slide 1</dc:title>
</cp:coreProperties>
</file>