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4B1-65E4-4FB4-B27D-97995252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A55-5222-43CD-BAC7-380C3AA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6C1-4A20-4A8D-BF91-4FBC34C5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304-343F-4EE6-899A-B5E38886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BAE-AD58-4C1E-ADBB-BCA1BEC2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C1E-DF43-4F89-96CC-3BC64CB8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CAFA-D15D-429D-8DBD-4640603F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53E6-5AB0-44F6-BB53-B8058000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B370-52B1-4223-9440-1D0F69D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403-5F3C-432F-92DD-B7A968D3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4F44-B73D-450A-B295-5AF582A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4E7-ECF4-4DB4-9761-99C1542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D552-7E2E-4209-8B48-A0F4E65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9179-4377-4098-8859-9E69513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AFF9-A3AA-451D-BFAA-218D70DD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9B90-A411-47DB-98F9-779F882E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3C3B-BB97-418B-91DC-B05DE717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AB5C-9989-441B-B73A-30782436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8718-0C7D-42BF-ABBE-ACBD4FC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7CE9-E98B-4E6A-BBD9-695FAA4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70AF-D9A1-4B74-A430-30377F4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3DE9-DA7C-4A9C-8AE3-C6EA1A7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531-8F5B-4804-8631-951FBC8B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AD26-0E73-4FA5-8C43-2D2F18A2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F93E-F5D6-415A-BB02-A3BC1EF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E526-FEBB-4209-AD6D-B9B99AE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09AF-A065-4B9F-B605-8DD1482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0CA9-BDB7-4BCD-A2CB-55D1789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D2DA-09EE-4BD6-BCC4-8C88B7DF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3495-D75B-49EA-92A7-A34E816B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C5E3-6F37-4DD3-8494-7FEE4E65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59E7-111F-4D61-B44D-96DF4A1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8418-946E-4D15-A06E-4F5F9B4D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EB5-F90B-457E-AB0E-4A39489B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CFEF-7819-4486-B098-6D16549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C696-FF69-40C5-B2BB-9C45844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0068-F503-475E-885E-79F17A8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DF35-4126-41CC-8198-930410E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47A2-DFA4-47D0-AB56-DDA3BE2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4F44-8F9A-4BDB-938D-EACA893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FD3F-7EB7-4662-BAE8-71230B8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6F83-FB02-4611-9F96-5D0F0480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055B-B6DE-48E7-81BE-C95DF20F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DC6-6A97-4BE3-8C35-E918750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4AA-0E62-449B-A063-CAB8F658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3F7-FBBE-4BF3-971B-A0FD520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9E3-A87D-40EB-BCE2-DB8AA13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44E-245F-4C97-9D03-54F8C08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101F-6D57-46B9-A7A5-24F4660F259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7CA9-696D-4F75-92ED-2DF9F52D1E7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681E-D6A2-4902-88B3-14E0E552E94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0355-B761-41F0-A5A2-B2F6FD734E1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47720" y="406440"/>
            <a:ext cx="573588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8: Genetics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380880" y="3124080"/>
            <a:ext cx="3047760" cy="2699640"/>
            <a:chOff x="380880" y="3124080"/>
            <a:chExt cx="3047760" cy="2699640"/>
          </a:xfrm>
        </p:grpSpPr>
        <p:sp>
          <p:nvSpPr>
            <p:cNvPr id="301" name="Text Box 6"/>
            <p:cNvSpPr/>
            <p:nvPr/>
          </p:nvSpPr>
          <p:spPr>
            <a:xfrm>
              <a:off x="456840" y="43434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G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80880" y="487656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nstantia"/>
                </a:rPr>
                <a:t>(Genetic make u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1752480" y="3124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9"/>
          <p:cNvSpPr/>
          <p:nvPr/>
        </p:nvSpPr>
        <p:spPr>
          <a:xfrm>
            <a:off x="101448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06" name="Text Box 11"/>
            <p:cNvSpPr/>
            <p:nvPr/>
          </p:nvSpPr>
          <p:spPr>
            <a:xfrm>
              <a:off x="533520" y="53352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Ph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914400" y="99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ff"/>
                  </a:solidFill>
                  <a:latin typeface="Constantia"/>
                </a:rPr>
                <a:t>(Colour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4038480" y="3184560"/>
            <a:ext cx="4648320" cy="777960"/>
            <a:chOff x="4038480" y="3184560"/>
            <a:chExt cx="4648320" cy="777960"/>
          </a:xfrm>
        </p:grpSpPr>
        <p:sp>
          <p:nvSpPr>
            <p:cNvPr id="310" name="Oval 15"/>
            <p:cNvSpPr/>
            <p:nvPr/>
          </p:nvSpPr>
          <p:spPr>
            <a:xfrm>
              <a:off x="4038480" y="320040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7924680" y="31845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4876920" y="32306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1) Hom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4114800" y="4952880"/>
            <a:ext cx="3809880" cy="838440"/>
            <a:chOff x="4114800" y="4952880"/>
            <a:chExt cx="3809880" cy="838440"/>
          </a:xfrm>
        </p:grpSpPr>
        <p:sp>
          <p:nvSpPr>
            <p:cNvPr id="314" name="Oval 19"/>
            <p:cNvSpPr/>
            <p:nvPr/>
          </p:nvSpPr>
          <p:spPr>
            <a:xfrm>
              <a:off x="4114800" y="4952880"/>
              <a:ext cx="838080" cy="838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5029200" y="5105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2) Heter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1"/>
          <p:cNvSpPr/>
          <p:nvPr/>
        </p:nvSpPr>
        <p:spPr>
          <a:xfrm>
            <a:off x="4038480" y="39546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تماثل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114800" y="579924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differen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ختلف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3809880" y="228600"/>
            <a:ext cx="518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Phenotyp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مظهر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appearanc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ظه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3886200" y="1467000"/>
            <a:ext cx="5105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Genotype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genetic makeup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كيب الجيني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. Genotype may be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5791320" y="3029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Majalla UI"/>
              </a:rPr>
              <a:t>متماثل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5943600" y="48560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باين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960" y="1066680"/>
            <a:ext cx="83818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have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ame phenotyp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bu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fferent genotyp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nly way to produ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hite phenotype is 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for the flower-co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G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ج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geno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Ph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مظه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phenotyp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67080" y="2438280"/>
            <a:ext cx="4827600" cy="4160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henotypic and genotyp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960" y="1899720"/>
            <a:ext cx="426708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By Test cross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Crosses any organism with a recessive homozygo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n determine the identity of the unknown alle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522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Question: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What is the result of crossing between plants with purple and white flow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713880"/>
            <a:ext cx="8496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ow could Mendel determine the F2 genotype as either homozygous dominant or heterozygous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7" descr="http://www.zo.utexas.edu/faculty/sjasper/images/14.6.gif"/>
          <p:cNvPicPr/>
          <p:nvPr/>
        </p:nvPicPr>
        <p:blipFill>
          <a:blip r:embed="rId1"/>
          <a:srcRect l="8499" t="2564" r="7183" b="5745"/>
          <a:stretch/>
        </p:blipFill>
        <p:spPr>
          <a:xfrm>
            <a:off x="4495680" y="1282680"/>
            <a:ext cx="4513320" cy="542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05520" y="1066680"/>
            <a:ext cx="4011480" cy="5639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76320" y="1066680"/>
            <a:ext cx="5029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was born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2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Austr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مس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5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began his classic experiments with the gard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ea pla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بات البازلاء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scovere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laws of heredit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وانين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plants 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8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 a kidney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ea plant has mal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am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nd female (carpe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اب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nature, pea plants typic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lf-fertiliz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تلقيح ذات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ing ov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ويضا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ir own poll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بوب اللقاح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Mendel could also move pollens from one plant to another to cross-pollina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لقيح خلط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5800" y="2286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Mendel’s experiment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Three steps of Mendel’s experimen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685800" y="1149480"/>
            <a:ext cx="7772400" cy="5556240"/>
            <a:chOff x="685800" y="1149480"/>
            <a:chExt cx="7772400" cy="5556240"/>
          </a:xfrm>
        </p:grpSpPr>
        <p:pic>
          <p:nvPicPr>
            <p:cNvPr id="209" name="Picture 9" descr="p84"/>
            <p:cNvPicPr/>
            <p:nvPr/>
          </p:nvPicPr>
          <p:blipFill>
            <a:blip r:embed="rId1"/>
            <a:srcRect l="2808" t="0" r="68062" b="88412"/>
            <a:stretch/>
          </p:blipFill>
          <p:spPr>
            <a:xfrm>
              <a:off x="761760" y="1683000"/>
              <a:ext cx="2616120" cy="52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Group 10"/>
            <p:cNvGrpSpPr/>
            <p:nvPr/>
          </p:nvGrpSpPr>
          <p:grpSpPr>
            <a:xfrm>
              <a:off x="3429000" y="1149480"/>
              <a:ext cx="5029200" cy="5556240"/>
              <a:chOff x="3429000" y="1149480"/>
              <a:chExt cx="5029200" cy="5556240"/>
            </a:xfrm>
          </p:grpSpPr>
          <p:pic>
            <p:nvPicPr>
              <p:cNvPr id="211" name="Picture 6" descr=""/>
              <p:cNvPicPr/>
              <p:nvPr/>
            </p:nvPicPr>
            <p:blipFill>
              <a:blip r:embed="rId2"/>
              <a:srcRect l="0" t="0" r="11666" b="46683"/>
              <a:stretch/>
            </p:blipFill>
            <p:spPr>
              <a:xfrm>
                <a:off x="3429000" y="1149480"/>
                <a:ext cx="5029200" cy="31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10" descr=""/>
              <p:cNvPicPr/>
              <p:nvPr/>
            </p:nvPicPr>
            <p:blipFill>
              <a:blip r:embed="rId3"/>
              <a:srcRect l="0" t="55320" r="7017" b="3357"/>
              <a:stretch/>
            </p:blipFill>
            <p:spPr>
              <a:xfrm>
                <a:off x="3429000" y="4412520"/>
                <a:ext cx="5029200" cy="229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3" name="Picture 9" descr="p84"/>
            <p:cNvPicPr/>
            <p:nvPr/>
          </p:nvPicPr>
          <p:blipFill>
            <a:blip r:embed="rId4"/>
            <a:srcRect l="42816" t="0" r="39496" b="88412"/>
            <a:stretch/>
          </p:blipFill>
          <p:spPr>
            <a:xfrm>
              <a:off x="685800" y="3283560"/>
              <a:ext cx="1588320" cy="5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p84"/>
            <p:cNvPicPr/>
            <p:nvPr/>
          </p:nvPicPr>
          <p:blipFill>
            <a:blip r:embed="rId5"/>
            <a:srcRect l="72389" t="0" r="10385" b="88412"/>
            <a:stretch/>
          </p:blipFill>
          <p:spPr>
            <a:xfrm>
              <a:off x="761760" y="5029560"/>
              <a:ext cx="1547280" cy="52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1227240"/>
            <a:ext cx="85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also referred to these F1 (first generation) individuals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brid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جين (خليط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the offspring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a mixture from parents with different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will refer to these offspring a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mono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they are hybrid for only one character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all the F1 plants we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referr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ة سائد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hit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صفة متنح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wondered what happened to the white traits in the F1 generation. Therefor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lf-fertiliz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one to produce the second generation or F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ross produced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purpl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whi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tio of traits in the F2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Mendel’s Results and 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The laws of Mendel in gene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0920" y="1143000"/>
            <a:ext cx="7902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irst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greg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نعزال الصف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Second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dependent assort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لتوزيع الحر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First: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wo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 are isolated into separate gamet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3301920"/>
            <a:ext cx="8610480" cy="38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as exhibit a variety of contrasting trai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تضادة (متباينة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ven trai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3:1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at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wo traits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mong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when he conducted crosses f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ther characteristics, each represented by two different variet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تين مختلفتين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 مُستدير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plant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rinkled seed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ُجَعد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7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the second low in lecture 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3760" y="380880"/>
            <a:ext cx="906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results of Mendel’s F1 crosses from seven characteristics in pea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://gathabiotens.files.wordpress.com/2010/08/c7_14_1_traits1.jpg"/>
          <p:cNvPicPr/>
          <p:nvPr/>
        </p:nvPicPr>
        <p:blipFill>
          <a:blip r:embed="rId1"/>
          <a:srcRect l="0" t="6155" r="0" b="1458"/>
          <a:stretch/>
        </p:blipFill>
        <p:spPr>
          <a:xfrm>
            <a:off x="2362320" y="1014480"/>
            <a:ext cx="4343400" cy="568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320" y="380520"/>
            <a:ext cx="868680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ض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explain these resul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 Alternative version of the same gene is called alle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alleles vary somewh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عاً م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equence of nucleotides at the specific locu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و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ach characteristic, an organism inher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رث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wo alleles, one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flower-color example, the F1 plants inherited a purple-flower allele from one parent and a white-flower allele from the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f the two alleles differ, one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m will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th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alleles for a characterist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separated (segregated) in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eparate  gametes and aggrega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gain by ferti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3505320"/>
            <a:ext cx="434808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7"/>
          <p:cNvSpPr/>
          <p:nvPr/>
        </p:nvSpPr>
        <p:spPr>
          <a:xfrm>
            <a:off x="0" y="3429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2844" t="2658" r="4947" b="4466"/>
          <a:stretch/>
        </p:blipFill>
        <p:spPr>
          <a:xfrm>
            <a:off x="4876920" y="480960"/>
            <a:ext cx="414972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76320" y="304920"/>
            <a:ext cx="4724280" cy="74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brids will produce two classes of gametes, half with the purple-flower allele and half with the white-flower all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self-pollination, the gametes of these two classes unite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an produce four equally likely combinations of sperm and ov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 Punnett squa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ربع باني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dicts the results of a genetic cross between individuals of known genotyp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ـ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’s model accounts for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: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atio in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6A3-B512-44A9-9887-0AC7699A988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41880" y="5943600"/>
            <a:ext cx="487656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5560" y="5943600"/>
            <a:ext cx="411480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37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50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53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56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7"/>
          <p:cNvSpPr/>
          <p:nvPr/>
        </p:nvSpPr>
        <p:spPr>
          <a:xfrm>
            <a:off x="914400" y="4967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5562720" y="60958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029200" y="5010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685800" y="6110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64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268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272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276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25560" y="4006800"/>
            <a:ext cx="3961440" cy="703800"/>
            <a:chOff x="25560" y="4006800"/>
            <a:chExt cx="3961440" cy="703800"/>
          </a:xfrm>
        </p:grpSpPr>
        <p:grpSp>
          <p:nvGrpSpPr>
            <p:cNvPr id="280" name="Group 49"/>
            <p:cNvGrpSpPr/>
            <p:nvPr/>
          </p:nvGrpSpPr>
          <p:grpSpPr>
            <a:xfrm>
              <a:off x="2082600" y="4006800"/>
              <a:ext cx="1904400" cy="703800"/>
              <a:chOff x="2082600" y="4006800"/>
              <a:chExt cx="1904400" cy="703800"/>
            </a:xfrm>
          </p:grpSpPr>
          <p:sp>
            <p:nvSpPr>
              <p:cNvPr id="281" name="Text Box 50"/>
              <p:cNvSpPr/>
              <p:nvPr/>
            </p:nvSpPr>
            <p:spPr>
              <a:xfrm>
                <a:off x="2515320" y="4006800"/>
                <a:ext cx="1471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Recessive alle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nstantia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4"/>
          <p:cNvGrpSpPr/>
          <p:nvPr/>
        </p:nvGrpSpPr>
        <p:grpSpPr>
          <a:xfrm>
            <a:off x="380880" y="76320"/>
            <a:ext cx="2971440" cy="914400"/>
            <a:chOff x="380880" y="76320"/>
            <a:chExt cx="2971440" cy="914400"/>
          </a:xfrm>
        </p:grpSpPr>
        <p:sp>
          <p:nvSpPr>
            <p:cNvPr id="286" name="Oval 55"/>
            <p:cNvSpPr/>
            <p:nvPr/>
          </p:nvSpPr>
          <p:spPr>
            <a:xfrm>
              <a:off x="380880" y="7632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56"/>
            <p:cNvSpPr/>
            <p:nvPr/>
          </p:nvSpPr>
          <p:spPr>
            <a:xfrm>
              <a:off x="2333520" y="7632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7"/>
            <p:cNvSpPr/>
            <p:nvPr/>
          </p:nvSpPr>
          <p:spPr>
            <a:xfrm>
              <a:off x="1399680" y="22896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290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3476520" y="8424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4"/>
          <p:cNvSpPr/>
          <p:nvPr/>
        </p:nvSpPr>
        <p:spPr>
          <a:xfrm>
            <a:off x="76212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5586480" y="971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10-13T05:29:10Z</dcterms:modified>
  <cp:revision>233</cp:revision>
  <dc:subject/>
  <dc:title>Slide 1</dc:title>
</cp:coreProperties>
</file>