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6A1-D861-42C3-800F-89FD5E2D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9BE-4354-4C72-9649-24A4CC6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352-CB77-4AD1-82EA-DD12DEE1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489-338D-4A90-A902-5D67B16B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D7B-ADED-4D17-8FB7-4408CE02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583A-954A-44D6-9B00-6669F54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876-7612-4AD8-9302-C9D3FAB2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54B-ADCB-4F83-BB70-FDE40358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9E4-DD2A-4F79-B15E-955EDC49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CDE-B6C5-41AA-9CAF-91F8FD5D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60D4-1F38-4A0E-9007-9AEF133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A31-A30C-4E97-8BC3-1E1312D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1BE-DF3A-49F7-BE25-A721484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0BF-54BE-41CC-AEC9-DC0C58A2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A1BA-283B-4B8D-AFB8-C38B9564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E782-2470-4973-8686-241D4D8D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731-97DF-430C-AC34-E407F1A6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1DC8-0CBA-4DE6-8803-764574D1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7EBF-1402-4EAF-926E-FA381C12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81AD-16EF-4666-A378-85EA6A8A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A40A-06C2-4121-B72D-0301A4A9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D6D3-8225-4D4E-BB93-F7052E4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C2B-02BE-4FD4-A9F3-9E2CFE53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1FCC-A962-4490-B181-1AD332B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2AA7-5BBC-4A31-9AC3-44E9D37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035C-D297-408C-9784-87D8A07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2D77-DB8A-41F9-8F14-7F8BA1DC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A89A-3516-408B-A753-42CAFC9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0F75-9C4E-4880-A016-24D2796B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168B-A5D5-49D6-90B6-01D563B1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05B8-5D61-451B-A466-8800432A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70D8-D33E-41C7-A7E3-EA3FD25E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2E2A-F959-4ED0-B1A7-D520986F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276-F3DB-4FD1-9067-16DC940D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4D88-DC18-4F38-9FA6-D4B8A9C4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3C48-41CE-48EE-8898-763311FE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A810-4A03-44B2-8485-74C68674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7B55-FCAA-4F0F-81F8-D327A377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5DB3-FDAB-40B2-93FD-04A904F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178B9-9A6A-46DF-B9E1-2F51341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423C-6026-41A5-BC0E-37E82BC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9B37-072D-4C55-A6FD-B460E084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A223-38AB-425B-8665-C010F10E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DBA-B09B-4CF8-B0B0-A663569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31E-1B4F-4322-8BC7-8B4FA37B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EFB-1DE3-43EA-936A-EED2458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A88-56F7-4560-9A86-344963C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A54-9468-4197-901F-3F4B69A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8E04-0FEF-42F0-A79B-1C904E09035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5CB-E6D9-48D5-8F04-77E592E7BB4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2F9C-B92E-4F42-9227-DE5BBB0D957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F56-3267-4348-A42B-E8A95A56DC3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47720" y="406440"/>
            <a:ext cx="573588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8: Genetics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380880" y="3124080"/>
            <a:ext cx="3047760" cy="2699640"/>
            <a:chOff x="380880" y="3124080"/>
            <a:chExt cx="3047760" cy="2699640"/>
          </a:xfrm>
        </p:grpSpPr>
        <p:sp>
          <p:nvSpPr>
            <p:cNvPr id="301" name="Text Box 6"/>
            <p:cNvSpPr/>
            <p:nvPr/>
          </p:nvSpPr>
          <p:spPr>
            <a:xfrm>
              <a:off x="456840" y="43434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G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80880" y="487656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(Genetic make u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1752480" y="3124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9"/>
          <p:cNvSpPr/>
          <p:nvPr/>
        </p:nvSpPr>
        <p:spPr>
          <a:xfrm>
            <a:off x="101448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06" name="Text Box 11"/>
            <p:cNvSpPr/>
            <p:nvPr/>
          </p:nvSpPr>
          <p:spPr>
            <a:xfrm>
              <a:off x="533520" y="53352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Ph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914400" y="99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ff"/>
                  </a:solidFill>
                  <a:latin typeface="Constantia"/>
                </a:rPr>
                <a:t>(Colour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4038480" y="3184560"/>
            <a:ext cx="4648320" cy="777960"/>
            <a:chOff x="4038480" y="3184560"/>
            <a:chExt cx="4648320" cy="777960"/>
          </a:xfrm>
        </p:grpSpPr>
        <p:sp>
          <p:nvSpPr>
            <p:cNvPr id="310" name="Oval 15"/>
            <p:cNvSpPr/>
            <p:nvPr/>
          </p:nvSpPr>
          <p:spPr>
            <a:xfrm>
              <a:off x="4038480" y="320040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7924680" y="31845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4876920" y="32306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1) Hom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4114800" y="4952880"/>
            <a:ext cx="3809880" cy="838440"/>
            <a:chOff x="4114800" y="4952880"/>
            <a:chExt cx="3809880" cy="838440"/>
          </a:xfrm>
        </p:grpSpPr>
        <p:sp>
          <p:nvSpPr>
            <p:cNvPr id="314" name="Oval 19"/>
            <p:cNvSpPr/>
            <p:nvPr/>
          </p:nvSpPr>
          <p:spPr>
            <a:xfrm>
              <a:off x="4114800" y="4952880"/>
              <a:ext cx="838080" cy="838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5029200" y="5105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2) Heter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1"/>
          <p:cNvSpPr/>
          <p:nvPr/>
        </p:nvSpPr>
        <p:spPr>
          <a:xfrm>
            <a:off x="4038480" y="39546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تماثل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114800" y="579924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differen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ختلف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3809880" y="228600"/>
            <a:ext cx="518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Phenotyp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مظهر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appearanc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ظه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3886200" y="1467000"/>
            <a:ext cx="5105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Genotype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genetic makeup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كيب الجيني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. Genotype may be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5791320" y="3029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Majalla UI"/>
              </a:rPr>
              <a:t>متماثل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5943600" y="48560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باين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960" y="1066680"/>
            <a:ext cx="83818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have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ame phenotyp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bu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fferent genotyp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nly way to produ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hite phenotype is 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for the flower-co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G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ج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geno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Ph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مظه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phenotyp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67080" y="2438280"/>
            <a:ext cx="4827600" cy="4160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and genotyp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960" y="1899720"/>
            <a:ext cx="426708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By Test cross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Crosses any organism with a recessive homozygo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n determine the identity of the unknown alle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522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Question: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What is the result of crossing between plants with purple and white flow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713880"/>
            <a:ext cx="8496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ow could Mendel determine the F2 genotype as either homozygous dominant or heterozygous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7" descr="http://www.zo.utexas.edu/faculty/sjasper/images/14.6.gif"/>
          <p:cNvPicPr/>
          <p:nvPr/>
        </p:nvPicPr>
        <p:blipFill>
          <a:blip r:embed="rId1"/>
          <a:srcRect l="8499" t="2564" r="7183" b="5745"/>
          <a:stretch/>
        </p:blipFill>
        <p:spPr>
          <a:xfrm>
            <a:off x="4495680" y="1282680"/>
            <a:ext cx="4513320" cy="542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05520" y="1066680"/>
            <a:ext cx="4011480" cy="5639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76320" y="1066680"/>
            <a:ext cx="5029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was born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2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Austr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مس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5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began his classic experiments with the gard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ea pla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بات البازلاء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scovere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laws of heredit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وانين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plants 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8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 a kidney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ea plant has mal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am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nd female (carpe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اب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nature, pea plants typic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lf-fertiliz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تلقيح ذات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ing ov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ويضا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ir own poll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بوب اللقاح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Mendel could also move pollens from one plant to another to cross-pollina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لقيح خلط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5800" y="2286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Mendel’s experiment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Three steps of Mendel’s experimen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685800" y="1149480"/>
            <a:ext cx="7772400" cy="5556240"/>
            <a:chOff x="685800" y="1149480"/>
            <a:chExt cx="7772400" cy="5556240"/>
          </a:xfrm>
        </p:grpSpPr>
        <p:pic>
          <p:nvPicPr>
            <p:cNvPr id="209" name="Picture 9" descr="p84"/>
            <p:cNvPicPr/>
            <p:nvPr/>
          </p:nvPicPr>
          <p:blipFill>
            <a:blip r:embed="rId1"/>
            <a:srcRect l="2808" t="0" r="68062" b="88412"/>
            <a:stretch/>
          </p:blipFill>
          <p:spPr>
            <a:xfrm>
              <a:off x="761760" y="1683000"/>
              <a:ext cx="2616120" cy="52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Group 10"/>
            <p:cNvGrpSpPr/>
            <p:nvPr/>
          </p:nvGrpSpPr>
          <p:grpSpPr>
            <a:xfrm>
              <a:off x="3429000" y="1149480"/>
              <a:ext cx="5029200" cy="5556240"/>
              <a:chOff x="3429000" y="1149480"/>
              <a:chExt cx="5029200" cy="5556240"/>
            </a:xfrm>
          </p:grpSpPr>
          <p:pic>
            <p:nvPicPr>
              <p:cNvPr id="211" name="Picture 6" descr=""/>
              <p:cNvPicPr/>
              <p:nvPr/>
            </p:nvPicPr>
            <p:blipFill>
              <a:blip r:embed="rId2"/>
              <a:srcRect l="0" t="0" r="11666" b="46683"/>
              <a:stretch/>
            </p:blipFill>
            <p:spPr>
              <a:xfrm>
                <a:off x="3429000" y="1149480"/>
                <a:ext cx="5029200" cy="31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10" descr=""/>
              <p:cNvPicPr/>
              <p:nvPr/>
            </p:nvPicPr>
            <p:blipFill>
              <a:blip r:embed="rId3"/>
              <a:srcRect l="0" t="55320" r="7017" b="3357"/>
              <a:stretch/>
            </p:blipFill>
            <p:spPr>
              <a:xfrm>
                <a:off x="3429000" y="4412520"/>
                <a:ext cx="5029200" cy="229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3" name="Picture 9" descr="p84"/>
            <p:cNvPicPr/>
            <p:nvPr/>
          </p:nvPicPr>
          <p:blipFill>
            <a:blip r:embed="rId4"/>
            <a:srcRect l="42816" t="0" r="39496" b="88412"/>
            <a:stretch/>
          </p:blipFill>
          <p:spPr>
            <a:xfrm>
              <a:off x="685800" y="3283560"/>
              <a:ext cx="1588320" cy="5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p84"/>
            <p:cNvPicPr/>
            <p:nvPr/>
          </p:nvPicPr>
          <p:blipFill>
            <a:blip r:embed="rId5"/>
            <a:srcRect l="72389" t="0" r="10385" b="88412"/>
            <a:stretch/>
          </p:blipFill>
          <p:spPr>
            <a:xfrm>
              <a:off x="761760" y="5029560"/>
              <a:ext cx="1547280" cy="52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1227240"/>
            <a:ext cx="85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also referred to these F1 (first generation) individuals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brid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جين (خليط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the offspring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a mixture from parents with different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will refer to these offspring a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mono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they are hybrid for only one character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all the F1 plants we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referr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ة سائد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hit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صفة متنح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wondered what happened to the white traits in the F1 generation. Therefor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lf-fertiliz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one to produce the second generation or F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ross produced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purpl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whi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tio of traits in the F2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Mendel’s Results and 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The laws of Mendel in gene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0920" y="1143000"/>
            <a:ext cx="7902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irst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greg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نعزال الصف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Second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dependent assort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لتوزيع الحر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First: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wo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 are isolated into separate gamet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3301920"/>
            <a:ext cx="8610480" cy="38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as exhibit a variety of contrasting trai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تضادة (متباينة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ven trai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3:1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at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wo traits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mong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when he conducted crosses f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ther characteristics, each represented by two different variet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تين مختلفتين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 مُستدير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plant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rinkled seed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ُجَعد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7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the second low in lecture 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3760" y="380880"/>
            <a:ext cx="906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e results of Mendel’s F1 crosses from seven characteristics in pea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://gathabiotens.files.wordpress.com/2010/08/c7_14_1_traits1.jpg"/>
          <p:cNvPicPr/>
          <p:nvPr/>
        </p:nvPicPr>
        <p:blipFill>
          <a:blip r:embed="rId1"/>
          <a:srcRect l="0" t="6155" r="0" b="1458"/>
          <a:stretch/>
        </p:blipFill>
        <p:spPr>
          <a:xfrm>
            <a:off x="2362320" y="1014480"/>
            <a:ext cx="4343400" cy="568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320" y="380520"/>
            <a:ext cx="868680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ض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explain these resul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 Alternative version of the same gene is called alle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alleles vary somewh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عاً م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equence of nucleotides at the specific locu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و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ach characteristic, an organism inher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رث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wo alleles, one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flower-color example, the F1 plants inherited a purple-flower allele from one parent and a white-flower allele from the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f the two alleles differ, one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m will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th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alleles for a characterist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separated (segregated) in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eparate  gametes and aggrega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gain by ferti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3505320"/>
            <a:ext cx="434808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7"/>
          <p:cNvSpPr/>
          <p:nvPr/>
        </p:nvSpPr>
        <p:spPr>
          <a:xfrm>
            <a:off x="0" y="3429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2844" t="2658" r="4947" b="4466"/>
          <a:stretch/>
        </p:blipFill>
        <p:spPr>
          <a:xfrm>
            <a:off x="4876920" y="480960"/>
            <a:ext cx="414972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76320" y="304920"/>
            <a:ext cx="4724280" cy="74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brids will produce two classes of gametes, half with the purple-flower allele and half with the white-flower all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self-pollination, the gametes of these two classes unite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an produce four equally likely combinations of sperm and ov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 Punnett squa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ربع باني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dicts the results of a genetic cross between individuals of known genotyp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ـ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’s model accounts for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: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atio in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3E4-CE19-40E0-8820-B8541E6484D4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41880" y="5943600"/>
            <a:ext cx="487656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5560" y="5943600"/>
            <a:ext cx="411480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37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50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53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56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7"/>
          <p:cNvSpPr/>
          <p:nvPr/>
        </p:nvSpPr>
        <p:spPr>
          <a:xfrm>
            <a:off x="914400" y="4967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5562720" y="60958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  <a:ea typeface="Arial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029200" y="5010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685800" y="6110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  <a:ea typeface="Arial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64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268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272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276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25560" y="4006800"/>
            <a:ext cx="3961440" cy="703800"/>
            <a:chOff x="25560" y="4006800"/>
            <a:chExt cx="3961440" cy="703800"/>
          </a:xfrm>
        </p:grpSpPr>
        <p:grpSp>
          <p:nvGrpSpPr>
            <p:cNvPr id="280" name="Group 49"/>
            <p:cNvGrpSpPr/>
            <p:nvPr/>
          </p:nvGrpSpPr>
          <p:grpSpPr>
            <a:xfrm>
              <a:off x="2082600" y="4006800"/>
              <a:ext cx="1904400" cy="703800"/>
              <a:chOff x="2082600" y="4006800"/>
              <a:chExt cx="1904400" cy="703800"/>
            </a:xfrm>
          </p:grpSpPr>
          <p:sp>
            <p:nvSpPr>
              <p:cNvPr id="281" name="Text Box 50"/>
              <p:cNvSpPr/>
              <p:nvPr/>
            </p:nvSpPr>
            <p:spPr>
              <a:xfrm>
                <a:off x="2515320" y="4006800"/>
                <a:ext cx="1471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Recessive alle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nstantia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4"/>
          <p:cNvGrpSpPr/>
          <p:nvPr/>
        </p:nvGrpSpPr>
        <p:grpSpPr>
          <a:xfrm>
            <a:off x="380880" y="76320"/>
            <a:ext cx="2971440" cy="914400"/>
            <a:chOff x="380880" y="76320"/>
            <a:chExt cx="2971440" cy="914400"/>
          </a:xfrm>
        </p:grpSpPr>
        <p:sp>
          <p:nvSpPr>
            <p:cNvPr id="286" name="Oval 55"/>
            <p:cNvSpPr/>
            <p:nvPr/>
          </p:nvSpPr>
          <p:spPr>
            <a:xfrm>
              <a:off x="380880" y="7632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56"/>
            <p:cNvSpPr/>
            <p:nvPr/>
          </p:nvSpPr>
          <p:spPr>
            <a:xfrm>
              <a:off x="2333520" y="7632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7"/>
            <p:cNvSpPr/>
            <p:nvPr/>
          </p:nvSpPr>
          <p:spPr>
            <a:xfrm>
              <a:off x="1399680" y="22896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290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3476520" y="8424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4"/>
          <p:cNvSpPr/>
          <p:nvPr/>
        </p:nvSpPr>
        <p:spPr>
          <a:xfrm>
            <a:off x="76212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5586480" y="971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Mohammed Albeshr</cp:lastModifiedBy>
  <dcterms:modified xsi:type="dcterms:W3CDTF">2017-10-21T21:54:01Z</dcterms:modified>
  <cp:revision>235</cp:revision>
  <dc:subject/>
  <dc:title>Slide 1</dc:title>
</cp:coreProperties>
</file>