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D09-DB52-49C3-BF46-198DF350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17A-0FC3-40A2-ACA7-5B2DF21A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350-594A-4F75-814F-0BAD4330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657-72B3-4827-A955-5A9A3DD9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9E00-5C13-491C-BA73-50788C45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4DFF-6909-49C2-A3B0-1206E4EA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F542-58E5-46D6-81DC-400FD31F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9341-3F79-4DD8-997D-AD836CA6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9C10-35EE-4C56-AD60-EA73423E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031E-DC6D-41F8-98CE-2F0548D5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4CA4-EDF0-4C21-AC74-708F860B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8E5-AD4C-46B8-B2E5-898F07D0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2D20-9DBC-4D8D-AE37-FE32EA4C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CE44-242D-4A9C-B972-290FD47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F59B-856A-4CCD-870F-38F8C492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255E-DAD7-45DE-A6B4-C77F4465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248B-AC18-4381-8804-B94873FD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B6DF-BF15-4F94-A236-EB6BB695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0DC3-1906-4D49-8AA7-79B44994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71620-9AE5-4376-ABAD-F2020174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FF52-2568-4832-B137-26D29662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9E37-169B-44A1-A23A-51BBE17C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2A9-304C-490A-A788-7E711AB4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935B-27A1-4755-8EB0-A6FC9D62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FCA8D-D6A3-4ACF-9A1A-F3F8B12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584E-8CFB-48B0-AE77-DD25FEE4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D8826-EF77-435B-A3D8-8E1C2367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4BDB-39D6-4601-81A3-9DF4312C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4CE4-CED9-4C93-8A05-1C68EEB7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75AD-DEC4-4062-AFF0-2F1BB438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5D45A-C658-472D-84E6-C93185F1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3470-B525-40A9-949A-C32A5AC5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11199-D092-49E1-9EA2-2C0F1FD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361-B95F-45A1-98DB-A98A0796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4BBD4-91DF-4E63-AF4C-8B285138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C79B-19F2-4C81-B35F-14729DB0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B8A4-8200-4741-8A1D-1E391921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62EA-597F-4F7C-8053-A942D456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5684-5F5C-478E-9D4F-659C3307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EDF0-6153-4668-94CC-64440F61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8109-A56C-46BD-B328-8F2D0F57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F1F1A-041F-4F0F-8C6A-0D38B6CC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FA9B-3795-4EFB-9C17-3F382DF9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739-2584-4A82-93EF-1323322A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EBF-9532-4153-B4CA-ABBFF31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96E-99F4-42E8-B2DC-EF1BE41D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680-46B4-4E02-A98B-B14CCB33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53E-7E95-4FF0-9E5E-EC93DD24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9521-A561-4245-97A4-501F87F4B09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C76F-A3BA-43BD-9D7C-B73A4A3F743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030C-48F9-4ACE-8A60-F1F38B7CCB6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A613-5CCE-4570-B545-28CBBA96900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9"/>
          <p:cNvSpPr/>
          <p:nvPr/>
        </p:nvSpPr>
        <p:spPr>
          <a:xfrm>
            <a:off x="1905120" y="1523880"/>
            <a:ext cx="5257800" cy="947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647720" y="406440"/>
            <a:ext cx="573588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8: Genetics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584280" y="2435400"/>
            <a:ext cx="7950240" cy="4270320"/>
            <a:chOff x="584280" y="2435400"/>
            <a:chExt cx="7950240" cy="4270320"/>
          </a:xfrm>
        </p:grpSpPr>
        <p:pic>
          <p:nvPicPr>
            <p:cNvPr id="198" name="Picture 18" descr=""/>
            <p:cNvPicPr/>
            <p:nvPr/>
          </p:nvPicPr>
          <p:blipFill>
            <a:blip r:embed="rId1"/>
            <a:srcRect l="9192" t="0" r="0" b="0"/>
            <a:stretch/>
          </p:blipFill>
          <p:spPr>
            <a:xfrm>
              <a:off x="749160" y="3019320"/>
              <a:ext cx="4318920" cy="30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7"/>
            <p:cNvSpPr/>
            <p:nvPr/>
          </p:nvSpPr>
          <p:spPr>
            <a:xfrm>
              <a:off x="584280" y="2435400"/>
              <a:ext cx="7950240" cy="4270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027" descr="hyd8760x_0201"/>
            <p:cNvPicPr/>
            <p:nvPr/>
          </p:nvPicPr>
          <p:blipFill>
            <a:blip r:embed="rId2"/>
            <a:srcRect l="0" t="6984" r="0" b="2679"/>
            <a:stretch/>
          </p:blipFill>
          <p:spPr>
            <a:xfrm>
              <a:off x="5142240" y="2543400"/>
              <a:ext cx="3144600" cy="40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"/>
          <p:cNvGrpSpPr/>
          <p:nvPr/>
        </p:nvGrpSpPr>
        <p:grpSpPr>
          <a:xfrm>
            <a:off x="380880" y="3124080"/>
            <a:ext cx="3047760" cy="2699640"/>
            <a:chOff x="380880" y="3124080"/>
            <a:chExt cx="3047760" cy="2699640"/>
          </a:xfrm>
        </p:grpSpPr>
        <p:sp>
          <p:nvSpPr>
            <p:cNvPr id="301" name="Text Box 6"/>
            <p:cNvSpPr/>
            <p:nvPr/>
          </p:nvSpPr>
          <p:spPr>
            <a:xfrm>
              <a:off x="456840" y="434340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nstantia"/>
                </a:rPr>
                <a:t>Genoty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80880" y="487656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(Genetic make up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1752480" y="31240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9"/>
          <p:cNvSpPr/>
          <p:nvPr/>
        </p:nvSpPr>
        <p:spPr>
          <a:xfrm>
            <a:off x="101448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06" name="Text Box 11"/>
            <p:cNvSpPr/>
            <p:nvPr/>
          </p:nvSpPr>
          <p:spPr>
            <a:xfrm>
              <a:off x="533520" y="53352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nstantia"/>
                </a:rPr>
                <a:t>Phenoty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2"/>
            <p:cNvSpPr/>
            <p:nvPr/>
          </p:nvSpPr>
          <p:spPr>
            <a:xfrm>
              <a:off x="914400" y="990720"/>
              <a:ext cx="19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00ff"/>
                  </a:solidFill>
                  <a:latin typeface="Constantia"/>
                </a:rPr>
                <a:t>(Colour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4"/>
          <p:cNvGrpSpPr/>
          <p:nvPr/>
        </p:nvGrpSpPr>
        <p:grpSpPr>
          <a:xfrm>
            <a:off x="4038480" y="3184560"/>
            <a:ext cx="4648320" cy="777960"/>
            <a:chOff x="4038480" y="3184560"/>
            <a:chExt cx="4648320" cy="777960"/>
          </a:xfrm>
        </p:grpSpPr>
        <p:sp>
          <p:nvSpPr>
            <p:cNvPr id="310" name="Oval 15"/>
            <p:cNvSpPr/>
            <p:nvPr/>
          </p:nvSpPr>
          <p:spPr>
            <a:xfrm>
              <a:off x="4038480" y="320040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"/>
            <p:cNvSpPr/>
            <p:nvPr/>
          </p:nvSpPr>
          <p:spPr>
            <a:xfrm>
              <a:off x="7924680" y="318456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4876920" y="32306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Constantia"/>
                </a:rPr>
                <a:t>1) Homozyg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8"/>
          <p:cNvGrpSpPr/>
          <p:nvPr/>
        </p:nvGrpSpPr>
        <p:grpSpPr>
          <a:xfrm>
            <a:off x="4114800" y="4952880"/>
            <a:ext cx="3809880" cy="838440"/>
            <a:chOff x="4114800" y="4952880"/>
            <a:chExt cx="3809880" cy="838440"/>
          </a:xfrm>
        </p:grpSpPr>
        <p:sp>
          <p:nvSpPr>
            <p:cNvPr id="314" name="Oval 19"/>
            <p:cNvSpPr/>
            <p:nvPr/>
          </p:nvSpPr>
          <p:spPr>
            <a:xfrm>
              <a:off x="4114800" y="4952880"/>
              <a:ext cx="838080" cy="838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20"/>
            <p:cNvSpPr/>
            <p:nvPr/>
          </p:nvSpPr>
          <p:spPr>
            <a:xfrm>
              <a:off x="5029200" y="51055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Constantia"/>
                </a:rPr>
                <a:t>2) Heterozyg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1"/>
          <p:cNvSpPr/>
          <p:nvPr/>
        </p:nvSpPr>
        <p:spPr>
          <a:xfrm>
            <a:off x="4038480" y="395460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identical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llel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متماثل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4114800" y="579924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differen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llel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مختلف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3809880" y="228600"/>
            <a:ext cx="5181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cc"/>
                </a:solidFill>
                <a:latin typeface="Constantia"/>
              </a:rPr>
              <a:t>Phenotype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 المظهر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 description of an organism’s appearanc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ظه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3886200" y="1467000"/>
            <a:ext cx="51055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cc"/>
                </a:solidFill>
                <a:latin typeface="Constantia"/>
              </a:rPr>
              <a:t>Genotype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 الجي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 description of an organism’s genetic makeup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ركيب الجيني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. Genotype may be eit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5791320" y="3029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Majalla UI"/>
              </a:rPr>
              <a:t>متماثل الجي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5943600" y="485604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باين الجي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75960" y="1066680"/>
            <a:ext cx="838188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lants have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ame phenotyp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but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ifferent genotyp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nly way to produ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white phenotype is t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es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for the flower-col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Genotypic ratio: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بة الجي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xpected numbers of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geno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Phenotypic ratio: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بة المظه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xpected numbers of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phenotype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67080" y="2438280"/>
            <a:ext cx="4827600" cy="41608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Phenotypic and genotypic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5960" y="1899720"/>
            <a:ext cx="4267080" cy="22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By Test cross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Crosses any organism with a recessive homozygo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an determine the identity of the unknown alle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52280" y="44956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Question: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What is the result of crossing between plants with purple and white flowe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713880"/>
            <a:ext cx="84960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ow could Mendel determine the F2 genotype as either homozygous dominant or heterozygous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Picture 7" descr="http://www.zo.utexas.edu/faculty/sjasper/images/14.6.gif"/>
          <p:cNvPicPr/>
          <p:nvPr/>
        </p:nvPicPr>
        <p:blipFill>
          <a:blip r:embed="rId1"/>
          <a:srcRect l="8499" t="2564" r="7183" b="5745"/>
          <a:stretch/>
        </p:blipFill>
        <p:spPr>
          <a:xfrm>
            <a:off x="4495680" y="1282680"/>
            <a:ext cx="4513320" cy="5423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05520" y="1066680"/>
            <a:ext cx="4011480" cy="56390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76320" y="1066680"/>
            <a:ext cx="5029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was born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2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 Austria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مس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5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endel began his classic experiments with the garde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ea plan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بات البازلاء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discovered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laws of heredit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وانين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راث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plants and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died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8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y a kidney dis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pea plant has mal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tame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د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and female (carpe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راب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nature, pea plants typical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lf-fertiliz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تلقيح ذات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rtilizing ova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ويضا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their own polle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بوب اللقاح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ever, Mendel could also move pollens from one plant to another to cross-pollinat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لقيح خلط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85800" y="2286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Mendel’s experimental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  <a:ea typeface="Arial"/>
              </a:rPr>
              <a:t>Three steps of Mendel’s experiment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"/>
          <p:cNvGrpSpPr/>
          <p:nvPr/>
        </p:nvGrpSpPr>
        <p:grpSpPr>
          <a:xfrm>
            <a:off x="685800" y="1149480"/>
            <a:ext cx="7772400" cy="5556240"/>
            <a:chOff x="685800" y="1149480"/>
            <a:chExt cx="7772400" cy="5556240"/>
          </a:xfrm>
        </p:grpSpPr>
        <p:pic>
          <p:nvPicPr>
            <p:cNvPr id="209" name="Picture 9" descr="p84"/>
            <p:cNvPicPr/>
            <p:nvPr/>
          </p:nvPicPr>
          <p:blipFill>
            <a:blip r:embed="rId1"/>
            <a:srcRect l="2808" t="0" r="68062" b="88412"/>
            <a:stretch/>
          </p:blipFill>
          <p:spPr>
            <a:xfrm>
              <a:off x="761760" y="1683000"/>
              <a:ext cx="2616120" cy="52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" name="Group 10"/>
            <p:cNvGrpSpPr/>
            <p:nvPr/>
          </p:nvGrpSpPr>
          <p:grpSpPr>
            <a:xfrm>
              <a:off x="3429000" y="1149480"/>
              <a:ext cx="5029200" cy="5556240"/>
              <a:chOff x="3429000" y="1149480"/>
              <a:chExt cx="5029200" cy="5556240"/>
            </a:xfrm>
          </p:grpSpPr>
          <p:pic>
            <p:nvPicPr>
              <p:cNvPr id="211" name="Picture 6" descr=""/>
              <p:cNvPicPr/>
              <p:nvPr/>
            </p:nvPicPr>
            <p:blipFill>
              <a:blip r:embed="rId2"/>
              <a:srcRect l="0" t="0" r="11666" b="46683"/>
              <a:stretch/>
            </p:blipFill>
            <p:spPr>
              <a:xfrm>
                <a:off x="3429000" y="1149480"/>
                <a:ext cx="5029200" cy="31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Picture 10" descr=""/>
              <p:cNvPicPr/>
              <p:nvPr/>
            </p:nvPicPr>
            <p:blipFill>
              <a:blip r:embed="rId3"/>
              <a:srcRect l="0" t="55320" r="7017" b="3357"/>
              <a:stretch/>
            </p:blipFill>
            <p:spPr>
              <a:xfrm>
                <a:off x="3429000" y="4412520"/>
                <a:ext cx="5029200" cy="2293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3" name="Picture 9" descr="p84"/>
            <p:cNvPicPr/>
            <p:nvPr/>
          </p:nvPicPr>
          <p:blipFill>
            <a:blip r:embed="rId4"/>
            <a:srcRect l="42816" t="0" r="39496" b="88412"/>
            <a:stretch/>
          </p:blipFill>
          <p:spPr>
            <a:xfrm>
              <a:off x="685800" y="3283560"/>
              <a:ext cx="1588320" cy="52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9" descr="p84"/>
            <p:cNvPicPr/>
            <p:nvPr/>
          </p:nvPicPr>
          <p:blipFill>
            <a:blip r:embed="rId5"/>
            <a:srcRect l="72389" t="0" r="10385" b="88412"/>
            <a:stretch/>
          </p:blipFill>
          <p:spPr>
            <a:xfrm>
              <a:off x="761760" y="5029560"/>
              <a:ext cx="1547280" cy="52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324000" y="1227240"/>
            <a:ext cx="851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actor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also referred to these F1 (first generation) individuals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ybrid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جين (خليط)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cause the offspring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re a mixture from parents with different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 will refer to these offspring a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monohybr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ecause they are hybrid for only one characteris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cause all the F1 plants we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urp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endel referred t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urple flow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ة سائد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white flow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recessive 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صفة متنح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wondered what happened to the white traits in the F1 generation. Therefore,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elf-fertiliz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as done to produce the second generation or F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cross produced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purpl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whit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atio of traits in the F2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  <a:ea typeface="Arial"/>
              </a:rPr>
              <a:t>Mendel’s Results and 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nstantia"/>
                <a:ea typeface="Arial"/>
              </a:rPr>
              <a:t>The laws of Mendel in genet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50920" y="1143000"/>
            <a:ext cx="7902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First law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greg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ون انعزال الصف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Second law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dependent assortme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ون التوزيع الحر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152280" y="2286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First: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two alle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a characteristic are isolated into separate gametes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3301920"/>
            <a:ext cx="8610480" cy="389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as exhibit a variety of contrasting trai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ات متضادة (متباينة)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ven trai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3:1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rati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wo traits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hybr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among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fspring when he conducted crosses f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i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ther characteristics, each represented by two different varieti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تين مختلفتين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produc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ذور مُستدير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plant produc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wrinkled seeds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ذور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ُجَعد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7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the second low in lecture 9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23760" y="380880"/>
            <a:ext cx="9067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he results of Mendel’s F1 crosses from seven characteristics in pea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://gathabiotens.files.wordpress.com/2010/08/c7_14_1_traits1.jpg"/>
          <p:cNvPicPr/>
          <p:nvPr/>
        </p:nvPicPr>
        <p:blipFill>
          <a:blip r:embed="rId1"/>
          <a:srcRect l="0" t="6155" r="0" b="1458"/>
          <a:stretch/>
        </p:blipFill>
        <p:spPr>
          <a:xfrm>
            <a:off x="2362320" y="1014480"/>
            <a:ext cx="4343400" cy="568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6320" y="380520"/>
            <a:ext cx="868680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رض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explain these resul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.  Alternative version of the same gene is called alle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fferent alleles vary somewha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وعاً م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sequence of nucleotides at the specific locu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و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or each characteristic, an organism inherit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رث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wo alleles, one f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pa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the flower-color example, the F1 plants inherited a purple-flower allele from one parent and a white-flower allele from the oth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f the two alleles differ, one of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m will b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th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ther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recessi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two alleles for a characteristic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separated (segregated) int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eparate  gametes and aggregate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gain by fertiliz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719600" y="3505320"/>
            <a:ext cx="4348080" cy="31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Rectangle 7"/>
          <p:cNvSpPr/>
          <p:nvPr/>
        </p:nvSpPr>
        <p:spPr>
          <a:xfrm>
            <a:off x="0" y="34290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rcRect l="2844" t="2658" r="4947" b="4466"/>
          <a:stretch/>
        </p:blipFill>
        <p:spPr>
          <a:xfrm>
            <a:off x="4876920" y="480960"/>
            <a:ext cx="4149720" cy="614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1" name="Rectangle 7"/>
          <p:cNvSpPr/>
          <p:nvPr/>
        </p:nvSpPr>
        <p:spPr>
          <a:xfrm>
            <a:off x="76320" y="304920"/>
            <a:ext cx="4724280" cy="74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ybrids will produce two classes of gametes, half with the purple-flower allele and half with the white-flower all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ring self-pollination, the gametes of these two classes unite random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can produce four equally likely combinations of sperm and ov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 Punnett squar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مربع باني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dicts the results of a genetic cross between individuals of known genotyp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راز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ـجي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ndel’s model accounts for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: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ratio in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CA72-F953-4A1C-A1E8-6A1A1B77F365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4241880" y="5943600"/>
            <a:ext cx="4876560" cy="7621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5560" y="5943600"/>
            <a:ext cx="4114800" cy="7621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37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50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53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56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7"/>
          <p:cNvSpPr/>
          <p:nvPr/>
        </p:nvSpPr>
        <p:spPr>
          <a:xfrm>
            <a:off x="914400" y="4967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2000" spc="-1" strike="noStrike">
                <a:solidFill>
                  <a:srgbClr val="ff00ff"/>
                </a:solidFill>
                <a:latin typeface="Constantia"/>
              </a:rPr>
              <a:t>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5562720" y="60958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nstantia"/>
                <a:ea typeface="Arial"/>
              </a:rPr>
              <a:t>2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5029200" y="5010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20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0"/>
          <p:cNvSpPr/>
          <p:nvPr/>
        </p:nvSpPr>
        <p:spPr>
          <a:xfrm>
            <a:off x="685800" y="61102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nstantia"/>
                <a:ea typeface="Arial"/>
              </a:rPr>
              <a:t>1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64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268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272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276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48"/>
          <p:cNvGrpSpPr/>
          <p:nvPr/>
        </p:nvGrpSpPr>
        <p:grpSpPr>
          <a:xfrm>
            <a:off x="25560" y="4006800"/>
            <a:ext cx="3961440" cy="703800"/>
            <a:chOff x="25560" y="4006800"/>
            <a:chExt cx="3961440" cy="703800"/>
          </a:xfrm>
        </p:grpSpPr>
        <p:grpSp>
          <p:nvGrpSpPr>
            <p:cNvPr id="280" name="Group 49"/>
            <p:cNvGrpSpPr/>
            <p:nvPr/>
          </p:nvGrpSpPr>
          <p:grpSpPr>
            <a:xfrm>
              <a:off x="2082600" y="4006800"/>
              <a:ext cx="1904400" cy="703800"/>
              <a:chOff x="2082600" y="4006800"/>
              <a:chExt cx="1904400" cy="703800"/>
            </a:xfrm>
          </p:grpSpPr>
          <p:sp>
            <p:nvSpPr>
              <p:cNvPr id="281" name="Text Box 50"/>
              <p:cNvSpPr/>
              <p:nvPr/>
            </p:nvSpPr>
            <p:spPr>
              <a:xfrm>
                <a:off x="2515320" y="4006800"/>
                <a:ext cx="1471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Recessive alle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nstantia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4"/>
          <p:cNvGrpSpPr/>
          <p:nvPr/>
        </p:nvGrpSpPr>
        <p:grpSpPr>
          <a:xfrm>
            <a:off x="380880" y="76320"/>
            <a:ext cx="2971440" cy="914400"/>
            <a:chOff x="380880" y="76320"/>
            <a:chExt cx="2971440" cy="914400"/>
          </a:xfrm>
        </p:grpSpPr>
        <p:sp>
          <p:nvSpPr>
            <p:cNvPr id="286" name="Oval 55"/>
            <p:cNvSpPr/>
            <p:nvPr/>
          </p:nvSpPr>
          <p:spPr>
            <a:xfrm>
              <a:off x="380880" y="7632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56"/>
            <p:cNvSpPr/>
            <p:nvPr/>
          </p:nvSpPr>
          <p:spPr>
            <a:xfrm>
              <a:off x="2333520" y="7632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57"/>
            <p:cNvSpPr/>
            <p:nvPr/>
          </p:nvSpPr>
          <p:spPr>
            <a:xfrm>
              <a:off x="1399680" y="22896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290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3"/>
          <p:cNvSpPr/>
          <p:nvPr/>
        </p:nvSpPr>
        <p:spPr>
          <a:xfrm>
            <a:off x="3476520" y="8424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4"/>
          <p:cNvSpPr/>
          <p:nvPr/>
        </p:nvSpPr>
        <p:spPr>
          <a:xfrm>
            <a:off x="762120" y="990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5"/>
          <p:cNvSpPr/>
          <p:nvPr/>
        </p:nvSpPr>
        <p:spPr>
          <a:xfrm>
            <a:off x="5586480" y="9716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Mohammed Albeshr</cp:lastModifiedBy>
  <dcterms:modified xsi:type="dcterms:W3CDTF">2017-10-21T21:54:01Z</dcterms:modified>
  <cp:revision>235</cp:revision>
  <dc:subject/>
  <dc:title>Slide 1</dc:title>
</cp:coreProperties>
</file>