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BA0-C97B-4D09-9B0E-1443F69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C8C-6848-49A4-9E28-5052322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357-77B8-4865-8BEA-41F3FE4B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8D2-E3C9-4E04-BBBE-6AB3520B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FD6C-A029-42B8-B91C-FE1DE97C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56A1-8632-42F6-8D8E-98A8318A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40A-2200-4F5F-8802-F5BDAFCC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752D-1E48-443A-BC9B-0E413332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EE52-C6DC-450E-8A45-530F1CA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C4E6-2EEC-4A8C-A102-49ABDF0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51C0-1584-4503-AEC3-5D8CC673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DED-3315-43CD-B03A-A60D1E84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13C-EAE0-4DBD-ADC3-2162FACA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4C5-2E74-48ED-82A7-6D45A3B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BD90-96BD-4519-9B28-198A8DF9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E51-8287-4788-BB41-C396DE72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CC80-2BBC-43E3-A46E-3E2A0B31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5E83-F3B7-49E1-8694-45DAE9B8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7124-6C28-49AB-AD47-14349B76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55C8-7831-4BC9-968B-CB35290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3A9E-99F3-49F3-85C9-7809260D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B4B6-EB17-4D98-B894-109556A9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88D-EA5B-4E1C-B642-25775433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934A-A35D-4599-82EC-36F3FCD6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873B-218C-4A40-B592-D43232A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0922-EFA4-4284-A780-E6A213C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E443-ABE2-42B6-B98F-B52BFED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2A33-A419-44DC-9893-2DA0E159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3E00-6185-4345-8822-7D07BAE8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B166-ACE0-4B5E-9F12-EA7041F7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9EC9-20FA-4E65-AA2B-E88023A0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AFF1-1A6A-4F65-8EE9-FDD821C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9D20-422B-4E5B-A1CB-C3C1CA92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A9C-854B-45B6-A868-2C5EA1D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C96B-7A94-452F-96C3-E2F5FF55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44FD-E597-4351-AFFB-5986D71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036E0-E0F3-4810-B718-2C77861B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E571-2192-481A-8725-146902A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990A-4211-44F2-AF78-18440FB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CD76-F028-48AF-AE1E-451C459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2E3B-9F96-4D7F-A33B-D662E073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8C55-9C56-40C0-9F26-267DE2F5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93D8-21AC-4621-9B0E-D59099B1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C27-0DBF-48A7-9595-628EA68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BFB-AB52-423E-AB48-5CABFED1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C57-BACB-4AE3-A7C8-7C449B5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298-48E1-4872-8A61-4E47718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82E-A042-4EB9-835B-279CD72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7E63-50DF-4E41-964A-05970625296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7021-E37E-410A-A066-343A0F58368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FB58-B616-4ADF-9AAD-3D44B55F9EC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6407-C47D-4620-AC44-57CFDA30708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E6A-2995-4934-BBA3-8BB79767537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F2B8-1D72-45CB-A439-06BE0745919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7DE-B102-4ED7-83ED-C9E2065F4FF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42880" y="152280"/>
            <a:ext cx="7918560" cy="865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8F7C-6BE0-48D7-93F4-BD299FB982F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5-10-17T12:42:58Z</dcterms:modified>
  <cp:revision>117</cp:revision>
  <dc:subject/>
  <dc:title>Slide 1</dc:title>
</cp:coreProperties>
</file>