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DA8-A167-45CB-B293-BB61BF31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71A-A755-4AA2-B8F6-8A337BAF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E90-3385-454E-9EA0-5F3DB3E6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AD2-75DA-4A21-A7D5-FB5C4983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26D6-4F80-4492-BBB7-6C4E42B0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B82-ACF2-4DC5-B6F7-3BA551F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2087-EE69-4B44-ADC3-21A00F9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8BF5-7D86-4CCB-89CF-CBA5875F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4568-5A7C-464F-BF83-03AC507B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3753-25DD-454A-B529-2529D96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E2CB-F33E-4D47-A338-28085AF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60D-F57A-4628-884E-D3EF77E2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EC3B-A6A1-400E-B639-1FDCDFB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CB2B-6601-48C7-91AB-54BB1F6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0D4C-AA16-4791-9FAC-78199A5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5CB1-C570-427C-8B28-80C68A2C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83F4-9734-4838-8F5B-9FB73AE4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5218-7218-4B26-994C-7B30A40D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9947-6BB8-4860-B0D7-7DD62144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A037-4392-4C37-BA02-37A81A4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4BD4-499B-4205-B767-C16EACD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106C-F4B8-4A9B-8241-768E1B7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C89-CF49-41DE-9240-7CBD8B7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6ECF-4141-4949-9DEC-DCB4877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5B1A-3A8B-4971-A7A4-7069586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AA97-79D8-4FD1-98E6-9A61BEAD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E8A4-27F2-400E-96CD-361D525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001A-5CBF-4FE2-A413-F59BC83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3F9E-6027-4DCC-842D-1C7FF860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AA9D-EC44-428C-8AF5-B5ED9EF1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17B60-EAAC-43F6-9572-BDF58CEF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0E1E4-DF24-4729-8988-828AAB8B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DA2B-962A-4251-A0F4-595D73CB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7D4-DC84-472D-913F-E2BC9AE4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FD70-28F5-4ABC-9A5B-A0C2F3D4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D82F-FE71-4B45-9986-1C1D4B2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ABE2-3ABB-4CC5-886B-A86C8636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BFE1-2CD8-4562-B1BA-07D06B8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FAA9-C6B9-4AF3-B1FA-63AC193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BBF4-9F84-44A1-989D-5528E26F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22D00-AE12-493E-AFA7-571BFAF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8219-9FC2-49B3-B432-533B0F3F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D6A7-65DA-451E-A867-BE7DC8FA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E53-231E-48E5-952B-46E1401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3D4-7E53-4B59-BF4E-2B71597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12F-F8F3-4922-86F2-E04063B8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E62-1B87-4CDE-9089-D1574FCC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C68-9182-460E-89A2-FAEE1DC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DEF-7B68-4332-8BCB-394AE02C98C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EAE-9C4D-4FC6-979F-1CE74F020F7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46B-91EB-4EA8-8F5E-9C66903D1EB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F35-2801-45B5-B4A5-41F905B8FBB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75D-C418-487D-8F43-3AE7BC11060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A43-4F3B-4A54-8CEE-EE8DBE794AC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5FD-6730-469A-A562-C81100495E0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7918560" cy="865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51FF-DF07-4C45-8F7A-ABCACA2802B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5-10-17T12:42:58Z</dcterms:modified>
  <cp:revision>117</cp:revision>
  <dc:subject/>
  <dc:title>Slide 1</dc:title>
</cp:coreProperties>
</file>