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A63-979D-4D4A-B263-814342C1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EF3-C9B8-4088-B2F9-A346786C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371-B52F-439D-BD96-076B054D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A19-9BA8-49B1-990C-54F083D0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BD9D-83C8-4298-A956-8E151122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B1B5-C62A-432D-AE64-6631C5B4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1155-404B-4FA0-A7CB-04F2499E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92C1-049C-4649-BD4C-46A1B25A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B7AB-7547-44F9-AC9F-149B36A3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0038-916C-4686-BA80-B66E656C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EB07-D35D-4664-95DA-9D8C05A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86E-C250-4094-944A-3BFB20F7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331F-F003-4A4B-8BFC-787A942C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C2DE-93A6-4410-B80B-807FC38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0619-86B6-4703-8DD4-164D7BDE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7CE-0C7E-4476-BB39-63AC9C1E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9EDF-C669-410D-A04D-4FCA40CA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61BD-6605-4E39-A8A8-E0BBBE43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41E5-23F4-4242-A8F0-EAF281F2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685F-CDEA-410C-BDA5-6778A1A0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D624-3DCC-4D57-B035-C92D6798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6B04-2BB9-4E0C-BC02-6E8EC9FF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8A9-E594-4FFD-B392-46EFC3EB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3F0A0-E6C2-48EA-AD8E-BFD5DD8F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B1E5-40E9-4455-9999-5F7137A6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4B1C-B3BC-4093-857B-A2A7AB1F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BE0E-7428-4C76-8470-CB2A5B8B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9C13-D84E-42EA-9876-E91832AA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A03A-1C41-49C5-AACA-A1C80137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0ED6-97D4-4646-A02B-C43F7D8C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FAE65-D110-4A2D-A1FF-3AE3B496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E3D8-FBED-4885-B430-176BDEA5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A1021-4100-489D-A860-F59FF7E6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BC9-41C9-4ACE-B7F0-6FCD4986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14D8-D717-48CB-8ECE-E1F4B154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5DE91-BA15-41D1-A87E-146EDA08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4BC6-FC5A-4116-A732-C0391F3A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EC116-92EE-4F7F-8167-223A36B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18C1-A8FF-4391-9DA7-A08D7FC6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4809-5FCB-4C33-BA3D-7FDF1FB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CCE9-F140-4580-9E51-2C23B507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E9E64-6EFF-41DE-884F-D7D821C4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B47D-49D4-48B6-92DE-C9D43BEB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5B9-0C06-492A-AA6D-C6701B24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D66-FA6A-46DA-9514-08FC219B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F80-1493-489D-BFC4-27BAF6CD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A53-7982-4D73-A1D0-F4668B73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534-CD76-45AA-BDEC-91F7A97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C878-52D1-4AAC-A594-1B8CAAF7F9C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1A85-8DD6-4DCA-81F6-255B13D9A8D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8383-574B-47A8-B9BC-E353A0F73C1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6AF1-BEAB-47E8-9964-C28185A3EDF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855D-C80F-4BF8-A635-0C5CA5CF429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B200-6D3F-449F-9EBE-DA234CDC4A5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8AF0-C28E-49F0-BAD3-ED883A05CC7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7931160" cy="664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170D-9C96-4664-8155-79C2C542093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4-08-27T10:16:02Z</dcterms:modified>
  <cp:revision>116</cp:revision>
  <dc:subject/>
  <dc:title>Slide 1</dc:title>
</cp:coreProperties>
</file>