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2E6-6E25-4AE2-A7CD-F426F521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F70-6778-4077-97B0-E147376A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BC7-76D1-4A7B-A889-A1358BCF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60D-79FF-4D0F-9821-DB0B655B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06F0-9C08-42E6-9803-7F858155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FB6-975D-40EA-A0B5-CA2C5EFB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003-3758-493B-9699-65845EE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B1A9-CC72-4AE6-BE3C-A4F1D37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D029-C400-4074-A01C-49D44FFD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5EC7-D174-47BF-9A82-28D63C1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2542-6CC3-4E36-973C-44AD4EA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A54-454A-4EC7-9405-66376FAC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D6AA-622F-49C7-8A75-6BDF490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1BEA-8039-4748-81D4-06C3DA5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616D-945E-47BF-ABAE-1DA388B3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4700-E75D-4BBC-8C01-80E8D655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9F9A-EFC2-4A60-95EB-8C69548F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9E14-E9FB-4A9E-A20F-212E1315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C1D7-93D8-433A-99E3-CD7DBD0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5C60-9293-41CA-83AE-49CD48EC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8B7F-635F-4593-AFA1-0E584A69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A4CB-B26F-42CB-97DA-CDBCEF22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765-61BD-42F5-B9F5-0162130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6656-0926-4B81-A6D6-D5239DF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9413E-DEDC-431F-B3F3-9A76CFD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C7CF-3281-4287-A6B8-90F6E07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8242-3917-4FEA-B337-2A2BFB7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E6F7B-3A72-404B-AADF-48D018C9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1E1D-A925-4A12-B2F2-91A412C7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68A1-4A69-48E9-A25E-C3F52835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69C5-2670-4A77-AD94-0B344930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FDE6-B21C-4F27-A40B-73C8297C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37C2-89F8-4224-A34D-2445EAD0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613-9E39-42D5-8549-3A68F8EA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C7B0-08CA-46FA-BA48-055DDE36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2B39-D2CC-412C-9413-994C97AD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E8CAB-E04C-4F9F-84F9-4DEAE9F3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DD02-85AA-4970-BE99-5AE91CD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B42C-800A-40F5-87F3-46A684C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C3D4-9E68-4C96-986F-998A7C2E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58F0-8F62-4027-B00C-CA232B4C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C874-18F4-4027-967A-CE42A5CB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AB1F-DA40-4103-AB36-3FBD39D6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010-DB59-4503-9A75-9167DFA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64B-6BE0-41D0-BD1B-AC527010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BE7-E774-41F1-A46E-9DB436A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868-4744-4035-80B4-D138CEDA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FE6-8E90-498D-A950-02D17B52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EB1-EA34-4B38-A72D-47EB3FA85FC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92D0-288F-440C-A3AF-A73C134AB95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970-76AB-4630-84A7-A8AAB7E499E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6F5-922E-422D-B8DB-7890CA432A3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A790-CE86-4FFC-9E92-97662BCFF54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6F5-1E29-4F72-B202-E7A9A9C35A0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5365-1F2C-4DC9-803A-A5161DAB7B0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7931160" cy="664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82E6-560F-4013-9A74-9C26DF2DE4E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4-08-27T10:16:02Z</dcterms:modified>
  <cp:revision>116</cp:revision>
  <dc:subject/>
  <dc:title>Slide 1</dc:title>
</cp:coreProperties>
</file>