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7A4-0EE7-4903-916A-183168EB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505-6035-41DF-84AF-34BF8F0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EF6-40BC-474C-89BF-AB207AC0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FB0-6010-4564-8D4A-7EC8889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9FDE-C77F-4949-BD97-E67E8835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E2E8-2BB7-4FF5-819B-8704CCE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F1D4-FDC5-4C46-8F0C-982A5D19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631-46FD-4AA7-A3D1-3E0F627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301C-91D2-49FB-9042-BA6866C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442-9693-42A8-B794-4FD5C91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FBF7-A165-4756-84F3-007D856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2E7-D55D-4AE5-980B-42550C8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9BD5-47C5-4A3E-81A5-7EA3B1A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3325-1EAB-4870-99AB-026F005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074-F027-4520-B910-85F21FD3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5B63-64C0-45BB-85B0-1115AE26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4E40-981D-437F-B277-B0B55321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AD3F-6279-4211-93CE-F0B5336B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0DFE-A812-457B-9AAD-9B1A7CE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566B-087B-4D43-BFEC-FE375AD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B60C-6B31-4DDA-B2B3-0342E6C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D892-085C-425F-922A-1646B2A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AC9-32C3-4E56-A795-0404E6ED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2FF7-4ADC-4B87-9790-0485AA80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1BDF-BA39-4701-A92B-0D32890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0A51-3774-44E8-990A-0FE7A7E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98E7-8744-473F-8D0F-6A6C9B4C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87F4-C7D8-4422-9A68-B35D974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1F94-271E-4BB9-9CF0-F89B34F4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3E83-3869-45B7-AC02-E61D8A7C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2298-82FC-4AC9-85CD-6C094BBA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EAB0-A2C6-4EC1-BEA4-F1585EA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14AB-0378-4DB3-97AB-4FEA921A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B66-07F4-4ECF-BD57-228BD71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ACF2-41A9-43BE-B02E-B0DEE52A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327D-1006-475A-8971-A7EDEEC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245A-57C4-4AF3-9FD1-950241F7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607F-EDB0-4B10-AE0A-68B0784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EF26-4BC6-4BD8-95AC-DCFB52C3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9880-ADCF-4705-AD70-F2ACEB4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DE84-23D1-44E5-ADE2-A357630E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1D21-92DB-4DF0-A0CA-9F5631B5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C21F-C136-420E-914D-3B725D03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954-BBDA-4880-8877-77F81F57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D9C-F7D2-4395-9B9E-6848135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94F-364E-4050-8836-ABC64EC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06F-B029-4B3E-B4B3-55BF3B1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68D-E84D-4B6A-8F8B-9D78415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910-D839-4BAB-8772-53616E18916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AA9-36AC-46CC-90F8-86B82D3BA06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6A24-031F-4F69-9F3B-17DD2A259D7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E37-4611-4D07-8685-46189A8DB69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4073-1053-477A-B18C-4B709B82A88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DE4-A011-4204-9EE9-3298D02427B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98D-1C76-4654-BB4F-D7D76A3E08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7931160" cy="664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9755-AE6C-4B7A-AA75-89512B1E53E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د أشرف مشالي</cp:lastModifiedBy>
  <dcterms:modified xsi:type="dcterms:W3CDTF">2013-09-01T08:21:45Z</dcterms:modified>
  <cp:revision>116</cp:revision>
  <dc:subject/>
  <dc:title>Slide 1</dc:title>
</cp:coreProperties>
</file>