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30F4E-CED0-4689-89C3-443D0B179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5603-C1E4-4604-82FE-63B3C398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700C5-2E37-4CA0-B983-85EB825D3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96EC6-19DF-4817-BEDD-5F27C68D7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F0572-D668-40D2-8C4C-C8C1C2F02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5811-B9C5-424C-83E3-2703B8A06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81002-9F37-4A37-8581-E3230DBA0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19607-5D82-4F1C-BE95-2BEA05651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CE3B2-DC48-4F59-9AD1-705CBB41F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ED669-73B5-4152-9380-5C73A2F7D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10E1-3F05-4977-B6CD-4FD3E064F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F52C-F56A-4380-B551-FE4F66B5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CA854-CBE0-4722-B485-2254A719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2F997-D235-4E8C-BB21-213B6328A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3D8BF-49FA-456F-8FB8-439222DE5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1817A-4DF8-4A41-89E5-DC867590B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F6687-EBC4-4BB2-B50A-90E7C2767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6038E-82E5-48DE-BF47-01263D97C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37851-EF56-443E-B0E0-E83B0C026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03BE0-37F9-46D7-8360-0DD8750C7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31C3E-22B1-4B2E-B222-8B88171D0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7FCBC-9D9D-4137-B684-BD4B93D65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55EE9-C51A-488F-98F0-7B36C7FC4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E02EF-2B2A-446A-BAA2-4CBE29BD8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8D2EB-0CD3-4DA0-B0C1-B67F79C0F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3CE51-610A-4745-8BD3-0721F31EE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417D5-182B-4F0E-B19E-ECCCF2C9E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10D66-FBC8-41A5-9F86-D9A4D7EDE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B71EF6-981D-44A5-8BED-64CAFEC1A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BDFDE-1D13-4A24-A0E4-18BD57188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088F3-8905-4950-9B56-EBA9D05BF7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D4AFC-ECD7-42AB-8E2C-3805039AD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DA9D9-FAB9-47FF-BBFD-45863633B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CA0D-6D0B-4870-B4E3-81813AE6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50BB5-092C-45B4-A211-051271EDB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7C7A3-AB89-4DD3-9634-0B3A98F4C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08B57-6607-47F7-B38F-A22146B07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9D84B-0B28-405E-BCB4-A5852674A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3CEC2-1979-48C1-82DE-DA2AA1160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9233E-BB1B-4245-B001-B573F1882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E0CA1-1E50-4927-B547-ABBC1282F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968947-3C03-444E-818A-7653A3BF0D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5EB3DE-FC4C-49B3-BED3-23A7FD0A20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F241-5C83-4C31-900F-4D4A8F1A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6C7F-6F16-4607-A3AE-2DDBFC40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3EC6-AFF2-44A6-9324-7DC2CB52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0EC0-82CE-4396-9C29-E4C9BD61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12B0-F95A-4BEE-B030-94A054961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85BE-53FC-402F-A524-73EB7C3FA2D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17B1-1477-4D81-937D-B9188F5E767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C20C-C6A3-4D8A-A336-4E746019900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7CE0-34C1-4AF1-9EC8-8D6DA11555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1FEA-E34C-4150-8037-A41C82926C7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6" name="Text Box 2"/>
          <p:cNvSpPr/>
          <p:nvPr/>
        </p:nvSpPr>
        <p:spPr>
          <a:xfrm>
            <a:off x="826920" y="1325520"/>
            <a:ext cx="74883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Working with ASP.NE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Master Pag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3A11-C6DD-4BF1-BF90-0E3E570497C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8" name="Text Box 5"/>
          <p:cNvSpPr/>
          <p:nvPr/>
        </p:nvSpPr>
        <p:spPr>
          <a:xfrm>
            <a:off x="468360" y="1916280"/>
            <a:ext cx="7921440" cy="272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the most interesting concepts are </a:t>
            </a:r>
            <a:r>
              <a:rPr b="0" lang="en-US" sz="1800" spc="-1" strike="noStrike">
                <a:solidFill>
                  <a:srgbClr val="ff0000"/>
                </a:solidFill>
                <a:latin typeface="Arial"/>
              </a:rPr>
              <a:t>master pages</a:t>
            </a:r>
            <a:r>
              <a:rPr b="0" lang="en-US" sz="1800" spc="-1" strike="noStrike">
                <a:solidFill>
                  <a:srgbClr val="000000"/>
                </a:solidFill>
                <a:latin typeface="Arial"/>
              </a:rPr>
              <a:t> and </a:t>
            </a:r>
            <a:r>
              <a:rPr b="0" lang="en-US" sz="1800" spc="-1" strike="noStrike">
                <a:solidFill>
                  <a:srgbClr val="ff0000"/>
                </a:solidFill>
                <a:latin typeface="Arial"/>
              </a:rPr>
              <a:t>themes</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respects, master pages and themes accomplish similar goals—they both create a general look for a Web site. However, a master page and a theme differ in their approach to the Web development problem.</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hind these technologies is to help the developer in creating pages faster by reducing the need to repeat the elements that appear on every page &amp; reducing the updat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555D-AB6F-431A-8A92-9AE98B8E9C4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Text Box 2"/>
          <p:cNvSpPr/>
          <p:nvPr/>
        </p:nvSpPr>
        <p:spPr>
          <a:xfrm>
            <a:off x="539640" y="620640"/>
            <a:ext cx="7921800" cy="3172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 Master Pag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is a new way of organizing a Web site. It can contain a combination of formatting, graphics, and layout—whatever elements you feel that are common to all Web pages on your site content. The idea is to give your Web site a consistent look and reduce the workload on develop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always has a MASTER file exte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 master page is always an organization tool for other Web pages; no one actually sees it onl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t contains a special </a:t>
            </a:r>
            <a:r>
              <a:rPr b="0" lang="en-US" sz="1800" spc="-1" strike="noStrike">
                <a:solidFill>
                  <a:srgbClr val="ff0000"/>
                </a:solidFill>
                <a:latin typeface="Arial"/>
              </a:rPr>
              <a:t>tag</a:t>
            </a:r>
            <a:r>
              <a:rPr b="0" lang="en-US" sz="1800" spc="-1" strike="noStrike">
                <a:solidFill>
                  <a:srgbClr val="000000"/>
                </a:solidFill>
                <a:latin typeface="Arial"/>
              </a:rPr>
              <a:t> that identifies it as a master page to the Web ser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
          <p:cNvPicPr/>
          <p:nvPr/>
        </p:nvPicPr>
        <p:blipFill>
          <a:blip r:embed="rId1"/>
          <a:srcRect l="13854" t="12666" r="27357" b="66504"/>
          <a:stretch/>
        </p:blipFill>
        <p:spPr>
          <a:xfrm>
            <a:off x="76320" y="3933720"/>
            <a:ext cx="8848440" cy="19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2D66-18D4-427C-9EAE-F25EF094B3B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3" name="Text Box 4"/>
          <p:cNvSpPr/>
          <p:nvPr/>
        </p:nvSpPr>
        <p:spPr>
          <a:xfrm>
            <a:off x="395280" y="549360"/>
            <a:ext cx="81360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contains </a:t>
            </a:r>
            <a:r>
              <a:rPr b="0" lang="en-US" sz="1800" spc="-1" strike="noStrike">
                <a:solidFill>
                  <a:srgbClr val="ff0000"/>
                </a:solidFill>
                <a:latin typeface="Arial"/>
              </a:rPr>
              <a:t>ContentPlaceHolder</a:t>
            </a:r>
            <a:r>
              <a:rPr b="0" lang="en-US" sz="1800" spc="-1" strike="noStrike">
                <a:solidFill>
                  <a:srgbClr val="000000"/>
                </a:solidFill>
                <a:latin typeface="Arial"/>
              </a:rPr>
              <a:t> </a:t>
            </a:r>
            <a:r>
              <a:rPr b="0" lang="en-US" sz="1800" spc="-1" strike="noStrike">
                <a:solidFill>
                  <a:srgbClr val="0000cc"/>
                </a:solidFill>
                <a:latin typeface="Arial"/>
              </a:rPr>
              <a:t>controls</a:t>
            </a:r>
            <a:r>
              <a:rPr b="0" lang="en-US" sz="1800" spc="-1" strike="noStrike">
                <a:solidFill>
                  <a:srgbClr val="000000"/>
                </a:solidFill>
                <a:latin typeface="Arial"/>
              </a:rPr>
              <a:t> that tell someone using the master page where to add the unique information for the Web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92200" y="5321160"/>
            <a:ext cx="79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287280" y="3933720"/>
            <a:ext cx="83520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server sees the MasterPageFile attribute, it reads the information found in the associated MASTER file before it reads the content from the ASPX page. It uses the MASTER file content to build a framework for the ASPX page and then places the unique ASPX page content within the framework.</a:t>
            </a:r>
            <a:endParaRPr b="0" lang="en-US" sz="1800" spc="-1" strike="noStrike">
              <a:solidFill>
                <a:srgbClr val="000000"/>
              </a:solidFill>
              <a:latin typeface="Arial"/>
            </a:endParaRPr>
          </a:p>
        </p:txBody>
      </p:sp>
      <p:pic>
        <p:nvPicPr>
          <p:cNvPr id="206" name="Picture 9" descr=""/>
          <p:cNvPicPr/>
          <p:nvPr/>
        </p:nvPicPr>
        <p:blipFill>
          <a:blip r:embed="rId1"/>
          <a:srcRect l="14480" t="37001" r="35418" b="43502"/>
          <a:stretch/>
        </p:blipFill>
        <p:spPr>
          <a:xfrm>
            <a:off x="322200" y="1465200"/>
            <a:ext cx="8099640" cy="197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0457-3D8E-45D8-BF5C-1353E00C500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8" name="Text Box 7"/>
          <p:cNvSpPr/>
          <p:nvPr/>
        </p:nvSpPr>
        <p:spPr>
          <a:xfrm>
            <a:off x="179280" y="26028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this brings the question of how the server knows where to place the  information. The ASPX page contains special container tags that hold the content which the MASTER file describes, such as this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t;asp:Content ID="Content2" ContentPlaceHolderID="ContentPlaceHolder1“</a:t>
            </a:r>
            <a:r>
              <a:rPr b="0" lang="en-US" sz="1800" spc="-1" strike="noStrike">
                <a:solidFill>
                  <a:srgbClr val="000000"/>
                </a:solidFill>
                <a:latin typeface="Arial"/>
              </a:rPr>
              <a:t> </a:t>
            </a:r>
            <a:r>
              <a:rPr b="0" sz="1800" spc="-1" strike="noStrike">
                <a:solidFill>
                  <a:srgbClr val="000000"/>
                </a:solidFill>
                <a:latin typeface="Arial"/>
              </a:rPr>
              <a:t>Runat="Server"&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
          <p:cNvPicPr/>
          <p:nvPr/>
        </p:nvPicPr>
        <p:blipFill>
          <a:blip r:embed="rId1"/>
          <a:srcRect l="14064" t="12170" r="27180" b="70005"/>
          <a:stretch/>
        </p:blipFill>
        <p:spPr>
          <a:xfrm>
            <a:off x="58680" y="3068640"/>
            <a:ext cx="905040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B67A-5524-4224-917C-25F17D7B4A9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Text Box 4"/>
          <p:cNvSpPr/>
          <p:nvPr/>
        </p:nvSpPr>
        <p:spPr>
          <a:xfrm>
            <a:off x="468360" y="1413000"/>
            <a:ext cx="81565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asiest way to add a master page to the Web site is to open Solution Explorer. Right-click the project entry and choose Add New Item from the context me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Master Page o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a language for the master page you want to cre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 to add the master page to the projec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ter pages always must have one content area as a minimum.</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
          <p:cNvPicPr/>
          <p:nvPr/>
        </p:nvPicPr>
        <p:blipFill>
          <a:blip r:embed="rId1"/>
          <a:srcRect l="12065" t="9425" r="4887" b="10190"/>
          <a:stretch/>
        </p:blipFill>
        <p:spPr>
          <a:xfrm>
            <a:off x="4140360" y="3789360"/>
            <a:ext cx="4679640" cy="28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DC7D-86FA-42BA-95AA-B1F4191481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4"/>
          <p:cNvSpPr/>
          <p:nvPr/>
        </p:nvSpPr>
        <p:spPr>
          <a:xfrm>
            <a:off x="592200" y="1052640"/>
            <a:ext cx="8012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Project with Master P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a master page defined, you can use it to create content pages. A content page has the content and organization provided by the master page, plus unique content that the individual page provides. You can use master pages to create content pages in a number of ways. The following sections explore the techniques that you’ll commonly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086B-AAC1-4AF8-B854-3A31D931FC3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6" name="Text Box 5"/>
          <p:cNvSpPr/>
          <p:nvPr/>
        </p:nvSpPr>
        <p:spPr>
          <a:xfrm>
            <a:off x="611280" y="693720"/>
            <a:ext cx="5040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ntent Page Using a Master P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content pages doesn’t have to be slow or time consuming. The easiest method for creating a content page based on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anywhere on the form in Design view.</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Content Page from the context men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 creates a new content page that uses default settings and a generic name based on the master page.</a:t>
            </a:r>
            <a:endParaRPr b="0" lang="en-US" sz="1800" spc="-1" strike="noStrike">
              <a:solidFill>
                <a:srgbClr val="000000"/>
              </a:solidFill>
              <a:latin typeface="Arial"/>
            </a:endParaRPr>
          </a:p>
        </p:txBody>
      </p:sp>
      <p:pic>
        <p:nvPicPr>
          <p:cNvPr id="217" name="Picture 7" descr=""/>
          <p:cNvPicPr/>
          <p:nvPr/>
        </p:nvPicPr>
        <p:blipFill>
          <a:blip r:embed="rId1"/>
          <a:srcRect l="45419" t="61671" r="33959" b="8334"/>
          <a:stretch/>
        </p:blipFill>
        <p:spPr>
          <a:xfrm>
            <a:off x="6012000" y="1341360"/>
            <a:ext cx="25146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B690-4888-487B-8515-4EDB8DE9F47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9" name="Text Box 2"/>
          <p:cNvSpPr/>
          <p:nvPr/>
        </p:nvSpPr>
        <p:spPr>
          <a:xfrm>
            <a:off x="539640" y="476280"/>
            <a:ext cx="7869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ther way</a:t>
            </a:r>
            <a:r>
              <a:rPr b="0" lang="en-US" sz="1800" spc="-1" strike="noStrike">
                <a:solidFill>
                  <a:srgbClr val="000000"/>
                </a:solidFill>
                <a:latin typeface="Arial"/>
              </a:rPr>
              <a:t> to create a content page using a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project entry in Solution Explorer.</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New Item from the context men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ll see the Add New Item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Web Form optio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 programming langu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e a name for the fil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Select Master Page option in this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a:t>
            </a:r>
            <a:endParaRPr b="0" lang="en-US" sz="1800" spc="-1" strike="noStrike">
              <a:solidFill>
                <a:srgbClr val="000000"/>
              </a:solidFill>
              <a:latin typeface="Arial"/>
            </a:endParaRPr>
          </a:p>
        </p:txBody>
      </p:sp>
      <p:pic>
        <p:nvPicPr>
          <p:cNvPr id="220" name="Picture 4" descr=""/>
          <p:cNvPicPr/>
          <p:nvPr/>
        </p:nvPicPr>
        <p:blipFill>
          <a:blip r:embed="rId1"/>
          <a:srcRect l="28021" t="26669" r="28334" b="30335"/>
          <a:stretch/>
        </p:blipFill>
        <p:spPr>
          <a:xfrm>
            <a:off x="4716360" y="3429000"/>
            <a:ext cx="4159440" cy="2560680"/>
          </a:xfrm>
          <a:prstGeom prst="rect">
            <a:avLst/>
          </a:prstGeom>
          <a:ln w="0">
            <a:noFill/>
          </a:ln>
        </p:spPr>
      </p:pic>
      <p:pic>
        <p:nvPicPr>
          <p:cNvPr id="221" name="Picture 4" descr="Untitled2.png"/>
          <p:cNvPicPr/>
          <p:nvPr/>
        </p:nvPicPr>
        <p:blipFill>
          <a:blip r:embed="rId2"/>
          <a:stretch/>
        </p:blipFill>
        <p:spPr>
          <a:xfrm>
            <a:off x="179280" y="3284640"/>
            <a:ext cx="44560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16:21:13Z</dcterms:created>
  <dc:creator>a</dc:creator>
  <dc:description/>
  <dc:language>en-US</dc:language>
  <cp:lastModifiedBy>User</cp:lastModifiedBy>
  <dcterms:modified xsi:type="dcterms:W3CDTF">2016-10-25T17:05:53Z</dcterms:modified>
  <cp:revision>138</cp:revision>
  <dc:subject/>
  <dc:title>Slide 1</dc:title>
</cp:coreProperties>
</file>