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D1A-BD55-47E6-B979-DBAF899A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F4B-DB80-47F8-A8EB-650C1CB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790-3A92-4C0C-A62F-C34CE502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71E-D68D-46F6-81AA-CA0D2BE0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F5C-B265-4160-A2E9-6A4BD6F2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E74-2085-4F34-B3D6-CAD3D24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877-68BA-4DFF-AA2F-60722021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759-1239-4BC3-9A4C-C8B07EFB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5F9-633B-411F-9588-01984D3C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7D9-2B8C-4832-8768-AA766DC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E05-FF15-49E5-ADB9-4CD16ED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481-784A-47C7-8993-6BB734B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8599-670E-4003-9CCF-09454C6A60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905120" y="152280"/>
              <a:ext cx="5410080" cy="101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Arial"/>
                </a:rPr>
                <a:t>Lipids;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The Hydrophobic Molecu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0760" y="63360"/>
              <a:ext cx="1676520" cy="13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30240" y="1562040"/>
              <a:ext cx="9099360" cy="5295600"/>
              <a:chOff x="30240" y="1562040"/>
              <a:chExt cx="9099360" cy="52956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913200" y="1562040"/>
                <a:ext cx="5216400" cy="5295600"/>
                <a:chOff x="3913200" y="1562040"/>
                <a:chExt cx="5216400" cy="5295600"/>
              </a:xfrm>
            </p:grpSpPr>
            <p:pic>
              <p:nvPicPr>
                <p:cNvPr id="49" name="" descr=""/>
                <p:cNvPicPr/>
                <p:nvPr/>
              </p:nvPicPr>
              <p:blipFill>
                <a:blip r:embed="rId3"/>
                <a:srcRect l="50824" t="0" r="0" b="4925"/>
                <a:stretch/>
              </p:blipFill>
              <p:spPr>
                <a:xfrm>
                  <a:off x="3913200" y="1562040"/>
                  <a:ext cx="5216400" cy="5257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"/>
                <p:cNvSpPr/>
                <p:nvPr/>
              </p:nvSpPr>
              <p:spPr>
                <a:xfrm>
                  <a:off x="3962520" y="4343040"/>
                  <a:ext cx="5105160" cy="251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0240" y="1600200"/>
                <a:ext cx="4914720" cy="5029200"/>
                <a:chOff x="30240" y="1600200"/>
                <a:chExt cx="4914720" cy="502920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4"/>
                <a:srcRect l="-954" t="0" r="51131" b="4925"/>
                <a:stretch/>
              </p:blipFill>
              <p:spPr>
                <a:xfrm>
                  <a:off x="30240" y="1600200"/>
                  <a:ext cx="4914720" cy="502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228600" y="4343400"/>
                  <a:ext cx="457200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" name=""/>
            <p:cNvSpPr/>
            <p:nvPr/>
          </p:nvSpPr>
          <p:spPr>
            <a:xfrm>
              <a:off x="152280" y="4572000"/>
              <a:ext cx="8839440" cy="1739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cc"/>
              </a:solidFill>
              <a:miter/>
            </a:ln>
            <a:effectLst>
              <a:outerShdw dist="117181" dir="2961631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a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tore large amounts of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rial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hospholipid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re major components of cell membra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rial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roid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nclude cholesterol and certain horm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58440" y="646596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s 69-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568-7267-4D33-8145-521D16DDA97F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52280" y="1131480"/>
            <a:ext cx="87631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roids are lipids with a carbon skeleton consisting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ur fus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لتحم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n 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steroids are created by varying functional groups attached to the r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" y="159480"/>
            <a:ext cx="87631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)- Steroid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4648320" y="2438280"/>
            <a:ext cx="4076640" cy="1846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320" y="6567480"/>
            <a:ext cx="83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8954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olester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 important steroid, is a component in animal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34340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 is also the precurso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ادة الخ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which all o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eroids are synthesiz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f these other steroids are hormones, including the vertebr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ex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cholesterol is clearly an essential molecule, high levels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cholesterol in the blood may contribute to </a:t>
            </a:r>
            <a:r>
              <a:rPr b="1" lang="en-GB" sz="2000" spc="-1" strike="noStrike" u="sng">
                <a:solidFill>
                  <a:srgbClr val="0000cc"/>
                </a:solidFill>
                <a:uFillTx/>
                <a:latin typeface="Arial"/>
              </a:rPr>
              <a:t>Atheroscle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2CD-C62E-4856-8374-53A011C5F797}" type="slidenum">
              <a:t>10</a:t>
            </a:fld>
          </a:p>
        </p:txBody>
      </p:sp>
    </p:spTree>
  </p:cSld>
  <p:transition spd="slow"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657600" y="457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12351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mposed of 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063960"/>
            <a:ext cx="1447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063960"/>
            <a:ext cx="17528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63960"/>
            <a:ext cx="198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52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2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5211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66680" y="3978360"/>
            <a:ext cx="2743200" cy="1353600"/>
            <a:chOff x="1066680" y="3978360"/>
            <a:chExt cx="2743200" cy="1353600"/>
          </a:xfrm>
        </p:grpSpPr>
        <p:grpSp>
          <p:nvGrpSpPr>
            <p:cNvPr id="197" name=""/>
            <p:cNvGrpSpPr/>
            <p:nvPr/>
          </p:nvGrpSpPr>
          <p:grpSpPr>
            <a:xfrm>
              <a:off x="1066680" y="3978360"/>
              <a:ext cx="2743200" cy="914400"/>
              <a:chOff x="1066680" y="3978360"/>
              <a:chExt cx="2743200" cy="914400"/>
            </a:xfrm>
          </p:grpSpPr>
          <p:sp>
            <p:nvSpPr>
              <p:cNvPr id="198" name=""/>
              <p:cNvSpPr/>
              <p:nvPr/>
            </p:nvSpPr>
            <p:spPr>
              <a:xfrm>
                <a:off x="3809880" y="397836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066680" y="4892760"/>
                <a:ext cx="2743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066680" y="428292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219320" y="4498920"/>
              <a:ext cx="236196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143000" y="1692360"/>
            <a:ext cx="6781680" cy="1218600"/>
            <a:chOff x="1143000" y="1692360"/>
            <a:chExt cx="6781680" cy="1218600"/>
          </a:xfrm>
        </p:grpSpPr>
        <p:sp>
          <p:nvSpPr>
            <p:cNvPr id="203" name=""/>
            <p:cNvSpPr/>
            <p:nvPr/>
          </p:nvSpPr>
          <p:spPr>
            <a:xfrm>
              <a:off x="2971800" y="169236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9720" y="1692360"/>
              <a:ext cx="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2301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5268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2468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238880" y="3063960"/>
            <a:ext cx="16002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521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DAC-409B-40D1-AF5C-D2D2AB45DAD4}" type="slidenum">
              <a:t>11</a:t>
            </a:fld>
          </a:p>
        </p:txBody>
      </p:sp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s are an exception among macromolecules because they do not have poly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fying featur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صفة المُمَيـٍز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lipids is that they all have little or no affinity for wat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ا تـَمتزج بالم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s is because their structures are domina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n-polar covalent b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كونات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fats, an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diverse in form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fats are not polymers, they are large molecules assembled fro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كون م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molecules b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hydration reaction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nstructed from two kinds of smaller molecules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lycero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atty acid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حماض دُه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)-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677-459C-41FF-8F83-2AF5FB1C45A0}" type="slidenum">
              <a:t>2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15228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52280"/>
            <a:ext cx="2057400" cy="403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t is composed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ree fatty ac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ked with glyce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815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s are classified in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tur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-satur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33720" y="1306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76320"/>
            <a:ext cx="5562720" cy="2145960"/>
            <a:chOff x="2286000" y="76320"/>
            <a:chExt cx="5562720" cy="2145960"/>
          </a:xfrm>
        </p:grpSpPr>
        <p:grpSp>
          <p:nvGrpSpPr>
            <p:cNvPr id="65" name=""/>
            <p:cNvGrpSpPr/>
            <p:nvPr/>
          </p:nvGrpSpPr>
          <p:grpSpPr>
            <a:xfrm>
              <a:off x="4191120" y="101520"/>
              <a:ext cx="533160" cy="761760"/>
              <a:chOff x="4191120" y="101520"/>
              <a:chExt cx="533160" cy="761760"/>
            </a:xfrm>
          </p:grpSpPr>
          <p:sp>
            <p:nvSpPr>
              <p:cNvPr id="66" name=""/>
              <p:cNvSpPr/>
              <p:nvPr/>
            </p:nvSpPr>
            <p:spPr>
              <a:xfrm>
                <a:off x="4191120" y="1015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19360" y="558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486400" y="76320"/>
              <a:ext cx="533520" cy="761760"/>
              <a:chOff x="5486400" y="76320"/>
              <a:chExt cx="533520" cy="761760"/>
            </a:xfrm>
          </p:grpSpPr>
          <p:sp>
            <p:nvSpPr>
              <p:cNvPr id="69" name=""/>
              <p:cNvSpPr/>
              <p:nvPr/>
            </p:nvSpPr>
            <p:spPr>
              <a:xfrm>
                <a:off x="5486400" y="76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15000" y="53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286000" y="254160"/>
              <a:ext cx="5562720" cy="1968120"/>
              <a:chOff x="2286000" y="254160"/>
              <a:chExt cx="5562720" cy="19681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286000" y="254160"/>
                <a:ext cx="5562720" cy="1968120"/>
                <a:chOff x="2286000" y="254160"/>
                <a:chExt cx="5562720" cy="19681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76920" y="9399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4864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29400" y="9399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191120" y="787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05320" y="10159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832120" y="7254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5181120" y="1028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3886200" y="11685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7009920" y="1015920"/>
                  <a:ext cx="3812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flipV="1">
                  <a:off x="5791320" y="1015560"/>
                  <a:ext cx="91440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flipV="1">
                  <a:off x="4495320" y="1091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flipV="1">
                  <a:off x="3200400" y="109188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152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4876920" y="254160"/>
                  <a:ext cx="533160" cy="761760"/>
                  <a:chOff x="4876920" y="254160"/>
                  <a:chExt cx="533160" cy="7617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4876920" y="254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105160" y="711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3479760" y="355680"/>
                  <a:ext cx="533520" cy="761760"/>
                  <a:chOff x="3479760" y="355680"/>
                  <a:chExt cx="533520" cy="7617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479760" y="3556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708360" y="8128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505320" y="1473120"/>
                  <a:ext cx="533160" cy="749160"/>
                  <a:chOff x="3505320" y="1473120"/>
                  <a:chExt cx="533160" cy="7491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505320" y="17017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733920" y="14731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4191120" y="1244520"/>
                  <a:ext cx="533160" cy="749160"/>
                  <a:chOff x="4191120" y="1244520"/>
                  <a:chExt cx="533160" cy="7491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4191120" y="14731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19720" y="12445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4876920" y="1397160"/>
                  <a:ext cx="533160" cy="749160"/>
                  <a:chOff x="4876920" y="1397160"/>
                  <a:chExt cx="533160" cy="749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4876920" y="16257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105520" y="13971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5511960" y="1168560"/>
                  <a:ext cx="533160" cy="749160"/>
                  <a:chOff x="5511960" y="1168560"/>
                  <a:chExt cx="533160" cy="749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5511960" y="1397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740560" y="11685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603840" y="281160"/>
                  <a:ext cx="533520" cy="761760"/>
                  <a:chOff x="6603840" y="281160"/>
                  <a:chExt cx="5335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6603840" y="2811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832440" y="738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6629400" y="1373040"/>
                  <a:ext cx="533160" cy="749160"/>
                  <a:chOff x="6629400" y="1373040"/>
                  <a:chExt cx="533160" cy="749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6629400" y="16016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858000" y="13730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2681640" y="617760"/>
                  <a:ext cx="274680" cy="263160"/>
                  <a:chOff x="2681640" y="617760"/>
                  <a:chExt cx="274680" cy="2631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733480" y="61776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681640" y="67356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2286000" y="254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 flipH="1">
                <a:off x="2819160" y="1155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 flipH="1" flipV="1">
            <a:off x="1155240" y="158868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36840" y="13352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623880"/>
            <a:ext cx="2210040" cy="3416040"/>
            <a:chOff x="152280" y="623880"/>
            <a:chExt cx="2210040" cy="3416040"/>
          </a:xfrm>
        </p:grpSpPr>
        <p:sp>
          <p:nvSpPr>
            <p:cNvPr id="118" name=""/>
            <p:cNvSpPr/>
            <p:nvPr/>
          </p:nvSpPr>
          <p:spPr>
            <a:xfrm>
              <a:off x="774720" y="1309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4720" y="20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472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240" y="1309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5760" y="16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5240" y="2085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45760" y="2390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3520" y="313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003320" y="17409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003320" y="25030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003320" y="325296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2376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55600" y="3138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351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21477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28335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003320" y="105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6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816200" y="1320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15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0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65530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5.10, Page 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302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erol consists of a thre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keleton with a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 attached to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9132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tty acid consists of a carboxyl group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=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ttached to a long carbon skeleton, often 16 to 18 carbons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660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621-9F18-4391-B4ED-0455C40C2CEA}" type="slidenum">
              <a:t>3</a:t>
            </a:fld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915400" cy="13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pol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-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nds in the long hydrocarbon skeleton make fa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fat, three fatty acids are joined to glycerol by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reating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iacylglycer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447920" y="1905120"/>
            <a:ext cx="7467480" cy="4340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0" y="656100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0b, Page 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D82-091D-4402-879C-01FF68BA2950}" type="slidenum">
              <a:t>4</a:t>
            </a:fld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915400" cy="13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s may var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ختل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length (number of carbons) and in the number and locations of double b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re are n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bon-carbon double b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n the molecule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 saturated fatty a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ش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every possible posi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2895480"/>
            <a:ext cx="3648240" cy="3733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739320" y="5867280"/>
            <a:ext cx="124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1a &amp; 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ge 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752480"/>
            <a:ext cx="8610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 or more carbon-carbon double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the molecule is a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saturated fatty ac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مشب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ormed by the remova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oms from the carbon skele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>
            <a:lum contrast="6000"/>
          </a:blip>
          <a:srcRect l="50824" t="0" r="0" b="4925"/>
          <a:stretch/>
        </p:blipFill>
        <p:spPr>
          <a:xfrm>
            <a:off x="0" y="2957400"/>
            <a:ext cx="3541680" cy="36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0" t="40718" r="8536" b="3420"/>
          <a:stretch/>
        </p:blipFill>
        <p:spPr>
          <a:xfrm>
            <a:off x="2362320" y="3276720"/>
            <a:ext cx="342900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CEC-B4E1-4AB3-B2FB-D6F22B5B359B}" type="slidenum">
              <a:t>5</a:t>
            </a:fld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400" y="39528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)- Saturated Fat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0047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146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954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ost animal fats are satur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376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5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turated fats-rich diet results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4197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8006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Most vegetable fats (oils)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181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liqu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530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886200"/>
            <a:ext cx="54100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غير مشبع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3EF-A7D0-4CAB-B796-1B0CBC94BAEA}" type="slidenum">
              <a:t>6</a:t>
            </a:fld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763120" cy="53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major function of fats is energy sto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m of fat stores more than twice as much energy as a gram of a polysacchar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s use starch for energy storage when mobility is not a concern, but use oils when dispersal and packing is important, as in s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nd other mammals store fats as long-term energy reserv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خزون طاقة طويل المد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ipose cell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خلايا دهن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3D2-E98E-430C-A418-165D784952FC}" type="slidenum">
              <a:t>7</a:t>
            </a:fld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2280" y="1177920"/>
            <a:ext cx="830592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hosphate group carries a negati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600" y="110520"/>
            <a:ext cx="87631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)- Phospholipids;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819520"/>
            <a:ext cx="320040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action of phospholipids with water is compl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6491160"/>
            <a:ext cx="167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2, Page 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3E9-581D-4612-94C6-1A503C6B3697}" type="slidenum">
              <a:t>8</a:t>
            </a:fld>
          </a:p>
        </p:txBody>
      </p:sp>
    </p:spTree>
  </p:cSld>
  <p:transition spd="slow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352680" y="457200"/>
            <a:ext cx="5715000" cy="2361960"/>
            <a:chOff x="3352680" y="457200"/>
            <a:chExt cx="5715000" cy="23619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rcRect l="0" t="2224" r="0" b="54457"/>
            <a:stretch/>
          </p:blipFill>
          <p:spPr>
            <a:xfrm>
              <a:off x="3429000" y="457200"/>
              <a:ext cx="56386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352680" y="1544040"/>
              <a:ext cx="1143000" cy="5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00400" y="3962520"/>
            <a:ext cx="5943600" cy="2285640"/>
            <a:chOff x="3200400" y="3962520"/>
            <a:chExt cx="5943600" cy="228564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rcRect l="0" t="52561" r="0" b="9600"/>
            <a:stretch/>
          </p:blipFill>
          <p:spPr>
            <a:xfrm>
              <a:off x="3200400" y="3962520"/>
              <a:ext cx="59436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200400" y="4929480"/>
              <a:ext cx="167616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4800600" cy="25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hospholipids are added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a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y self-assem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شكل ذات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aggreg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مع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hydrophobic tails pointing toward the center and the hydrophilic heads on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ype of structure is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cel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زه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03440" y="3300480"/>
            <a:ext cx="195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3a &amp; b, Page 7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124080"/>
            <a:ext cx="50292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surface of a cell phospholipids are arranged as a bilay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طبقة مزدوج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, the hydrophilic heads are on the outside in contact with the aqueous solu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حلول الم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hydrophobic tails from the co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hospholipid bilayer forms a barri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اج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the cell and the external environ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يئة الخارج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the major component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81A-DA6D-4C82-B97E-28119EDDF249}" type="slidenum">
              <a:t>9</a:t>
            </a:fld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7:50:44Z</dcterms:created>
  <dc:creator>Ash Ahm</dc:creator>
  <dc:description/>
  <dc:language>en-US</dc:language>
  <cp:lastModifiedBy>Saad</cp:lastModifiedBy>
  <dcterms:modified xsi:type="dcterms:W3CDTF">2007-10-06T20:10:35Z</dcterms:modified>
  <cp:revision>197</cp:revision>
  <dc:subject/>
  <dc:title>3- F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