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DD5C-B484-48ED-8886-937583D4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0FF-B6D0-4DB7-A631-E429F32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FB1-5F78-4E14-A005-20E56FA1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918-B60C-4DC0-BDCD-3A268388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214B-E465-480A-9949-F7DD747C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073-ACA1-4A0B-896D-21EB0728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0BF-BF02-4D4C-BE7E-0098F85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254A-93E1-42E2-B727-FEC478C0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7CB-A937-436E-959C-8E18E52F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B70-1AA9-438D-87AA-94753944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A60-6F9B-486B-BEF2-AEBB5F0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0B7-6E0C-4324-9BD0-B549DEE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BF92-9FF0-4180-95EF-BCB0C8E7A84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6857640"/>
            <a:chOff x="0" y="0"/>
            <a:chExt cx="9144000" cy="6857640"/>
          </a:xfrm>
        </p:grpSpPr>
        <p:sp>
          <p:nvSpPr>
            <p:cNvPr id="43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905120" y="152280"/>
              <a:ext cx="5410080" cy="101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Arial"/>
                </a:rPr>
                <a:t>Lipids;</a:t>
              </a: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The Hydrophobic Molecu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0760" y="63360"/>
              <a:ext cx="1676520" cy="139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" name=""/>
            <p:cNvGrpSpPr/>
            <p:nvPr/>
          </p:nvGrpSpPr>
          <p:grpSpPr>
            <a:xfrm>
              <a:off x="30240" y="1562040"/>
              <a:ext cx="9099360" cy="5295600"/>
              <a:chOff x="30240" y="1562040"/>
              <a:chExt cx="9099360" cy="529560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913200" y="1562040"/>
                <a:ext cx="5216400" cy="5295600"/>
                <a:chOff x="3913200" y="1562040"/>
                <a:chExt cx="5216400" cy="529560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3"/>
                <a:srcRect l="50824" t="0" r="0" b="4925"/>
                <a:stretch/>
              </p:blipFill>
              <p:spPr>
                <a:xfrm>
                  <a:off x="3913200" y="1562040"/>
                  <a:ext cx="5216400" cy="5257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0" name=""/>
                <p:cNvSpPr/>
                <p:nvPr/>
              </p:nvSpPr>
              <p:spPr>
                <a:xfrm>
                  <a:off x="3962520" y="4343040"/>
                  <a:ext cx="5105160" cy="25146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30240" y="1600200"/>
                <a:ext cx="4914720" cy="5029200"/>
                <a:chOff x="30240" y="1600200"/>
                <a:chExt cx="4914720" cy="5029200"/>
              </a:xfrm>
            </p:grpSpPr>
            <p:pic>
              <p:nvPicPr>
                <p:cNvPr id="52" name="" descr=""/>
                <p:cNvPicPr/>
                <p:nvPr/>
              </p:nvPicPr>
              <p:blipFill>
                <a:blip r:embed="rId4"/>
                <a:srcRect l="-954" t="0" r="51131" b="4925"/>
                <a:stretch/>
              </p:blipFill>
              <p:spPr>
                <a:xfrm>
                  <a:off x="30240" y="1600200"/>
                  <a:ext cx="4914720" cy="502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28600" y="4343400"/>
                  <a:ext cx="4572000" cy="2286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" name=""/>
            <p:cNvSpPr/>
            <p:nvPr/>
          </p:nvSpPr>
          <p:spPr>
            <a:xfrm>
              <a:off x="152280" y="4572000"/>
              <a:ext cx="8839440" cy="1739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cc"/>
              </a:solidFill>
              <a:miter/>
            </a:ln>
            <a:effectLst>
              <a:outerShdw dist="117181" dir="2961631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at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tore large amounts of ener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rial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ospholipid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re major components of cell membra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buClr>
                  <a:srgbClr val="ff0000"/>
                </a:buClr>
                <a:buFont typeface="Arial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roid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nclude cholesterol and certain hormon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58440" y="646596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s 69-7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ECA4-4ECC-4275-AD46-B5E8808F846A}" type="slidenum">
              <a:t>1</a:t>
            </a:fld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52280" y="1131480"/>
            <a:ext cx="876312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roids are lipids with a carbon skeleton consisting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ur fus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لتحم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 r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steroids are created by varying functional groups attached to the r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" y="159480"/>
            <a:ext cx="87631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)- Steroids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lude cholesterol and certain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0" t="0" r="0" b="5378"/>
          <a:stretch/>
        </p:blipFill>
        <p:spPr>
          <a:xfrm>
            <a:off x="4648320" y="2438280"/>
            <a:ext cx="4076640" cy="1846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320" y="6567480"/>
            <a:ext cx="83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89548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olester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important steroid, is a component in animal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3434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 is also the precurso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ادة الخا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which all o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teroids are synthesiz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of these other steroids are hormones, including the vertebr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sex horm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cholesterol is clearly an essential molecule, high levels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cholesterol in the blood may contribute to </a:t>
            </a:r>
            <a:r>
              <a:rPr b="1" lang="en-GB" sz="2000" spc="-1" strike="noStrike" u="sng">
                <a:solidFill>
                  <a:srgbClr val="0000cc"/>
                </a:solidFill>
                <a:uFillTx/>
                <a:latin typeface="Arial"/>
              </a:rPr>
              <a:t>Atheroscler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8E1-DE69-4D23-95C0-45523E2C6E09}" type="slidenum">
              <a:t>10</a:t>
            </a:fld>
          </a:p>
        </p:txBody>
      </p:sp>
    </p:spTree>
  </p:cSld>
  <p:transition spd="slow"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657600" y="45720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</a:rPr>
              <a:t>F a t 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8120" y="12351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mposed of Lip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3063960"/>
            <a:ext cx="14479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3063960"/>
            <a:ext cx="175284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satu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3063960"/>
            <a:ext cx="19810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olip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52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imal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52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getable F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76920" y="352116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-layer of cel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066680" y="3978360"/>
            <a:ext cx="2743200" cy="1353600"/>
            <a:chOff x="1066680" y="3978360"/>
            <a:chExt cx="2743200" cy="1353600"/>
          </a:xfrm>
        </p:grpSpPr>
        <p:grpSp>
          <p:nvGrpSpPr>
            <p:cNvPr id="197" name=""/>
            <p:cNvGrpSpPr/>
            <p:nvPr/>
          </p:nvGrpSpPr>
          <p:grpSpPr>
            <a:xfrm>
              <a:off x="1066680" y="3978360"/>
              <a:ext cx="2743200" cy="914400"/>
              <a:chOff x="1066680" y="3978360"/>
              <a:chExt cx="2743200" cy="914400"/>
            </a:xfrm>
          </p:grpSpPr>
          <p:sp>
            <p:nvSpPr>
              <p:cNvPr id="198" name=""/>
              <p:cNvSpPr/>
              <p:nvPr/>
            </p:nvSpPr>
            <p:spPr>
              <a:xfrm>
                <a:off x="3809880" y="397836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1066680" y="4892760"/>
                <a:ext cx="27432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066680" y="4282920"/>
                <a:ext cx="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1219320" y="4498920"/>
              <a:ext cx="2361960" cy="8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cc"/>
                  </a:solidFill>
                  <a:latin typeface="Arial"/>
                </a:rPr>
                <a:t>Hydrogen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cc"/>
                  </a:solidFill>
                  <a:latin typeface="Arial"/>
                </a:rPr>
                <a:t>هَـدْرَﭽـَــــــــ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143000" y="1692360"/>
            <a:ext cx="6781680" cy="1218600"/>
            <a:chOff x="1143000" y="1692360"/>
            <a:chExt cx="6781680" cy="1218600"/>
          </a:xfrm>
        </p:grpSpPr>
        <p:sp>
          <p:nvSpPr>
            <p:cNvPr id="203" name=""/>
            <p:cNvSpPr/>
            <p:nvPr/>
          </p:nvSpPr>
          <p:spPr>
            <a:xfrm>
              <a:off x="2971800" y="169236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9720" y="1692360"/>
              <a:ext cx="0" cy="60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3000" y="2301480"/>
              <a:ext cx="678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4300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5268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2468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301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238880" y="3063960"/>
            <a:ext cx="16002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352116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x horm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B67-5FF7-419A-AC3C-7862F9E000E8}" type="slidenum">
              <a:t>11</a:t>
            </a:fld>
          </a:p>
        </p:txBody>
      </p:sp>
    </p:spTree>
  </p:cSld>
  <p:transition spd="slow"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2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pids are an exception among macromolecules because they do not have poly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fying featur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مُمَيـٍز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lipids is that they all have little or no affinity for wat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ا تـَمتزج بالم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is because their structures are domina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n-polar covalent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p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كونات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fats, an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diverse in form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fats are not polymers, they are large molecules assembled fro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كون م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molecules b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ehydration reaction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constructed from two kinds of smaller molecules,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lycero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fatty acid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حماض دُه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)-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A7B7-8ACE-47D0-A573-2FBAC6431515}" type="slidenum">
              <a:t>2</a:t>
            </a:fld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152280"/>
            <a:ext cx="5486400" cy="2057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52280"/>
            <a:ext cx="2057400" cy="403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3578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t is composed 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ree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inked with glyce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81500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ts are classified in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tur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-satur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33720" y="1306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286000" y="76320"/>
            <a:ext cx="5562720" cy="2145960"/>
            <a:chOff x="2286000" y="76320"/>
            <a:chExt cx="5562720" cy="2145960"/>
          </a:xfrm>
        </p:grpSpPr>
        <p:grpSp>
          <p:nvGrpSpPr>
            <p:cNvPr id="65" name=""/>
            <p:cNvGrpSpPr/>
            <p:nvPr/>
          </p:nvGrpSpPr>
          <p:grpSpPr>
            <a:xfrm>
              <a:off x="4191120" y="101520"/>
              <a:ext cx="533160" cy="761760"/>
              <a:chOff x="4191120" y="101520"/>
              <a:chExt cx="533160" cy="761760"/>
            </a:xfrm>
          </p:grpSpPr>
          <p:sp>
            <p:nvSpPr>
              <p:cNvPr id="66" name=""/>
              <p:cNvSpPr/>
              <p:nvPr/>
            </p:nvSpPr>
            <p:spPr>
              <a:xfrm>
                <a:off x="4191120" y="101520"/>
                <a:ext cx="53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19360" y="5587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5486400" y="76320"/>
              <a:ext cx="533520" cy="761760"/>
              <a:chOff x="5486400" y="76320"/>
              <a:chExt cx="533520" cy="761760"/>
            </a:xfrm>
          </p:grpSpPr>
          <p:sp>
            <p:nvSpPr>
              <p:cNvPr id="69" name=""/>
              <p:cNvSpPr/>
              <p:nvPr/>
            </p:nvSpPr>
            <p:spPr>
              <a:xfrm>
                <a:off x="5486400" y="763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715000" y="53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2286000" y="254160"/>
              <a:ext cx="5562720" cy="1968120"/>
              <a:chOff x="2286000" y="254160"/>
              <a:chExt cx="5562720" cy="196812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2286000" y="254160"/>
                <a:ext cx="5562720" cy="1968120"/>
                <a:chOff x="2286000" y="254160"/>
                <a:chExt cx="5562720" cy="1968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876920" y="93996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4864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29400" y="9399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191120" y="7873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505320" y="1015920"/>
                  <a:ext cx="533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832120" y="72540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>
                  <a:off x="5181120" y="1028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H="1">
                  <a:off x="3886200" y="116856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H="1">
                  <a:off x="7009920" y="1015920"/>
                  <a:ext cx="38124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H="1" flipV="1">
                  <a:off x="5791320" y="1015560"/>
                  <a:ext cx="914400" cy="228600"/>
                </a:xfrm>
                <a:prstGeom prst="line">
                  <a:avLst/>
                </a:prstGeom>
                <a:ln w="57240">
                  <a:solidFill>
                    <a:srgbClr val="0000cc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flipH="1" flipV="1">
                  <a:off x="4495320" y="1091880"/>
                  <a:ext cx="38124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3200400" y="1091880"/>
                  <a:ext cx="380880" cy="152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15200" y="7113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"/>
                <p:cNvGrpSpPr/>
                <p:nvPr/>
              </p:nvGrpSpPr>
              <p:grpSpPr>
                <a:xfrm>
                  <a:off x="4876920" y="254160"/>
                  <a:ext cx="533160" cy="761760"/>
                  <a:chOff x="4876920" y="254160"/>
                  <a:chExt cx="533160" cy="7617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>
                    <a:off x="4876920" y="254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5105160" y="711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3479760" y="355680"/>
                  <a:ext cx="533520" cy="761760"/>
                  <a:chOff x="3479760" y="355680"/>
                  <a:chExt cx="533520" cy="7617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3479760" y="35568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708360" y="81288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3505320" y="1473120"/>
                  <a:ext cx="533160" cy="749160"/>
                  <a:chOff x="3505320" y="1473120"/>
                  <a:chExt cx="533160" cy="7491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3505320" y="17017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733920" y="14731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4191120" y="1244520"/>
                  <a:ext cx="533160" cy="749160"/>
                  <a:chOff x="4191120" y="1244520"/>
                  <a:chExt cx="533160" cy="74916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4191120" y="147312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4419720" y="124452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4876920" y="1397160"/>
                  <a:ext cx="533160" cy="749160"/>
                  <a:chOff x="4876920" y="1397160"/>
                  <a:chExt cx="533160" cy="74916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>
                    <a:off x="4876920" y="16257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5105520" y="13971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5511960" y="1168560"/>
                  <a:ext cx="533160" cy="749160"/>
                  <a:chOff x="5511960" y="1168560"/>
                  <a:chExt cx="533160" cy="749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5511960" y="139716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740560" y="116856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603840" y="281160"/>
                  <a:ext cx="533520" cy="761760"/>
                  <a:chOff x="6603840" y="281160"/>
                  <a:chExt cx="5335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6603840" y="281160"/>
                    <a:ext cx="533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832440" y="738360"/>
                    <a:ext cx="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6629400" y="1373040"/>
                  <a:ext cx="533160" cy="749160"/>
                  <a:chOff x="6629400" y="1373040"/>
                  <a:chExt cx="533160" cy="749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6629400" y="1601640"/>
                    <a:ext cx="5331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</a:rPr>
                      <a:t>H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858000" y="1373040"/>
                    <a:ext cx="0" cy="3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2681640" y="617760"/>
                  <a:ext cx="274680" cy="263160"/>
                  <a:chOff x="2681640" y="617760"/>
                  <a:chExt cx="274680" cy="26316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733480" y="617760"/>
                    <a:ext cx="22284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681640" y="673560"/>
                    <a:ext cx="223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" name=""/>
                <p:cNvSpPr/>
                <p:nvPr/>
              </p:nvSpPr>
              <p:spPr>
                <a:xfrm>
                  <a:off x="2286000" y="254160"/>
                  <a:ext cx="5335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"/>
              <p:cNvSpPr/>
              <p:nvPr/>
            </p:nvSpPr>
            <p:spPr>
              <a:xfrm flipH="1">
                <a:off x="2819160" y="1155600"/>
                <a:ext cx="15228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 flipH="1" flipV="1">
            <a:off x="1155240" y="1588680"/>
            <a:ext cx="444600" cy="11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36840" y="13352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280" y="623880"/>
            <a:ext cx="2210040" cy="3416040"/>
            <a:chOff x="152280" y="623880"/>
            <a:chExt cx="2210040" cy="3416040"/>
          </a:xfrm>
        </p:grpSpPr>
        <p:sp>
          <p:nvSpPr>
            <p:cNvPr id="118" name=""/>
            <p:cNvSpPr/>
            <p:nvPr/>
          </p:nvSpPr>
          <p:spPr>
            <a:xfrm>
              <a:off x="774720" y="130968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4720" y="20718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472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5240" y="1309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5760" y="16146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5240" y="20858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45760" y="2390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2280" y="283356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3520" y="313848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003320" y="17409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003320" y="250308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003320" y="3252960"/>
              <a:ext cx="0" cy="40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43000" y="2376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55600" y="31384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2120" y="3519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23880" y="21477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283356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003320" y="105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6238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816200" y="1320840"/>
            <a:ext cx="4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152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604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65530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5.10, Page 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302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erol consists of a thre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keleton with 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roup attached to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91320"/>
            <a:ext cx="8382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tty acid consists of a carboxyl group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=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ttached to a long carbon skeleton, often 16 to 18 carbons l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660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2CF-0D73-43DD-8BF9-C5C7252E68CF}" type="slidenum">
              <a:t>3</a:t>
            </a:fld>
          </a:p>
        </p:txBody>
      </p:sp>
    </p:spTree>
  </p:cSld>
  <p:transition spd="slow"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0.1875 0.22709 E">
                                      <p:cBhvr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1.85185E-006 L 0.19999 0.22222 E">
                                      <p:cBhvr>
                                        <p:cTn id="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9584 0.02153 E">
                                      <p:cBhvr>
                                        <p:cTn id="4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915400" cy="13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an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n-pol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-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nds in the long hydrocarbon skeleton make fat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fat, three fatty acids are joined to glycerol by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ter linka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reating 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iacylglycer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40718" r="8536" b="3420"/>
          <a:stretch/>
        </p:blipFill>
        <p:spPr>
          <a:xfrm>
            <a:off x="1447920" y="1905120"/>
            <a:ext cx="7467480" cy="4340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4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0b, Page 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17F-5D94-472E-8F6D-92378022179F}" type="slidenum">
              <a:t>4</a:t>
            </a:fld>
          </a:p>
        </p:txBody>
      </p:sp>
    </p:spTree>
  </p:cSld>
  <p:transition spd="slow"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915400" cy="13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s may v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ختل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length (number of carbons) and in the number and locations of double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re are n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bon-carbon double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n the molecule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saturated fatty ac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ش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ha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every possible posi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-954" t="0" r="51131" b="4925"/>
          <a:stretch/>
        </p:blipFill>
        <p:spPr>
          <a:xfrm>
            <a:off x="5495760" y="2895480"/>
            <a:ext cx="3648240" cy="3733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739320" y="5867280"/>
            <a:ext cx="124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1a &amp; 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age 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752480"/>
            <a:ext cx="86104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e or more carbon-carbon double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the molecule is an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nsaturated fatty ac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مشب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formed by the remova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oms from the carbon skele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>
            <a:lum contrast="6000"/>
          </a:blip>
          <a:srcRect l="50824" t="0" r="0" b="4925"/>
          <a:stretch/>
        </p:blipFill>
        <p:spPr>
          <a:xfrm>
            <a:off x="0" y="2957400"/>
            <a:ext cx="3541680" cy="36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rcRect l="0" t="40718" r="8536" b="3420"/>
          <a:stretch/>
        </p:blipFill>
        <p:spPr>
          <a:xfrm>
            <a:off x="2362320" y="3276720"/>
            <a:ext cx="3429000" cy="199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5A2-2439-4659-9A53-5108F59C8CCF}" type="slidenum">
              <a:t>5</a:t>
            </a:fld>
          </a:p>
        </p:txBody>
      </p:sp>
    </p:spTree>
  </p:cSld>
  <p:transition spd="slow"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400" y="39528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)- Saturated Fat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شبع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0047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atty acid components are saturated (there is no double bonds between the carbons. All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linked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1460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it is saturated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9548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ost animal fats are saturat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237636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sol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75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turated fats-rich diet results in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therosclerosi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صلب الشريان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44197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double bonds are formed by the removal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48006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Most vegetable fats (oils)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sh fats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 are unsaturated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1814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liquid at room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5530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y can be synthetically converted to saturated (solid) by adding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Hydroge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هَدْرَﭽـَ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886200"/>
            <a:ext cx="54100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B)- Un-saturated Fats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غير مشبع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AA6-6578-45DF-8CF7-D5ED36233228}" type="slidenum">
              <a:t>6</a:t>
            </a:fld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763120" cy="53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major function of fats is energy sto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m of fat stores more than twice as much energy as a gram of a polysacchar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s use starch for energy storage when mobility is not a concern, but use oils when dispersal and packing is important, as in s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s and other mammals store fats as long-term energy reserv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خزون طاقة طويل المد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ipose cel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دهن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0459-4341-426B-AF04-0BD9543123DC}" type="slidenum">
              <a:t>7</a:t>
            </a:fld>
          </a:p>
        </p:txBody>
      </p:sp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52280" y="1177920"/>
            <a:ext cx="8305920" cy="10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wo fatty acids attached to glycerol and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the thir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hosphate group carries a negativ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h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600" y="110520"/>
            <a:ext cx="87631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)- Phospholipids;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major components of cell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819520"/>
            <a:ext cx="320040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teraction of phospholipids with water is compl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tty aci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ut the phosphate group and its attachments form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0" t="0" r="30845" b="4769"/>
          <a:stretch/>
        </p:blipFill>
        <p:spPr>
          <a:xfrm>
            <a:off x="3809880" y="2286000"/>
            <a:ext cx="5181840" cy="4495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320" y="6491160"/>
            <a:ext cx="167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2, Page 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0F6-8326-483C-95CB-95F90654522B}" type="slidenum">
              <a:t>8</a:t>
            </a:fld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352680" y="457200"/>
            <a:ext cx="5715000" cy="2361960"/>
            <a:chOff x="3352680" y="457200"/>
            <a:chExt cx="5715000" cy="236196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rcRect l="0" t="2224" r="0" b="54457"/>
            <a:stretch/>
          </p:blipFill>
          <p:spPr>
            <a:xfrm>
              <a:off x="3429000" y="457200"/>
              <a:ext cx="56386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352680" y="1544040"/>
              <a:ext cx="1143000" cy="50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200400" y="3962520"/>
            <a:ext cx="5943600" cy="2285640"/>
            <a:chOff x="3200400" y="3962520"/>
            <a:chExt cx="5943600" cy="2285640"/>
          </a:xfrm>
        </p:grpSpPr>
        <p:pic>
          <p:nvPicPr>
            <p:cNvPr id="176" name="" descr=""/>
            <p:cNvPicPr/>
            <p:nvPr/>
          </p:nvPicPr>
          <p:blipFill>
            <a:blip r:embed="rId2"/>
            <a:srcRect l="0" t="52561" r="0" b="9600"/>
            <a:stretch/>
          </p:blipFill>
          <p:spPr>
            <a:xfrm>
              <a:off x="3200400" y="3962520"/>
              <a:ext cx="59436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200400" y="4929480"/>
              <a:ext cx="167616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4800600" cy="25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hospholipids are added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wa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y self-assem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شكل ذات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aggreg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مع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 hydrophobic tails pointing toward the center and the hydrophilic heads on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type of structure is calle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cel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زه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03440" y="3300480"/>
            <a:ext cx="195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3a &amp; b, Page 7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124080"/>
            <a:ext cx="50292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surface of a cell phospholipids are arranged as a bilay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طبقة مزدوج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in, the hydrophilic heads are on the outside in contact with the aqueous solu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حلول الم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he hydrophobic tails from the co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hospholipid bilayer forms a barri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اج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the cell and the external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يئة الخارج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the major component of cell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24C-EF0D-4FD9-B1CF-F8B4B3C0D871}" type="slidenum">
              <a:t>9</a:t>
            </a:fld>
          </a:p>
        </p:txBody>
      </p:sp>
    </p:spTree>
  </p:cSld>
  <p:transition spd="slow">
    <p:zoom dir="ou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7:50:44Z</dcterms:created>
  <dc:creator>Ash Ahm</dc:creator>
  <dc:description/>
  <dc:language>en-US</dc:language>
  <cp:lastModifiedBy>Saad</cp:lastModifiedBy>
  <dcterms:modified xsi:type="dcterms:W3CDTF">2007-10-06T20:10:35Z</dcterms:modified>
  <cp:revision>197</cp:revision>
  <dc:subject/>
  <dc:title>3- Fa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