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00D-5410-4CF9-8C0C-E0D65A81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3EE-9D04-41B8-825E-BD763A4D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A05-7270-4198-955D-7C7B95DC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EE3-372C-43E1-AD72-D9B3895C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E44-E883-4D10-8BFF-8E098FD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884-4783-4247-912C-F017DE2E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FF9-7E66-4E51-9CF8-ED077208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36D-78F8-480D-8089-B7E0031E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60F-E63D-4B74-97E9-42669B16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183-53AB-414E-AAFB-71DA5447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7CA-DA1A-4B7E-9B17-36CE9E34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DE5-89A8-4745-AE41-F7A32E5F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AB7E-3F89-4398-9136-E9627E537C1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tany.hawaii.edu/faculty/webb/BOT311/Cyanobacteria/AkineteHeterocystLMHigh300La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5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3606480"/>
            <a:ext cx="6215040" cy="2787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Grows in water and on damp soil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Unbranched filaments with barrel-like cell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ertain enlarged cells appear at intervals, which are known as heterocysts . Its transparent and thick wall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he whole filament is surrounded with gelatinous material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Each two heterocysts delimit in between , a number of cells called hormogonia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In most cases clusters of filaments are grouped together in the form of gelatinous mass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silicasecchidisk.conncoll.edu/Pics/Other%20Algae/Blue_Green%20jpegs/Nostoc_Key16.jpg"/>
          <p:cNvPicPr/>
          <p:nvPr/>
        </p:nvPicPr>
        <p:blipFill>
          <a:blip r:embed="rId1"/>
          <a:stretch/>
        </p:blipFill>
        <p:spPr>
          <a:xfrm rot="5400000">
            <a:off x="5106240" y="2022120"/>
            <a:ext cx="5295960" cy="2428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6939000" y="5884920"/>
            <a:ext cx="1633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588960"/>
            <a:ext cx="6176880" cy="3379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نمو في المياه وعلى التربة الرطب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خيوط غير متفر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تظهر بعض الخلايا المتضخمة على فترات، التي تعرف باس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cys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التي تكون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شفافة و سميكة الجدرا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خيوط كلها تكون محاطة بمادة هلامية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وجد بين كل أثنين من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cys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عدد من الخلايا يسمى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mogonia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في معظم الحالات تتجمع الخيوط  في مجاميع  مكونة كتل هلامية  (جيلاتينية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تكاثر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14360" y="1622520"/>
            <a:ext cx="404352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210600" indent="-210600"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كاثر الخض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getative reprodu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785880" y="4857840"/>
            <a:ext cx="7605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Times New Roman"/>
              </a:rPr>
              <a:t>التكاثر الجنسي غير معروف في هذا النو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exual reproduction is not known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457880" y="2071800"/>
            <a:ext cx="404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.    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كاثر اللاجنس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sexual reproduc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6572160" y="3860640"/>
            <a:ext cx="228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) By Akinete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975120" y="3860640"/>
            <a:ext cx="1857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y fiss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9"/>
          <p:cNvCxnSpPr>
            <a:stCxn id="49" idx="2"/>
          </p:cNvCxnSpPr>
          <p:nvPr/>
        </p:nvCxnSpPr>
        <p:spPr>
          <a:xfrm>
            <a:off x="6480000" y="2643120"/>
            <a:ext cx="950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1"/>
          <p:cNvCxnSpPr>
            <a:stCxn id="49" idx="2"/>
          </p:cNvCxnSpPr>
          <p:nvPr/>
        </p:nvCxnSpPr>
        <p:spPr>
          <a:xfrm flipH="1">
            <a:off x="5143320" y="2643120"/>
            <a:ext cx="13370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traight Arrow Connector 13"/>
          <p:cNvCxnSpPr>
            <a:stCxn id="46" idx="2"/>
          </p:cNvCxnSpPr>
          <p:nvPr/>
        </p:nvCxnSpPr>
        <p:spPr>
          <a:xfrm flipH="1">
            <a:off x="2785320" y="1417680"/>
            <a:ext cx="178668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5"/>
          <p:cNvCxnSpPr>
            <a:stCxn id="46" idx="2"/>
          </p:cNvCxnSpPr>
          <p:nvPr/>
        </p:nvCxnSpPr>
        <p:spPr>
          <a:xfrm>
            <a:off x="4570920" y="1417680"/>
            <a:ext cx="1786680" cy="58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Rectangle 1"/>
          <p:cNvSpPr/>
          <p:nvPr/>
        </p:nvSpPr>
        <p:spPr>
          <a:xfrm>
            <a:off x="7176960" y="33336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كينيت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4525920" y="33433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نشط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500280"/>
            <a:ext cx="8229600" cy="3097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By fragment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lament                                    breaks into fragmen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ch                  gives rise to                 a new fila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ually fragmentation occurs at the heterocys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fragment is capable of creeping movements in the gelatinous sheath until it escapes and grows into a new filament.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ight Arrow 3"/>
          <p:cNvSpPr/>
          <p:nvPr/>
        </p:nvSpPr>
        <p:spPr>
          <a:xfrm>
            <a:off x="1811160" y="4178160"/>
            <a:ext cx="1071720" cy="2145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4"/>
          <p:cNvSpPr/>
          <p:nvPr/>
        </p:nvSpPr>
        <p:spPr>
          <a:xfrm>
            <a:off x="1311120" y="4799160"/>
            <a:ext cx="505080" cy="142560"/>
          </a:xfrm>
          <a:prstGeom prst="rightArrow">
            <a:avLst>
              <a:gd name="adj1" fmla="val 50000"/>
              <a:gd name="adj2" fmla="val 501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609480" y="3348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58ed5"/>
                </a:solidFill>
                <a:latin typeface="Calibri"/>
                <a:ea typeface="Times New Roman"/>
              </a:rPr>
              <a:t>1- </a:t>
            </a:r>
            <a:r>
              <a:rPr b="1" lang="ar-SA" sz="2400" spc="-1" strike="noStrike">
                <a:solidFill>
                  <a:srgbClr val="558ed5"/>
                </a:solidFill>
                <a:latin typeface="Calibri"/>
                <a:cs typeface="Times New Roman"/>
              </a:rPr>
              <a:t>التكاثر الخض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</a:rPr>
              <a:t>1-Vegetative re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7"/>
          <p:cNvSpPr/>
          <p:nvPr/>
        </p:nvSpPr>
        <p:spPr>
          <a:xfrm>
            <a:off x="3130560" y="4799160"/>
            <a:ext cx="504720" cy="142560"/>
          </a:xfrm>
          <a:prstGeom prst="rightArrow">
            <a:avLst>
              <a:gd name="adj1" fmla="val 50000"/>
              <a:gd name="adj2" fmla="val 501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468360" y="1300320"/>
            <a:ext cx="8229600" cy="1768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بواسطة التجز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خيط يتجزأ ويتفكك إلى أجزاء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كل جزء ينمو ويعطي خيطا جديد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trocysts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غالبا التجزؤ يحدث عند خلا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هذا الجزء (الخيط الجديد) قادر على الحركة بواسطة الزحف على الغلاف  الهلامي حتى أنه يبتعد وينمو إلى خيوط جديدة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01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f81bd"/>
                </a:solidFill>
                <a:latin typeface="Calibri"/>
              </a:rPr>
              <a:t>2</a:t>
            </a:r>
            <a:r>
              <a:rPr b="1" lang="ar-SA" sz="2900" spc="-1" strike="noStrike">
                <a:solidFill>
                  <a:srgbClr val="4f81bd"/>
                </a:solidFill>
                <a:latin typeface="Calibri"/>
              </a:rPr>
              <a:t>- التكاثر اللاجنسي</a:t>
            </a:r>
            <a:br>
              <a:rPr sz="2900"/>
            </a:b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. 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Asexual reproduction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alibri"/>
              </a:rPr>
              <a:t>أ) بواسطة الأنشطا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) By fissio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كون إنحسار في منتصف الخلي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striction is formed in the middle of the ce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يمتد الأنحسار من السطح حتى يصل إلى المرك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ds from the surface inwards towards the c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نقسم إلى خليتين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vision into two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يؤدي إلى الزيادة في عدد الخلايا لكل الخيوط دون إنتاج خيط جديد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eads to the increase in number of cells per filament without production of a new one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own Arrow 3"/>
          <p:cNvSpPr/>
          <p:nvPr/>
        </p:nvSpPr>
        <p:spPr>
          <a:xfrm>
            <a:off x="4286160" y="26370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wn Arrow 4"/>
          <p:cNvSpPr/>
          <p:nvPr/>
        </p:nvSpPr>
        <p:spPr>
          <a:xfrm>
            <a:off x="4303800" y="379260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wn Arrow 5"/>
          <p:cNvSpPr/>
          <p:nvPr/>
        </p:nvSpPr>
        <p:spPr>
          <a:xfrm>
            <a:off x="4317840" y="4944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B) By Akinetes </a:t>
            </a: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0000"/>
                </a:solidFill>
                <a:latin typeface="Calibri"/>
              </a:rPr>
              <a:t>ب) بواسطة الأكاينيتات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الخلايا الخضرية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tive cell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زداد في الحج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n siz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صبح غنية بالمواد الغذائية، ويتشكل جدار سمي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ecome rich in food materials and form a thick wa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هذه الأكاينيتات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كون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صفراء أو بنية اللون، تكون ظروف مقاومة للظروف غير المناسب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se akinetes are yellow or brown in colour and they are very resistant to un-favourable condi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عندما تكون الظروف مواتية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n the conditions are favourab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الأكاينيتات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نموإلى خيط جدي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kinetes germinat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new filament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4"/>
          <p:cNvSpPr/>
          <p:nvPr/>
        </p:nvSpPr>
        <p:spPr>
          <a:xfrm>
            <a:off x="4468680" y="1833480"/>
            <a:ext cx="357480" cy="241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5"/>
          <p:cNvSpPr/>
          <p:nvPr/>
        </p:nvSpPr>
        <p:spPr>
          <a:xfrm>
            <a:off x="4468680" y="2563920"/>
            <a:ext cx="357480" cy="32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6"/>
          <p:cNvSpPr/>
          <p:nvPr/>
        </p:nvSpPr>
        <p:spPr>
          <a:xfrm>
            <a:off x="4468680" y="3565440"/>
            <a:ext cx="357480" cy="32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7"/>
          <p:cNvSpPr/>
          <p:nvPr/>
        </p:nvSpPr>
        <p:spPr>
          <a:xfrm>
            <a:off x="4468680" y="4429080"/>
            <a:ext cx="35748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8"/>
          <p:cNvSpPr/>
          <p:nvPr/>
        </p:nvSpPr>
        <p:spPr>
          <a:xfrm>
            <a:off x="4468680" y="5295960"/>
            <a:ext cx="357480" cy="32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AkineteHeterocystLMHigh300Lab.jpg (15127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716360"/>
            <a:ext cx="2550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4:16:58Z</dcterms:created>
  <dc:creator>DELL</dc:creator>
  <dc:description/>
  <dc:language>en-US</dc:language>
  <cp:lastModifiedBy>Naiyf Alharbi</cp:lastModifiedBy>
  <dcterms:modified xsi:type="dcterms:W3CDTF">2013-12-28T17:47:40Z</dcterms:modified>
  <cp:revision>20</cp:revision>
  <dc:subject/>
  <dc:title>Nostoc</dc:title>
</cp:coreProperties>
</file>