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A5B-D219-4A58-99B5-267919A9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CA1-AB2F-4FC0-9214-654F1EC7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A7F-4645-451D-AFC8-2424407E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39A-81DD-46E6-8C1E-C7F5C7D1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4E7-D55B-45FF-87C6-143AB735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9A9-EC29-48A5-AC8C-7F6D3A07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FCD-770F-424D-80FE-CA853907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B4B-5A10-405D-A8D2-A8225FA8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C14-59ED-4B2B-8029-7CCE164F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4E4-789C-405C-81FB-99059DF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638-94AE-4AF0-B3E4-EBDF7710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76D-0620-42C4-8AA9-BE1FF5A1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D7E5-4F83-4F63-AB05-30D2D93018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1767-5EA1-4CB0-9F5D-607B78DAC1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905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tion B: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5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9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3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9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6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6549-241A-4D5A-B1AA-892A67BAD1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304920" y="4168800"/>
            <a:ext cx="861048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F752-14AB-425C-87AF-0A99FA104A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roperties of enzyme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ion of enzyme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steric enzymes and feedback in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effectors of catalyti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066680" y="3049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9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61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4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US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304920" y="3776760"/>
            <a:ext cx="8534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chemical agent that accelerate the reaction without being consumed by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04920" y="1305000"/>
            <a:ext cx="861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t is the minimum amount of energy needed  to start a reaction. It is the amount of energy needed for the reactio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57120" y="2581200"/>
            <a:ext cx="8686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04920" y="326700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457200" y="575784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3FA0-7CA6-46FF-9041-5D9833952F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9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103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6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8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457200" y="55627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كلية العوم</cp:lastModifiedBy>
  <dcterms:modified xsi:type="dcterms:W3CDTF">2013-01-26T05:58:14Z</dcterms:modified>
  <cp:revision>237</cp:revision>
  <dc:subject/>
  <dc:title>Enzymes</dc:title>
</cp:coreProperties>
</file>