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1314-3CFE-4C08-98D8-162D5520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F216-1DCA-42A4-862B-EF304C39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CC6-0443-4753-BE37-5C5285F4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BDB6-A421-45AF-B530-292111FE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5E7-8960-4F7A-954A-8C25B79F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FD6-FE6B-4FA7-9567-E55B48E3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814E-B502-4664-9522-F3550214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B1CB-FFB1-4592-B3EF-BBF715E6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A978-05E3-4397-85F4-A2859ADA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01E-005F-460A-A9B3-FD896D82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2939-4DF2-46D3-8141-603243D4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3B6E-7C4E-4B77-9F23-D9392522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C37F-F9A8-4D28-9709-DFC951EE5E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AE1C-0567-4833-8D7C-52EEA6B225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6" name="Text Box 13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28600" y="169056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ction B: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228600" y="220968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are substrate spe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The active site is an enzyme’s catalytic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 A cell’s physical and chemical environment affects enzyme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3809880" y="4237200"/>
            <a:ext cx="2590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ZYMES: 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 protein with catalytic properties due to its power of specific ac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"/>
          <p:cNvPicPr/>
          <p:nvPr/>
        </p:nvPicPr>
        <p:blipFill>
          <a:blip r:embed="rId3"/>
          <a:srcRect l="18600" t="8056" r="4040" b="0"/>
          <a:stretch/>
        </p:blipFill>
        <p:spPr>
          <a:xfrm>
            <a:off x="19080" y="28440"/>
            <a:ext cx="1292040" cy="1419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457200" y="243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ctive site of enzyme and Catalytic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2"/>
          <p:cNvSpPr/>
          <p:nvPr/>
        </p:nvSpPr>
        <p:spPr>
          <a:xfrm>
            <a:off x="2666880" y="2057400"/>
            <a:ext cx="3810240" cy="30481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7"/>
          <p:cNvGrpSpPr/>
          <p:nvPr/>
        </p:nvGrpSpPr>
        <p:grpSpPr>
          <a:xfrm>
            <a:off x="3619440" y="3137040"/>
            <a:ext cx="1676160" cy="685800"/>
            <a:chOff x="3619440" y="3137040"/>
            <a:chExt cx="1676160" cy="685800"/>
          </a:xfrm>
        </p:grpSpPr>
        <p:sp>
          <p:nvSpPr>
            <p:cNvPr id="125" name="AutoShape 18"/>
            <p:cNvSpPr/>
            <p:nvPr/>
          </p:nvSpPr>
          <p:spPr>
            <a:xfrm>
              <a:off x="460980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9"/>
            <p:cNvSpPr/>
            <p:nvPr/>
          </p:nvSpPr>
          <p:spPr>
            <a:xfrm>
              <a:off x="361944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0"/>
            <p:cNvSpPr/>
            <p:nvPr/>
          </p:nvSpPr>
          <p:spPr>
            <a:xfrm>
              <a:off x="4305240" y="3365640"/>
              <a:ext cx="304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6"/>
          <p:cNvGrpSpPr/>
          <p:nvPr/>
        </p:nvGrpSpPr>
        <p:grpSpPr>
          <a:xfrm>
            <a:off x="380880" y="3124080"/>
            <a:ext cx="1676160" cy="685800"/>
            <a:chOff x="380880" y="3124080"/>
            <a:chExt cx="1676160" cy="685800"/>
          </a:xfrm>
        </p:grpSpPr>
        <p:sp>
          <p:nvSpPr>
            <p:cNvPr id="129" name="AutoShape 13"/>
            <p:cNvSpPr/>
            <p:nvPr/>
          </p:nvSpPr>
          <p:spPr>
            <a:xfrm>
              <a:off x="137124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14"/>
            <p:cNvSpPr/>
            <p:nvPr/>
          </p:nvSpPr>
          <p:spPr>
            <a:xfrm>
              <a:off x="38088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1066680" y="3352680"/>
              <a:ext cx="30456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AutoShape 23"/>
          <p:cNvSpPr/>
          <p:nvPr/>
        </p:nvSpPr>
        <p:spPr>
          <a:xfrm>
            <a:off x="461016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4"/>
          <p:cNvSpPr/>
          <p:nvPr/>
        </p:nvSpPr>
        <p:spPr>
          <a:xfrm>
            <a:off x="361944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5"/>
          <p:cNvSpPr/>
          <p:nvPr/>
        </p:nvSpPr>
        <p:spPr>
          <a:xfrm>
            <a:off x="4305240" y="33526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3657600" y="2057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c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38088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7772400" y="3062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7772400" y="4114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3962520" y="411480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2"/>
          <p:cNvSpPr/>
          <p:nvPr/>
        </p:nvSpPr>
        <p:spPr>
          <a:xfrm>
            <a:off x="152280" y="5943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35834 0.00555 E">
                                      <p:cBhvr>
                                        <p:cTn id="231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0.25833 -0.02223 E">
                                      <p:cBhvr>
                                        <p:cTn id="259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6667 0.11111 E">
                                      <p:cBhvr>
                                        <p:cTn id="267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3049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 The substrate binds to the active site of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80880" y="19051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 This forms a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zyme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mplex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hydrogen b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80880" y="29559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 The active site catalyses the conversion of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substrate to final products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compon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breaking b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80880" y="4267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- The resulting products release from the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380880" y="4876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 The enzyme starts another reaction over and over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38088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- Thus, the enzyme can have a huge metabolic effect i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the cata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0666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talytic Cycle of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6320" y="511200"/>
            <a:ext cx="89913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enzyme molecule can catalyze thousands or more reactions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are unaffected by the reaction and are reusa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عاد استخدامه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etabolic enzy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ات الأيض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atalyze a reaction in both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ver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ctual direction depends on the relative concentrations of products and reac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reactions in the direction of equilibriu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عاد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lower activation energy and speed a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e that a specific number of enzymes converts substrates to products depends in part on substrate concent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some substrate concentrations, the active sites on all enzymes are engag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شغو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lled enzyme satur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شبع الإنزي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21A6-07E1-4F10-BCCD-8D523EA458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rcRect l="0" t="0" r="0" b="51124"/>
          <a:stretch/>
        </p:blipFill>
        <p:spPr>
          <a:xfrm>
            <a:off x="4724280" y="29718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hape of the enzyme molecule  influence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onditions lead to the most active conformation and lead to optimal rate of reaction. These factors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)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llular factors affecting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76320" y="2895480"/>
            <a:ext cx="487656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mpera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ajor impact on reaction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temperature increases, reaction between substrate and active sites occur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at some point thermal increase begins to denature the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nzyme ha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ptimal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درجة حرارة مُثل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304920" y="4168800"/>
            <a:ext cx="8610480" cy="22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. Co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عوامل المساع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on-protein helpers for catalytic activity of enzymes. They bind permanentl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ائ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enzyme and include two typ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)- Inorga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factor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zinc, iron, and cop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)- Organic co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itam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molecules deriv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from vitamins.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enzy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.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so influences the reaction rate, each enzyme has a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ptimal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alls between pH 6 - 8 for most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digestive enzymes in the              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m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designed to work best                                                             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those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are optimal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oth matching                                                                    their working environ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rcRect l="3702" t="50129" r="3702" b="8220"/>
          <a:stretch/>
        </p:blipFill>
        <p:spPr>
          <a:xfrm>
            <a:off x="4952880" y="205740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92C4-3567-4B9E-A598-013639BD70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-360" y="233028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he inhibitor binds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same site as the 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us prevent the enzymatic re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rcRect l="0" t="0" r="0" b="68252"/>
          <a:stretch/>
        </p:blipFill>
        <p:spPr>
          <a:xfrm>
            <a:off x="152280" y="2895480"/>
            <a:ext cx="4419720" cy="1981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2"/>
          <a:srcRect l="0" t="31754" r="0" b="37468"/>
          <a:stretch/>
        </p:blipFill>
        <p:spPr>
          <a:xfrm>
            <a:off x="4572000" y="2955960"/>
            <a:ext cx="4419720" cy="19209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1828800" y="3049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)- Enzyme inhibitors: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ـثـبِّطات الإنزي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3"/>
          <a:srcRect l="0" t="62690" r="0" b="3118"/>
          <a:stretch/>
        </p:blipFill>
        <p:spPr>
          <a:xfrm>
            <a:off x="4952880" y="4834080"/>
            <a:ext cx="4038840" cy="19476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228600" y="5165640"/>
            <a:ext cx="4724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</a:t>
            </a: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لا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hibitor binds somewhere other than the active site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ing in changing enzyme shape. Finally, deactiv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خم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380880" y="1219320"/>
            <a:ext cx="8610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hibitors are chemicals that reduce the rate of enzym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re usually specific and they work at low concen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y block the enzyme but they do not usually destro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drugs and poisons are inhibitors of enzymes in the nervous system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0"/>
          <p:cNvSpPr/>
          <p:nvPr/>
        </p:nvSpPr>
        <p:spPr>
          <a:xfrm>
            <a:off x="304920" y="14479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insecticid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DDT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is inhibitor for key enzymes of nervous system in insects results in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304920" y="25909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ny antibiotics (e.g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Penicilli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 inhibits enzymes that help bacteria to make their cell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1143000" y="54100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Activation and inhibition of enzymes are essential for metabolic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1523880" y="304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me benefits of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57200" y="4724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next lecture we will se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properties of enzyme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ion of enzyme concen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steric enzymes and feedback inhib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effectors of catalytic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066680" y="3049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74680"/>
            <a:ext cx="6553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ydrolysis of sucrose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sugar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990720" y="13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20"/>
          <p:cNvGrpSpPr/>
          <p:nvPr/>
        </p:nvGrpSpPr>
        <p:grpSpPr>
          <a:xfrm>
            <a:off x="3809880" y="1066680"/>
            <a:ext cx="4267440" cy="667080"/>
            <a:chOff x="3809880" y="1066680"/>
            <a:chExt cx="4267440" cy="667080"/>
          </a:xfrm>
        </p:grpSpPr>
        <p:sp>
          <p:nvSpPr>
            <p:cNvPr id="59" name="Text Box 7"/>
            <p:cNvSpPr/>
            <p:nvPr/>
          </p:nvSpPr>
          <p:spPr>
            <a:xfrm>
              <a:off x="6705720" y="133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cr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9"/>
            <p:cNvGrpSpPr/>
            <p:nvPr/>
          </p:nvGrpSpPr>
          <p:grpSpPr>
            <a:xfrm>
              <a:off x="3809880" y="1066680"/>
              <a:ext cx="2743200" cy="623880"/>
              <a:chOff x="3809880" y="1066680"/>
              <a:chExt cx="2743200" cy="623880"/>
            </a:xfrm>
          </p:grpSpPr>
          <p:sp>
            <p:nvSpPr>
              <p:cNvPr id="61" name="AutoShape 6"/>
              <p:cNvSpPr/>
              <p:nvPr/>
            </p:nvSpPr>
            <p:spPr>
              <a:xfrm>
                <a:off x="3809880" y="1385640"/>
                <a:ext cx="2743200" cy="304920"/>
              </a:xfrm>
              <a:prstGeom prst="rightArrow">
                <a:avLst>
                  <a:gd name="adj1" fmla="val 50000"/>
                  <a:gd name="adj2" fmla="val 224911"/>
                </a:avLst>
              </a:prstGeom>
              <a:solidFill>
                <a:srgbClr val="ff0000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8"/>
              <p:cNvSpPr/>
              <p:nvPr/>
            </p:nvSpPr>
            <p:spPr>
              <a:xfrm>
                <a:off x="4191120" y="106668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21"/>
          <p:cNvGrpSpPr/>
          <p:nvPr/>
        </p:nvGrpSpPr>
        <p:grpSpPr>
          <a:xfrm>
            <a:off x="3733920" y="1523880"/>
            <a:ext cx="4266720" cy="1892160"/>
            <a:chOff x="3733920" y="1523880"/>
            <a:chExt cx="4266720" cy="1892160"/>
          </a:xfrm>
        </p:grpSpPr>
        <p:sp>
          <p:nvSpPr>
            <p:cNvPr id="64" name="Line 12"/>
            <p:cNvSpPr/>
            <p:nvPr/>
          </p:nvSpPr>
          <p:spPr>
            <a:xfrm>
              <a:off x="8000640" y="1523880"/>
              <a:ext cx="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3"/>
            <p:cNvSpPr/>
            <p:nvPr/>
          </p:nvSpPr>
          <p:spPr>
            <a:xfrm flipH="1">
              <a:off x="3733920" y="2971800"/>
              <a:ext cx="426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5"/>
            <p:cNvSpPr/>
            <p:nvPr/>
          </p:nvSpPr>
          <p:spPr>
            <a:xfrm>
              <a:off x="5367960" y="2604960"/>
              <a:ext cx="19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Hydration </a:t>
              </a: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(H</a:t>
              </a:r>
              <a:r>
                <a:rPr b="1" lang="en-US" sz="1800" spc="-1" strike="noStrike" baseline="-25000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6"/>
            <p:cNvSpPr/>
            <p:nvPr/>
          </p:nvSpPr>
          <p:spPr>
            <a:xfrm>
              <a:off x="5277240" y="2895480"/>
              <a:ext cx="19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Sucr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17"/>
          <p:cNvSpPr/>
          <p:nvPr/>
        </p:nvSpPr>
        <p:spPr>
          <a:xfrm>
            <a:off x="10666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304920" y="350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drolysis of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the presence of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Sucra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sults in its two monosaccharide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22860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is proces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609480" y="51814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breaking the bond between Glucose and Fructo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609480" y="5653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 Then, forming new bonds wit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rom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228600" y="6172200"/>
            <a:ext cx="800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is process consum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ستهلك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ergy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tivation Energy;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52280" y="1533600"/>
            <a:ext cx="8763120" cy="25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taly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ف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chemical agent that changes the rate of a reaction without being consum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ن أن يُستهل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 enzyme is a catalytic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reactions between molecules involve bo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brea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form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hydrolyz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dr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o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the bond between glucose and fructose must be broken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hydrolysis in the presence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a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atalys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حواجز الطا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5"/>
          <a:srcRect l="0" t="6429" r="1751" b="12593"/>
          <a:stretch/>
        </p:blipFill>
        <p:spPr>
          <a:xfrm>
            <a:off x="76320" y="4437000"/>
            <a:ext cx="8915400" cy="19638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3966120" y="443556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uc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6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304920" y="3776760"/>
            <a:ext cx="8534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atalyst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chemical agent that accelerate the reaction without being consumed by the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93720" y="4800600"/>
            <a:ext cx="7620120" cy="1068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zyme is a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catalytic protein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بروتين مساعد/محفز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04920" y="1305000"/>
            <a:ext cx="8610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ctivation Energy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t is the minimum amount of energy needed  to start a reaction. It is the amount of energy needed for the reactio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enzyme &amp; substrate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omplete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reak the b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57120" y="2581200"/>
            <a:ext cx="8686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sing the temperature for these reactions to complete will eithe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na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compounds 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ki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04920" y="3267000"/>
            <a:ext cx="8229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us, organisms must therefore use a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ataly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حفز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1752480" y="2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nzymes and 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457200" y="5757840"/>
            <a:ext cx="8381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zyme is a specific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خصص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talyst for specific reactants at any time in the cell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.g. Sucrase for only 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42F4-0CC4-418D-BC87-823035E6AA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rcRect l="0" t="0" r="0" b="5249"/>
          <a:stretch/>
        </p:blipFill>
        <p:spPr>
          <a:xfrm>
            <a:off x="5105520" y="4129200"/>
            <a:ext cx="3962160" cy="2652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029200" y="685800"/>
            <a:ext cx="3962520" cy="3162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74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tivation ener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of energy necessary to push the reactants over an energy b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transition state, the molecules                                                     are at an unstable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fference between free energy                                                         of the products and the free energy                                                             of the reactants is the delta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 increase the rate of                                                  rea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lowering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499"/>
              </a:spcBef>
              <a:buSzPct val="10281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ransition state can then                                                                   be reached even at moderate                                                        temperatu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51920" y="1223640"/>
            <a:ext cx="8915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ادة المطلوب هضمها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reactant which binds to an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substrate binds to an enzyme, the enzyme catalyz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سه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ver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و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substrate to the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كوناتها البنائ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ra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aly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an enzyme that binds to sucr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breaks the disaccharide into fructose and gluc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du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zymes are substrat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57200" y="3289320"/>
            <a:ext cx="25146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8"/>
          <p:cNvGrpSpPr/>
          <p:nvPr/>
        </p:nvGrpSpPr>
        <p:grpSpPr>
          <a:xfrm>
            <a:off x="6019920" y="3213000"/>
            <a:ext cx="2666880" cy="838080"/>
            <a:chOff x="6019920" y="3213000"/>
            <a:chExt cx="2666880" cy="838080"/>
          </a:xfrm>
        </p:grpSpPr>
        <p:sp>
          <p:nvSpPr>
            <p:cNvPr id="99" name="Oval 9"/>
            <p:cNvSpPr/>
            <p:nvPr/>
          </p:nvSpPr>
          <p:spPr>
            <a:xfrm>
              <a:off x="601992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101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"/>
            <p:cNvSpPr/>
            <p:nvPr/>
          </p:nvSpPr>
          <p:spPr>
            <a:xfrm>
              <a:off x="731520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61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11"/>
          <p:cNvSpPr/>
          <p:nvPr/>
        </p:nvSpPr>
        <p:spPr>
          <a:xfrm>
            <a:off x="6324480" y="33656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duc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2"/>
          <p:cNvGrpSpPr/>
          <p:nvPr/>
        </p:nvGrpSpPr>
        <p:grpSpPr>
          <a:xfrm>
            <a:off x="3124080" y="3124080"/>
            <a:ext cx="2743200" cy="698400"/>
            <a:chOff x="3124080" y="3124080"/>
            <a:chExt cx="2743200" cy="698400"/>
          </a:xfrm>
        </p:grpSpPr>
        <p:sp>
          <p:nvSpPr>
            <p:cNvPr id="103" name="AutoShape 13"/>
            <p:cNvSpPr/>
            <p:nvPr/>
          </p:nvSpPr>
          <p:spPr>
            <a:xfrm>
              <a:off x="3124080" y="3441600"/>
              <a:ext cx="2743200" cy="380880"/>
            </a:xfrm>
            <a:prstGeom prst="rightArrow">
              <a:avLst>
                <a:gd name="adj1" fmla="val 50000"/>
                <a:gd name="adj2" fmla="val 180057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4"/>
            <p:cNvSpPr/>
            <p:nvPr/>
          </p:nvSpPr>
          <p:spPr>
            <a:xfrm>
              <a:off x="3124080" y="3124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Enzyme (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catalyst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5"/>
          <p:cNvGrpSpPr/>
          <p:nvPr/>
        </p:nvGrpSpPr>
        <p:grpSpPr>
          <a:xfrm>
            <a:off x="380880" y="4267080"/>
            <a:ext cx="8458200" cy="814680"/>
            <a:chOff x="380880" y="4267080"/>
            <a:chExt cx="8458200" cy="814680"/>
          </a:xfrm>
        </p:grpSpPr>
        <p:sp>
          <p:nvSpPr>
            <p:cNvPr id="106" name="Text Box 16"/>
            <p:cNvSpPr/>
            <p:nvPr/>
          </p:nvSpPr>
          <p:spPr>
            <a:xfrm>
              <a:off x="380880" y="457164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crose + 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17"/>
            <p:cNvGrpSpPr/>
            <p:nvPr/>
          </p:nvGrpSpPr>
          <p:grpSpPr>
            <a:xfrm>
              <a:off x="2819520" y="4267080"/>
              <a:ext cx="2743200" cy="609480"/>
              <a:chOff x="2819520" y="4267080"/>
              <a:chExt cx="2743200" cy="609480"/>
            </a:xfrm>
          </p:grpSpPr>
          <p:sp>
            <p:nvSpPr>
              <p:cNvPr id="108" name="AutoShape 18"/>
              <p:cNvSpPr/>
              <p:nvPr/>
            </p:nvSpPr>
            <p:spPr>
              <a:xfrm>
                <a:off x="2819520" y="4724280"/>
                <a:ext cx="2743200" cy="152280"/>
              </a:xfrm>
              <a:prstGeom prst="rightArrow">
                <a:avLst>
                  <a:gd name="adj1" fmla="val 50000"/>
                  <a:gd name="adj2" fmla="val 450355"/>
                </a:avLst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19"/>
              <p:cNvSpPr/>
              <p:nvPr/>
            </p:nvSpPr>
            <p:spPr>
              <a:xfrm>
                <a:off x="3124440" y="42670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ff"/>
                    </a:solidFill>
                    <a:latin typeface="Arial"/>
                  </a:rPr>
                  <a:t>Sucra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 Box 20"/>
            <p:cNvSpPr/>
            <p:nvPr/>
          </p:nvSpPr>
          <p:spPr>
            <a:xfrm>
              <a:off x="5715000" y="45338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ucose + Fruc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21"/>
          <p:cNvSpPr/>
          <p:nvPr/>
        </p:nvSpPr>
        <p:spPr>
          <a:xfrm>
            <a:off x="304920" y="525456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ficity of enzym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خصصية الإنزيم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s to the shape of its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ctive Site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ركز النش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its </a:t>
            </a:r>
            <a:r>
              <a:rPr b="0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يـُناسب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surfa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the sub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560" y="1217160"/>
            <a:ext cx="8839080" cy="21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كان النش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enzymes is the groove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يب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surface of the enzyme into which the substrate 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ity of an enzyme is due to the fit betwee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ناسب ب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at of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the substrate binds, the enzyme changes shap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ringing chemical groups in position to catalyze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4"/>
          <a:srcRect l="4303" t="21667" r="9999" b="21667"/>
          <a:stretch/>
        </p:blipFill>
        <p:spPr>
          <a:xfrm>
            <a:off x="380880" y="3416400"/>
            <a:ext cx="8305920" cy="3136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ctive site is an enzyme’s catalytic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"/>
          <p:cNvPicPr/>
          <p:nvPr/>
        </p:nvPicPr>
        <p:blipFill>
          <a:blip r:embed="rId1"/>
          <a:srcRect l="0" t="0" r="0" b="3155"/>
          <a:stretch/>
        </p:blipFill>
        <p:spPr>
          <a:xfrm>
            <a:off x="1371600" y="555480"/>
            <a:ext cx="6858000" cy="61502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76320" y="76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atalytic Cycle of En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457200" y="55627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4:47:08Z</dcterms:created>
  <dc:creator>Ash Ahm</dc:creator>
  <dc:description/>
  <dc:language>en-US</dc:language>
  <cp:lastModifiedBy>كلية العوم</cp:lastModifiedBy>
  <dcterms:modified xsi:type="dcterms:W3CDTF">2013-01-26T05:58:14Z</dcterms:modified>
  <cp:revision>237</cp:revision>
  <dc:subject/>
  <dc:title>Enzymes</dc:title>
</cp:coreProperties>
</file>