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12.png" ContentType="image/png"/>
  <Override PartName="/ppt/media/image9.jpeg" ContentType="image/jpeg"/>
  <Override PartName="/ppt/media/image11.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2950-D9B7-496C-A911-FC9284BC0C7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 </a:t>
            </a:r>
            <a:r>
              <a:rPr b="1" lang="en-US" sz="1200" spc="-1" strike="noStrike">
                <a:solidFill>
                  <a:srgbClr val="000000"/>
                </a:solidFill>
                <a:latin typeface="Calibri"/>
                <a:ea typeface="Arial"/>
              </a:rPr>
              <a:t>PBX</a:t>
            </a:r>
            <a:r>
              <a:rPr b="0" lang="en-US" sz="1200" spc="-1" strike="noStrike">
                <a:solidFill>
                  <a:srgbClr val="000000"/>
                </a:solidFill>
                <a:latin typeface="Calibri"/>
                <a:ea typeface="Arial"/>
              </a:rPr>
              <a:t> (</a:t>
            </a:r>
            <a:r>
              <a:rPr b="1" lang="en-US" sz="1200" spc="-1" strike="noStrike">
                <a:solidFill>
                  <a:srgbClr val="000000"/>
                </a:solidFill>
                <a:latin typeface="Calibri"/>
                <a:ea typeface="Arial"/>
              </a:rPr>
              <a:t>private branch exchange</a:t>
            </a:r>
            <a:r>
              <a:rPr b="0" lang="en-US" sz="1200" spc="-1" strike="noStrike">
                <a:solidFill>
                  <a:srgbClr val="000000"/>
                </a:solidFill>
                <a:latin typeface="Calibri"/>
                <a:ea typeface="Arial"/>
              </a:rPr>
              <a:t>) is a telephone system within an enterprise that switches calls between enterprise users on local lines while allowing all users to share a certain number of external phone lines.</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4C02-F3A6-45DC-B627-6786C77DF06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45D7C-90CE-427E-ACDB-9B1C10F2A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B8B74-AD92-4772-944D-F329CEC3F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A2839-7495-408F-BCEF-9E37D598B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745D7-7DD5-454D-B919-575B56453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15900-6488-4F8C-B368-D5D08FE75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09E1F-4F05-445D-A135-2A8A096FA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1D3E0-97B8-4E6D-B81C-649933743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8CF1D-851D-429B-BA87-4018D9168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144AC-16C2-4187-B647-3DB36489D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15318-61B4-40EE-B1E7-46320C660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255DC-F518-4940-82AB-01F868AA6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47A90-2211-451D-AB80-0279F1A0A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C9699-F8B1-42BA-8A46-53E471AFC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DE3F2-3419-480C-A266-9A895E6CB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EDC53-5C59-4C7A-A133-742BDAC58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DFC2C-2C11-45AF-BBBF-BA3710C48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6BFB22-A4F2-46C6-A2C2-67A282B23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87B80F-0A60-463A-B87C-50E980ED0A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5A35DF-CE2C-4AF7-8785-24A6ED5B4F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05BAEB-9C94-4F2A-BA43-198D8D6993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C93F5-A14A-4963-A29C-9A716C8C3D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215CE1-C913-4E73-AC72-EDA11F7EE9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D9D67-3E0F-4D84-AEAB-CE0DCF992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45C866-D3C0-40B1-898C-E73075D647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4BBAEA-8084-470D-B741-6EF9D9BCA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67B87E-D886-4320-98EE-760C98A2A7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D73745-B60F-4580-A357-EF062F6FFE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1BB28F-8ABA-4F8C-BC87-B82C540AD9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4B34D9-EF13-4FB2-9B8C-14AAC90633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96D2D1-A50F-4FB0-B95D-A4F3F1677E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BBE76A-EC33-41C8-AE2A-4A4BD992A4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11BF98-C60E-4BCA-B75F-56A1134857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68CAEC-91A6-408A-A1CB-15A4E6627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D6459-570B-4CA7-9E3C-2F984BF71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DE782E-C0DB-4576-A2AC-1648A02EDF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7B0DE3-F2AF-484D-B86B-2952245B65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F6392F-D9D3-4412-BF8C-F2186C75DB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D3B29-5083-4BF8-9265-18427BC323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537687-45F1-49C4-97E4-AA8589467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3D4B9-0E5C-4F21-9A06-7079DEE0EA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4EA205-FDFF-4741-93CE-73ACAE9D55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DF0D0E-1A8A-4A0E-B7B0-5F7072DC16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877CB0-8C72-4096-A0A6-40094825E1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66DA27-B75D-4B1A-86DD-7ADDB7AF50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831E1-D5D8-497A-BC7C-F258A7948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BAEB61-3A14-4950-9700-EA3811A478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ED5B89-106D-4D18-B1B7-6C8D5F7DC2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9F402E-8F30-4572-A9DC-B5575105C9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5CF1BD-7F84-4A3A-8263-92CDC27649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E39386-470A-49C1-BE48-50739D9C4D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3E828A-D520-4860-94B4-2ECD8886CB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E6F58D-5B78-43B0-9E03-DCB51374A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79319D-23F7-4FEE-91FD-2C1438C3E2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7BEA84-E1D0-44CB-96C5-C63B610EF8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12C491-476D-4DE0-8847-A305EFA66C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40D4C-6A43-4B44-B0E7-997CE20A6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44B37E-CC92-49CB-9DD5-ECADC86CD3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589D78-650C-4F0F-839A-B315C87F5F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049D0C-5047-4B28-9E3A-A487595E9C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D352AF-27BE-404D-95C5-5FC65CB145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03ED84-F126-467C-A91C-1880344086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DC8A7E-D894-4D60-A8CF-9BE14D496E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CE12E3-963A-4BEC-BEE2-FD288D1488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BFB9AF-CA39-4F8A-A007-EBE3EEE16D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1AD906-5FEE-480D-A17C-6ED876D010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742A1B-75A5-4FFE-90B1-2E6046FE70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2D6BC-54AC-4699-AF0A-656075CE6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8FEE0C-D372-4BC6-B66D-E869205634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3BC057-166A-4AE8-8474-C43FDC9937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3DEB67-4625-4128-A344-18B7DB5087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700C7A-DE1F-48F3-A72A-09CC553AF0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FBE132-B83D-4FAD-A78B-2872E1A5D2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48EE8C-C258-4577-AB05-C1BF9A705D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915875-BAF2-4458-A562-2728E2B8FA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45C501-3565-4F56-B8D9-B14931E770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6DEA53-2C29-4860-87D2-787358838F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0539BB-C3A6-4C21-8BCD-A2B1E87B61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3DAC9-5022-477F-A198-4F981FAA2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420FC5-AAB3-40B3-82BD-B72C476838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2B7420-02F7-477A-AD19-ECF5F1ECAF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4B8369-CF01-43A2-9809-7ABCC75B37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69E1FE-C696-470E-8928-26BB981A12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7763F0-4AAF-4CA6-81E3-2E2E912211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6D84CE-F939-4D7B-A762-43F7A2F84A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57585A-28AE-48F4-944F-04E6A8B79E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96FF85-257A-4446-B31B-B96D53A994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B8A991-D2E4-4720-9FBB-FA0D171694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D36AF8-A3FA-49A0-BB80-33484EC09D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26B62-55D7-4263-8DDF-42856F719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8EE68E-C13E-4B84-8247-A9E06B1119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0E5BA4-946D-4E0E-8D50-437F5AEA50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98FFBE-E4E2-41AD-8AAB-D1A8709B7D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24EAF5-9CC2-44BE-9164-22FA9770D7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70C2A9-F063-4F46-9E85-2BF624E747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2E7B7B-B71F-48F7-8ED9-42CBFCF5FC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278CE0-DA41-43AB-8C05-0E19E937078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EABB-FB79-4859-B760-8CC1BCA7729F}"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C61F-9215-4586-9CF8-A44F787B273D}"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ED12-FF9C-4029-ADCD-9176F4F36869}" type="slidenum">
              <a:rPr b="0" lang="en-US" sz="1400" spc="-1" strike="noStrike">
                <a:solidFill>
                  <a:srgbClr val="dde9ec"/>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EECC-C988-4E90-9DCA-D6E578843B53}"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340D-E6D7-442B-81A1-069411A931C8}"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3E8A-A0A1-4374-B5D2-6BB55C91B581}"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732E-814D-479F-AB70-4A6B7C7FFFBD}" type="slidenum">
              <a:rPr b="0" lang="en-US" sz="1400" spc="-1" strike="noStrike">
                <a:solidFill>
                  <a:srgbClr val="dde9ec"/>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1C6E-881F-405F-A8DF-60E5A67BADFA}"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Lecture 9: Voice Over IP (VoIP): Internet Telephony</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Dr. Najla Al-nabhan</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6892-7D5F-4857-87BB-97E6C9105E34}"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Jitter</a:t>
            </a: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fontScale="94000"/>
          </a:bodyPr>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Jitter in IP networks is the variation in the latency on a packet flow between two systems, when some packets take longer to travel from one system to the other. </a:t>
            </a:r>
            <a:endParaRPr b="0" lang="en-US" sz="2400" spc="-1" strike="noStrike">
              <a:solidFill>
                <a:srgbClr val="000000"/>
              </a:solidFill>
              <a:latin typeface="Gill Sans MT"/>
            </a:endParaRPr>
          </a:p>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Jitter results from network congestion and route changes.</a:t>
            </a:r>
            <a:endParaRPr b="0" lang="en-US" sz="2400" spc="-1" strike="noStrike">
              <a:solidFill>
                <a:srgbClr val="000000"/>
              </a:solidFill>
              <a:latin typeface="Gill Sans MT"/>
            </a:endParaRPr>
          </a:p>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ample: When someone is sending VoIP communication (let’s say one frame every 10 ms) those packets can stuck somewhere in between inside the network and not arrive at expected time to the destination. </a:t>
            </a:r>
            <a:endParaRPr b="0" lang="en-US" sz="2400" spc="-1" strike="noStrike">
              <a:solidFill>
                <a:srgbClr val="000000"/>
              </a:solidFill>
              <a:latin typeface="Gill Sans MT"/>
            </a:endParaRPr>
          </a:p>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C559-13C1-4AE4-9536-5394723A8274}"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pic>
        <p:nvPicPr>
          <p:cNvPr id="390" name="Picture 6" descr="http://howdoesinternetwork.com/wp-content/uploads/2013/05/jitter.gif"/>
          <p:cNvPicPr/>
          <p:nvPr/>
        </p:nvPicPr>
        <p:blipFill>
          <a:blip r:embed="rId1"/>
          <a:stretch/>
        </p:blipFill>
        <p:spPr>
          <a:xfrm>
            <a:off x="1447920" y="3228840"/>
            <a:ext cx="6095880" cy="103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Bandwidth</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When bandwidth is shared between voice and computer data, certain bandwidth may have to be allocated for voice communication on a network </a:t>
            </a:r>
            <a:endParaRPr b="0" lang="en-US" sz="2600" spc="-1" strike="noStrike">
              <a:solidFill>
                <a:srgbClr val="000000"/>
              </a:solidFill>
              <a:latin typeface="Gill Sans MT"/>
            </a:endParaRPr>
          </a:p>
        </p:txBody>
      </p:sp>
      <p:sp>
        <p:nvSpPr>
          <p:cNvPr id="39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C2D2-D7A3-4716-B9FD-BDC7A6D02C8F}"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Packet Loss</a:t>
            </a:r>
            <a:endParaRPr b="0" lang="en-US" sz="3200" spc="-1" strike="noStrike">
              <a:solidFill>
                <a:srgbClr val="464653"/>
              </a:solidFill>
              <a:latin typeface="Bookman Old Style"/>
            </a:endParaRPr>
          </a:p>
        </p:txBody>
      </p:sp>
      <p:sp>
        <p:nvSpPr>
          <p:cNvPr id="39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acket loss in unavoidabl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It can be minimally tolerated in voice transmissio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It should not, in the first place, distort the audio</a:t>
            </a:r>
            <a:endParaRPr b="0" lang="en-US" sz="2300" spc="-1" strike="noStrike">
              <a:solidFill>
                <a:srgbClr val="464653"/>
              </a:solidFill>
              <a:latin typeface="Gill Sans MT"/>
            </a:endParaRPr>
          </a:p>
        </p:txBody>
      </p:sp>
      <p:sp>
        <p:nvSpPr>
          <p:cNvPr id="39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F0DF-AD9D-4BCF-B8E3-6DBC20B360E8}"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Reliability</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Because the computer network is used, the reliability of the network will have an impact on the telephony servic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In the analog telephone industry, reliability of 99.999 percent uptime is require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The above is known as five nine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oIP networks can achieve over 98 percent reliability ?</a:t>
            </a:r>
            <a:endParaRPr b="0" lang="en-US" sz="2600" spc="-1" strike="noStrike">
              <a:solidFill>
                <a:srgbClr val="000000"/>
              </a:solidFill>
              <a:latin typeface="Gill Sans MT"/>
            </a:endParaRPr>
          </a:p>
        </p:txBody>
      </p:sp>
      <p:sp>
        <p:nvSpPr>
          <p:cNvPr id="39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53B2-E179-45B7-882F-CDA00727A4A2}"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Scalability</a:t>
            </a:r>
            <a:endParaRPr b="0" lang="en-US" sz="3200" spc="-1" strike="noStrike">
              <a:solidFill>
                <a:srgbClr val="464653"/>
              </a:solidFill>
              <a:latin typeface="Bookman Old Style"/>
            </a:endParaRPr>
          </a:p>
        </p:txBody>
      </p:sp>
      <p:sp>
        <p:nvSpPr>
          <p:cNvPr id="40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bility to add more telephony equipment as the company grow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Network bandwidth and other issues may have an effect on scalability </a:t>
            </a:r>
            <a:endParaRPr b="0" lang="en-US" sz="2300" spc="-1" strike="noStrike">
              <a:solidFill>
                <a:srgbClr val="464653"/>
              </a:solidFill>
              <a:latin typeface="Gill Sans MT"/>
            </a:endParaRPr>
          </a:p>
        </p:txBody>
      </p:sp>
      <p:sp>
        <p:nvSpPr>
          <p:cNvPr id="40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3B6A-F70A-47FB-A442-F83FA49C8649}"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Security</a:t>
            </a:r>
            <a:endParaRPr b="0" lang="en-US" sz="3200" spc="-1" strike="noStrike">
              <a:solidFill>
                <a:srgbClr val="464653"/>
              </a:solidFill>
              <a:latin typeface="Bookman Old Style"/>
            </a:endParaRPr>
          </a:p>
        </p:txBody>
      </p:sp>
      <p:sp>
        <p:nvSpPr>
          <p:cNvPr id="40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s VoIP uses the Internet, for example, it is vulnerable to the same type as security risk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Hack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Denial of servic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Eavesdropping </a:t>
            </a:r>
            <a:endParaRPr b="0" lang="en-US" sz="2300" spc="-1" strike="noStrike">
              <a:solidFill>
                <a:srgbClr val="464653"/>
              </a:solidFill>
              <a:latin typeface="Gill Sans MT"/>
            </a:endParaRPr>
          </a:p>
        </p:txBody>
      </p:sp>
      <p:sp>
        <p:nvSpPr>
          <p:cNvPr id="40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20C3-CE2B-493C-B9C3-579080873AA9}"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Features</a:t>
            </a:r>
            <a:endParaRPr b="0" lang="en-US" sz="3200" spc="-1" strike="noStrike">
              <a:solidFill>
                <a:srgbClr val="464653"/>
              </a:solidFill>
              <a:latin typeface="Bookman Old Style"/>
            </a:endParaRPr>
          </a:p>
        </p:txBody>
      </p:sp>
      <p:sp>
        <p:nvSpPr>
          <p:cNvPr id="40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IP telephony need to match and, in the long run, exceed the features provided by the PST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Call wait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Three way calling etc. </a:t>
            </a:r>
            <a:endParaRPr b="0" lang="en-US" sz="2300" spc="-1" strike="noStrike">
              <a:solidFill>
                <a:srgbClr val="464653"/>
              </a:solidFill>
              <a:latin typeface="Gill Sans MT"/>
            </a:endParaRPr>
          </a:p>
        </p:txBody>
      </p:sp>
      <p:sp>
        <p:nvSpPr>
          <p:cNvPr id="40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D0F4-AC7C-4CF0-99FA-9AF438245671}"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Interoperability</a:t>
            </a:r>
            <a:endParaRPr b="0" lang="en-US" sz="3200" spc="-1" strike="noStrike">
              <a:solidFill>
                <a:srgbClr val="464653"/>
              </a:solidFill>
              <a:latin typeface="Bookman Old Style"/>
            </a:endParaRPr>
          </a:p>
        </p:txBody>
      </p:sp>
      <p:sp>
        <p:nvSpPr>
          <p:cNvPr id="41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IP telephony equipment manufactured by different vendors must be able to talk to each other</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Standardized protocols are needed</a:t>
            </a:r>
            <a:endParaRPr b="0" lang="en-US" sz="2300" spc="-1" strike="noStrike">
              <a:solidFill>
                <a:srgbClr val="464653"/>
              </a:solidFill>
              <a:latin typeface="Gill Sans MT"/>
            </a:endParaRPr>
          </a:p>
        </p:txBody>
      </p:sp>
      <p:sp>
        <p:nvSpPr>
          <p:cNvPr id="41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1290-AE82-4FF4-87DC-8407E0241A7A}"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Migration Cost</a:t>
            </a:r>
            <a:endParaRPr b="0" lang="en-US" sz="3200" spc="-1" strike="noStrike">
              <a:solidFill>
                <a:srgbClr val="464653"/>
              </a:solidFill>
              <a:latin typeface="Bookman Old Style"/>
            </a:endParaRPr>
          </a:p>
        </p:txBody>
      </p:sp>
      <p:sp>
        <p:nvSpPr>
          <p:cNvPr id="41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The cost of migrating from legacy PBX to IP PBX</a:t>
            </a:r>
            <a:endParaRPr b="0" lang="en-US" sz="2600" spc="-1" strike="noStrike">
              <a:solidFill>
                <a:srgbClr val="000000"/>
              </a:solidFill>
              <a:latin typeface="Gill Sans MT"/>
            </a:endParaRPr>
          </a:p>
        </p:txBody>
      </p:sp>
      <p:pic>
        <p:nvPicPr>
          <p:cNvPr id="414" name="Picture 3" descr=""/>
          <p:cNvPicPr/>
          <p:nvPr/>
        </p:nvPicPr>
        <p:blipFill>
          <a:blip r:embed="rId1"/>
          <a:stretch/>
        </p:blipFill>
        <p:spPr>
          <a:xfrm>
            <a:off x="1900080" y="2130480"/>
            <a:ext cx="5343840" cy="3114720"/>
          </a:xfrm>
          <a:prstGeom prst="rect">
            <a:avLst/>
          </a:prstGeom>
          <a:ln w="0">
            <a:noFill/>
          </a:ln>
        </p:spPr>
      </p:pic>
      <p:sp>
        <p:nvSpPr>
          <p:cNvPr id="415"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2A22-02B7-445E-B978-C27908D7773C}"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Facing the Challenges</a:t>
            </a:r>
            <a:endParaRPr b="0" lang="en-US" sz="3200" spc="-1" strike="noStrike">
              <a:solidFill>
                <a:srgbClr val="464653"/>
              </a:solidFill>
              <a:latin typeface="Bookman Old Style"/>
            </a:endParaRPr>
          </a:p>
        </p:txBody>
      </p:sp>
      <p:sp>
        <p:nvSpPr>
          <p:cNvPr id="41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Many of the challenges listed have now been addressed by effective network performance management and standardized protocol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693D-E7BA-4CDB-9ADA-F7D0A03D5A20}"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VoIP Definition</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The use of IP networks, namely the LAN and WAN, to carry voic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7B70-4D85-479F-8753-E132DCC095E4}"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Network Performance Management</a:t>
            </a:r>
            <a:endParaRPr b="0" lang="en-US" sz="3600" spc="-1" strike="noStrike">
              <a:solidFill>
                <a:srgbClr val="464653"/>
              </a:solidFill>
              <a:latin typeface="Bookman Old Style"/>
            </a:endParaRPr>
          </a:p>
        </p:txBody>
      </p:sp>
      <p:sp>
        <p:nvSpPr>
          <p:cNvPr id="42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ddresses the following issue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Latency</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Reliability</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Security </a:t>
            </a:r>
            <a:endParaRPr b="0" lang="en-US" sz="2300" spc="-1" strike="noStrike">
              <a:solidFill>
                <a:srgbClr val="464653"/>
              </a:solidFill>
              <a:latin typeface="Gill Sans MT"/>
            </a:endParaRPr>
          </a:p>
        </p:txBody>
      </p:sp>
      <p:sp>
        <p:nvSpPr>
          <p:cNvPr id="42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1D00-53A9-43BE-BB43-3E7D0382F692}"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Other Terminology</a:t>
            </a:r>
            <a:endParaRPr b="0" lang="en-US" sz="3200" spc="-1" strike="noStrike">
              <a:solidFill>
                <a:srgbClr val="464653"/>
              </a:solidFill>
              <a:latin typeface="Bookman Old Style"/>
            </a:endParaRPr>
          </a:p>
        </p:txBody>
      </p:sp>
      <p:sp>
        <p:nvSpPr>
          <p:cNvPr id="42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FX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Foreign Exchange Station</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FXO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Foreign Exchange Office</a:t>
            </a:r>
            <a:endParaRPr b="0" lang="en-US" sz="2300" spc="-1" strike="noStrike">
              <a:solidFill>
                <a:srgbClr val="464653"/>
              </a:solidFill>
              <a:latin typeface="Gill Sans MT"/>
            </a:endParaRPr>
          </a:p>
        </p:txBody>
      </p:sp>
      <p:sp>
        <p:nvSpPr>
          <p:cNvPr id="42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FF8B-4038-4AF0-B9AC-75FA44EE293C}"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FXS</a:t>
            </a:r>
            <a:endParaRPr b="0" lang="en-US" sz="3200" spc="-1" strike="noStrike">
              <a:solidFill>
                <a:srgbClr val="464653"/>
              </a:solidFill>
              <a:latin typeface="Bookman Old Style"/>
            </a:endParaRPr>
          </a:p>
        </p:txBody>
      </p:sp>
      <p:sp>
        <p:nvSpPr>
          <p:cNvPr id="42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 device that connects on one side to an analog equipment and other side to the Interne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 simple example is the ATA (Analog Telephone Adapter) that connects an analog phone to the Interen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27" name="Picture 5" descr="http://www.cisco.com/c/dam/en/us/products/collateral/unified-communications/ata-186-analog-telephone-adaptor/product_data_sheet09186a008007cd72.doc/_jcr_content/renditions/09186a008060daf9_guest-Cisco_ATA_186_Analog_Telephone_Adaptor-US-Service_Data_Sheet-EN_2_2_2_2_2_2_2_2_2_2-3.jpg"/>
          <p:cNvPicPr/>
          <p:nvPr/>
        </p:nvPicPr>
        <p:blipFill>
          <a:blip r:embed="rId1"/>
          <a:stretch/>
        </p:blipFill>
        <p:spPr>
          <a:xfrm>
            <a:off x="1676520" y="3276720"/>
            <a:ext cx="4695840" cy="1990440"/>
          </a:xfrm>
          <a:prstGeom prst="rect">
            <a:avLst/>
          </a:prstGeom>
          <a:ln w="0">
            <a:noFill/>
          </a:ln>
        </p:spPr>
      </p:pic>
      <p:pic>
        <p:nvPicPr>
          <p:cNvPr id="428" name="Picture 4" descr=""/>
          <p:cNvPicPr/>
          <p:nvPr/>
        </p:nvPicPr>
        <p:blipFill>
          <a:blip r:embed="rId2"/>
          <a:stretch/>
        </p:blipFill>
        <p:spPr>
          <a:xfrm>
            <a:off x="1447920" y="5257800"/>
            <a:ext cx="5800680" cy="1190520"/>
          </a:xfrm>
          <a:prstGeom prst="rect">
            <a:avLst/>
          </a:prstGeom>
          <a:ln w="0">
            <a:noFill/>
          </a:ln>
        </p:spPr>
      </p:pic>
      <p:sp>
        <p:nvSpPr>
          <p:cNvPr id="42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7439-56F4-4D91-B434-1C849EB1B4F8}"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FXO</a:t>
            </a:r>
            <a:endParaRPr b="0" lang="en-US" sz="3200" spc="-1" strike="noStrike">
              <a:solidFill>
                <a:srgbClr val="464653"/>
              </a:solidFill>
              <a:latin typeface="Bookman Old Style"/>
            </a:endParaRPr>
          </a:p>
        </p:txBody>
      </p:sp>
      <p:sp>
        <p:nvSpPr>
          <p:cNvPr id="431"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An interface between the PSTN and the local equipment that would also connect to the Internet</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An example use would be to have a telephone that connects to the Internet and, at the same time, has a connection to the PSTN as well </a:t>
            </a:r>
            <a:endParaRPr b="0" lang="en-US" sz="2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There are equipment that will automatically switch to the PSTN if for some reason the VoIP connection does not function </a:t>
            </a:r>
            <a:endParaRPr b="0" lang="en-US" sz="2400" spc="-1" strike="noStrike">
              <a:solidFill>
                <a:srgbClr val="464653"/>
              </a:solidFill>
              <a:latin typeface="Gill Sans MT"/>
            </a:endParaRPr>
          </a:p>
        </p:txBody>
      </p:sp>
      <p:pic>
        <p:nvPicPr>
          <p:cNvPr id="432" name="Picture 4" descr=""/>
          <p:cNvPicPr/>
          <p:nvPr/>
        </p:nvPicPr>
        <p:blipFill>
          <a:blip r:embed="rId1"/>
          <a:stretch/>
        </p:blipFill>
        <p:spPr>
          <a:xfrm>
            <a:off x="1600200" y="4648320"/>
            <a:ext cx="5830920" cy="1190520"/>
          </a:xfrm>
          <a:prstGeom prst="rect">
            <a:avLst/>
          </a:prstGeom>
          <a:ln w="0">
            <a:noFill/>
          </a:ln>
        </p:spPr>
      </p:pic>
      <p:sp>
        <p:nvSpPr>
          <p:cNvPr id="43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82F4-BD0F-49D6-8936-2B6057E40FA3}"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7180-8DBF-415E-B3CC-A7CAD3EB0B34}"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pic>
        <p:nvPicPr>
          <p:cNvPr id="436" name="Picture 2" descr=""/>
          <p:cNvPicPr/>
          <p:nvPr/>
        </p:nvPicPr>
        <p:blipFill>
          <a:blip r:embed="rId1"/>
          <a:srcRect l="19131" t="57108" r="18168" b="21288"/>
          <a:stretch/>
        </p:blipFill>
        <p:spPr>
          <a:xfrm>
            <a:off x="0" y="1905120"/>
            <a:ext cx="8839080" cy="2895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Modes of Internet Telephony</a:t>
            </a:r>
            <a:endParaRPr b="0" lang="en-US" sz="3200" spc="-1" strike="noStrike">
              <a:solidFill>
                <a:srgbClr val="464653"/>
              </a:solidFill>
              <a:latin typeface="Bookman Old Style"/>
            </a:endParaRPr>
          </a:p>
        </p:txBody>
      </p:sp>
      <p:sp>
        <p:nvSpPr>
          <p:cNvPr id="43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C-to-P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C-to-Pho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hone-to-Pho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Note: In the above listing phones can be either analog or digital phon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 </a:t>
            </a:r>
            <a:endParaRPr b="0" lang="en-US" sz="2600" spc="-1" strike="noStrike">
              <a:solidFill>
                <a:srgbClr val="000000"/>
              </a:solidFill>
              <a:latin typeface="Gill Sans MT"/>
            </a:endParaRPr>
          </a:p>
        </p:txBody>
      </p:sp>
      <p:sp>
        <p:nvSpPr>
          <p:cNvPr id="43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38E0-6AA0-4CD7-BC7B-19F944527F94}"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pic>
        <p:nvPicPr>
          <p:cNvPr id="440" name="Picture 4" descr="analog-and-digital-phone_0.jpg"/>
          <p:cNvPicPr/>
          <p:nvPr/>
        </p:nvPicPr>
        <p:blipFill>
          <a:blip r:embed="rId1"/>
          <a:stretch/>
        </p:blipFill>
        <p:spPr>
          <a:xfrm>
            <a:off x="1905120" y="3733920"/>
            <a:ext cx="5527440" cy="213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Case 1: PC to PC Connection</a:t>
            </a:r>
            <a:endParaRPr b="0" lang="en-US" sz="3200" spc="-1" strike="noStrike">
              <a:solidFill>
                <a:srgbClr val="464653"/>
              </a:solidFill>
              <a:latin typeface="Bookman Old Style"/>
            </a:endParaRPr>
          </a:p>
        </p:txBody>
      </p:sp>
      <p:sp>
        <p:nvSpPr>
          <p:cNvPr id="44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Made over the internet for voice conne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Sample produc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Net2Phon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NetMeeting</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Calls are fre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endors of PC to PC Connectio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Skyp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Earthlink</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44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2345-9389-4C66-8CBB-F6F4531FF8C3}"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pic>
        <p:nvPicPr>
          <p:cNvPr id="444" name="Picture 4" descr="index.jpg"/>
          <p:cNvPicPr/>
          <p:nvPr/>
        </p:nvPicPr>
        <p:blipFill>
          <a:blip r:embed="rId1"/>
          <a:stretch/>
        </p:blipFill>
        <p:spPr>
          <a:xfrm>
            <a:off x="4572000" y="4572000"/>
            <a:ext cx="1438200" cy="1438200"/>
          </a:xfrm>
          <a:prstGeom prst="rect">
            <a:avLst/>
          </a:prstGeom>
          <a:ln w="0">
            <a:noFill/>
          </a:ln>
        </p:spPr>
      </p:pic>
      <p:pic>
        <p:nvPicPr>
          <p:cNvPr id="445" name="Picture 6" descr="indexi.jpg"/>
          <p:cNvPicPr/>
          <p:nvPr/>
        </p:nvPicPr>
        <p:blipFill>
          <a:blip r:embed="rId2"/>
          <a:stretch/>
        </p:blipFill>
        <p:spPr>
          <a:xfrm>
            <a:off x="6172200" y="4648320"/>
            <a:ext cx="2133720" cy="144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Case 2: PC to Phone Connection</a:t>
            </a:r>
            <a:endParaRPr b="0" lang="en-US" sz="3200" spc="-1" strike="noStrike">
              <a:solidFill>
                <a:srgbClr val="464653"/>
              </a:solidFill>
              <a:latin typeface="Bookman Old Style"/>
            </a:endParaRPr>
          </a:p>
        </p:txBody>
      </p:sp>
      <p:sp>
        <p:nvSpPr>
          <p:cNvPr id="447"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Made over the Internet for connecting PC to phones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Sample Product:</a:t>
            </a:r>
            <a:endParaRPr b="0" lang="en-US" sz="26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Net2Phone</a:t>
            </a:r>
            <a:endParaRPr b="0" lang="en-US" sz="23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Need to pay for the calls but they are relatively inexpensive </a:t>
            </a:r>
            <a:endParaRPr b="0" lang="en-US" sz="26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Cheaper compared to phone to phone calls made over the Internet</a:t>
            </a:r>
            <a:endParaRPr b="0" lang="en-US" sz="23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endors </a:t>
            </a:r>
            <a:endParaRPr b="0" lang="en-US" sz="26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Net2Phone</a:t>
            </a:r>
            <a:endParaRPr b="0" lang="en-US" sz="2300" spc="-1" strike="noStrike">
              <a:solidFill>
                <a:srgbClr val="464653"/>
              </a:solidFill>
              <a:latin typeface="Gill Sans MT"/>
            </a:endParaRPr>
          </a:p>
        </p:txBody>
      </p:sp>
      <p:sp>
        <p:nvSpPr>
          <p:cNvPr id="44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6C73-0732-4C9D-AE7D-D7ADFCD93D04}"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pic>
        <p:nvPicPr>
          <p:cNvPr id="449" name="Picture 4" descr="logo.png"/>
          <p:cNvPicPr/>
          <p:nvPr/>
        </p:nvPicPr>
        <p:blipFill>
          <a:blip r:embed="rId1"/>
          <a:stretch/>
        </p:blipFill>
        <p:spPr>
          <a:xfrm>
            <a:off x="5257800" y="4495680"/>
            <a:ext cx="2771640" cy="1057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Procedure</a:t>
            </a:r>
            <a:endParaRPr b="0" lang="en-US" sz="3200" spc="-1" strike="noStrike">
              <a:solidFill>
                <a:srgbClr val="464653"/>
              </a:solidFill>
              <a:latin typeface="Bookman Old Style"/>
            </a:endParaRPr>
          </a:p>
        </p:txBody>
      </p:sp>
      <p:sp>
        <p:nvSpPr>
          <p:cNvPr id="45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1. Download Net2Phone FREE software</a:t>
            </a:r>
            <a:br>
              <a:rPr sz="2600"/>
            </a:br>
            <a:r>
              <a:rPr b="0" lang="en-US" sz="2600" spc="-1" strike="noStrike">
                <a:solidFill>
                  <a:srgbClr val="000000"/>
                </a:solidFill>
                <a:latin typeface="Gill Sans MT"/>
                <a:ea typeface="Arial"/>
              </a:rPr>
              <a:t>2. Create a Username and Password</a:t>
            </a:r>
            <a:br>
              <a:rPr sz="2600"/>
            </a:br>
            <a:r>
              <a:rPr b="0" lang="en-US" sz="2600" spc="-1" strike="noStrike">
                <a:solidFill>
                  <a:srgbClr val="000000"/>
                </a:solidFill>
                <a:latin typeface="Gill Sans MT"/>
                <a:ea typeface="Arial"/>
              </a:rPr>
              <a:t>3. Select the amount of money you want to add to your account</a:t>
            </a:r>
            <a:br>
              <a:rPr sz="2600"/>
            </a:br>
            <a:r>
              <a:rPr b="0" lang="en-US" sz="2600" spc="-1" strike="noStrike">
                <a:solidFill>
                  <a:srgbClr val="000000"/>
                </a:solidFill>
                <a:latin typeface="Gill Sans MT"/>
                <a:ea typeface="Arial"/>
              </a:rPr>
              <a:t>4. Login to the software</a:t>
            </a:r>
            <a:br>
              <a:rPr sz="2600"/>
            </a:br>
            <a:r>
              <a:rPr b="0" lang="en-US" sz="2600" spc="-1" strike="noStrike">
                <a:solidFill>
                  <a:srgbClr val="000000"/>
                </a:solidFill>
                <a:latin typeface="Gill Sans MT"/>
                <a:ea typeface="Arial"/>
              </a:rPr>
              <a:t>5. Make PC2Phone calls and send fax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 Net2Phone</a:t>
            </a:r>
            <a:endParaRPr b="0" lang="en-US" sz="2600" spc="-1" strike="noStrike">
              <a:solidFill>
                <a:srgbClr val="000000"/>
              </a:solidFill>
              <a:latin typeface="Gill Sans MT"/>
            </a:endParaRPr>
          </a:p>
        </p:txBody>
      </p:sp>
      <p:sp>
        <p:nvSpPr>
          <p:cNvPr id="45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9CC3-EEC2-494E-A5D8-8C68D0661B6B}"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Dialing from the PC</a:t>
            </a:r>
            <a:endParaRPr b="0" lang="en-US" sz="3200" spc="-1" strike="noStrike">
              <a:solidFill>
                <a:srgbClr val="464653"/>
              </a:solidFill>
              <a:latin typeface="Bookman Old Style"/>
            </a:endParaRPr>
          </a:p>
        </p:txBody>
      </p:sp>
      <p:sp>
        <p:nvSpPr>
          <p:cNvPr id="45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55" name="Picture 5" descr="Download Now!"/>
          <p:cNvPicPr/>
          <p:nvPr/>
        </p:nvPicPr>
        <p:blipFill>
          <a:blip r:embed="rId1"/>
          <a:stretch/>
        </p:blipFill>
        <p:spPr>
          <a:xfrm>
            <a:off x="1905120" y="2104920"/>
            <a:ext cx="5029200" cy="3957840"/>
          </a:xfrm>
          <a:prstGeom prst="rect">
            <a:avLst/>
          </a:prstGeom>
          <a:ln w="0">
            <a:noFill/>
          </a:ln>
        </p:spPr>
      </p:pic>
      <p:sp>
        <p:nvSpPr>
          <p:cNvPr id="456"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BADE-0508-4CB3-BFD4-6FBE85B7996C}"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Internet Telephony</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The use of the Internet that was originally designed to carry computer data to carry voice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A packet switched network</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oice was originally carried over circuit switched network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PSTN</a:t>
            </a:r>
            <a:endParaRPr b="0" lang="en-US" sz="2300" spc="-1" strike="noStrike">
              <a:solidFill>
                <a:srgbClr val="464653"/>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19C2-4FD9-4F43-B5DF-041B7CDF8F8E}"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Features</a:t>
            </a:r>
            <a:endParaRPr b="0" lang="en-US" sz="3200" spc="-1" strike="noStrike">
              <a:solidFill>
                <a:srgbClr val="464653"/>
              </a:solidFill>
              <a:latin typeface="Bookman Old Style"/>
            </a:endParaRPr>
          </a:p>
        </p:txBody>
      </p:sp>
      <p:sp>
        <p:nvSpPr>
          <p:cNvPr id="45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C2P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C2Pho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C2Fax</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Instant messaging </a:t>
            </a:r>
            <a:endParaRPr b="0" lang="en-US" sz="2600" spc="-1" strike="noStrike">
              <a:solidFill>
                <a:srgbClr val="000000"/>
              </a:solidFill>
              <a:latin typeface="Gill Sans MT"/>
            </a:endParaRPr>
          </a:p>
        </p:txBody>
      </p:sp>
      <p:sp>
        <p:nvSpPr>
          <p:cNvPr id="45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33BF-6822-4829-A2F5-65E548AF2ACD}"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Case 3: Phone to Phone Connection </a:t>
            </a:r>
            <a:endParaRPr b="0" lang="en-US" sz="3600" spc="-1" strike="noStrike">
              <a:solidFill>
                <a:srgbClr val="464653"/>
              </a:solidFill>
              <a:latin typeface="Bookman Old Style"/>
            </a:endParaRPr>
          </a:p>
        </p:txBody>
      </p:sp>
      <p:sp>
        <p:nvSpPr>
          <p:cNvPr id="46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hone to phone calls are made over the Interne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 special phone will connect to a hub or switch on the network</a:t>
            </a:r>
            <a:endParaRPr b="0" lang="en-US" sz="2600" spc="-1" strike="noStrike">
              <a:solidFill>
                <a:srgbClr val="000000"/>
              </a:solidFill>
              <a:latin typeface="Gill Sans MT"/>
            </a:endParaRPr>
          </a:p>
        </p:txBody>
      </p:sp>
      <p:sp>
        <p:nvSpPr>
          <p:cNvPr id="46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8C5D-D70C-445F-BD9D-4B830FADFAFD}"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Typical Layout</a:t>
            </a:r>
            <a:endParaRPr b="0" lang="en-US" sz="3200" spc="-1" strike="noStrike">
              <a:solidFill>
                <a:srgbClr val="464653"/>
              </a:solidFill>
              <a:latin typeface="Bookman Old Style"/>
            </a:endParaRPr>
          </a:p>
        </p:txBody>
      </p:sp>
      <p:pic>
        <p:nvPicPr>
          <p:cNvPr id="464" name="Picture 4" descr=""/>
          <p:cNvPicPr/>
          <p:nvPr/>
        </p:nvPicPr>
        <p:blipFill>
          <a:blip r:embed="rId1"/>
          <a:stretch/>
        </p:blipFill>
        <p:spPr>
          <a:xfrm>
            <a:off x="1405080" y="1782720"/>
            <a:ext cx="6333840" cy="3809880"/>
          </a:xfrm>
          <a:prstGeom prst="rect">
            <a:avLst/>
          </a:prstGeom>
          <a:ln w="0">
            <a:noFill/>
          </a:ln>
        </p:spPr>
      </p:pic>
      <p:sp>
        <p:nvSpPr>
          <p:cNvPr id="465" name="Text Box 5"/>
          <p:cNvSpPr/>
          <p:nvPr/>
        </p:nvSpPr>
        <p:spPr>
          <a:xfrm>
            <a:off x="1954080" y="4460760"/>
            <a:ext cx="82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7ca3"/>
                </a:solidFill>
                <a:latin typeface="Times New Roman"/>
                <a:ea typeface="Arial"/>
              </a:rPr>
              <a:t>ATA</a:t>
            </a:r>
            <a:endParaRPr b="0" lang="en-US" sz="2400" spc="-1" strike="noStrike">
              <a:solidFill>
                <a:srgbClr val="000000"/>
              </a:solidFill>
              <a:latin typeface="Times New Roman"/>
            </a:endParaRPr>
          </a:p>
        </p:txBody>
      </p:sp>
      <p:sp>
        <p:nvSpPr>
          <p:cNvPr id="466" name="Line 6"/>
          <p:cNvSpPr/>
          <p:nvPr/>
        </p:nvSpPr>
        <p:spPr>
          <a:xfrm flipV="1">
            <a:off x="2971800" y="4038480"/>
            <a:ext cx="1219320" cy="609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7544-7B4E-41B1-9CED-3380885305DF}"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Connections</a:t>
            </a:r>
            <a:endParaRPr b="0" lang="en-US" sz="3200" spc="-1" strike="noStrike">
              <a:solidFill>
                <a:srgbClr val="464653"/>
              </a:solidFill>
              <a:latin typeface="Bookman Old Style"/>
            </a:endParaRPr>
          </a:p>
        </p:txBody>
      </p:sp>
      <p:pic>
        <p:nvPicPr>
          <p:cNvPr id="469" name="Picture 4" descr=""/>
          <p:cNvPicPr/>
          <p:nvPr/>
        </p:nvPicPr>
        <p:blipFill>
          <a:blip r:embed="rId1"/>
          <a:stretch/>
        </p:blipFill>
        <p:spPr>
          <a:xfrm>
            <a:off x="3262320" y="1411200"/>
            <a:ext cx="2619360" cy="4552920"/>
          </a:xfrm>
          <a:prstGeom prst="rect">
            <a:avLst/>
          </a:prstGeom>
          <a:ln w="0">
            <a:noFill/>
          </a:ln>
        </p:spPr>
      </p:pic>
      <p:sp>
        <p:nvSpPr>
          <p:cNvPr id="47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3300-AABB-4203-A172-0B2D8164A4B7}"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Analog Telephone Adapter (ATA) Manufacturers</a:t>
            </a:r>
            <a:endParaRPr b="0" lang="en-US" sz="3600" spc="-1" strike="noStrike">
              <a:solidFill>
                <a:srgbClr val="464653"/>
              </a:solidFill>
              <a:latin typeface="Bookman Old Style"/>
            </a:endParaRPr>
          </a:p>
        </p:txBody>
      </p:sp>
      <p:sp>
        <p:nvSpPr>
          <p:cNvPr id="4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CISCO</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T&amp;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Linksys</a:t>
            </a:r>
            <a:endParaRPr b="0" lang="en-US" sz="2600" spc="-1" strike="noStrike">
              <a:solidFill>
                <a:srgbClr val="000000"/>
              </a:solidFill>
              <a:latin typeface="Gill Sans MT"/>
            </a:endParaRPr>
          </a:p>
        </p:txBody>
      </p:sp>
      <p:sp>
        <p:nvSpPr>
          <p:cNvPr id="47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5B95-EA2C-4182-8C18-198BC827074E}"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pic>
        <p:nvPicPr>
          <p:cNvPr id="474" name="Picture 4" descr="ATT_avatar_2016_white on blue_500x500.png"/>
          <p:cNvPicPr/>
          <p:nvPr/>
        </p:nvPicPr>
        <p:blipFill>
          <a:blip r:embed="rId1"/>
          <a:stretch/>
        </p:blipFill>
        <p:spPr>
          <a:xfrm>
            <a:off x="4724280" y="3200400"/>
            <a:ext cx="1447920" cy="1447920"/>
          </a:xfrm>
          <a:prstGeom prst="rect">
            <a:avLst/>
          </a:prstGeom>
          <a:ln w="0">
            <a:noFill/>
          </a:ln>
        </p:spPr>
      </p:pic>
      <p:pic>
        <p:nvPicPr>
          <p:cNvPr id="475" name="Picture 5" descr="indexf.jpg"/>
          <p:cNvPicPr/>
          <p:nvPr/>
        </p:nvPicPr>
        <p:blipFill>
          <a:blip r:embed="rId2"/>
          <a:stretch/>
        </p:blipFill>
        <p:spPr>
          <a:xfrm>
            <a:off x="6324480" y="2133720"/>
            <a:ext cx="1438560" cy="1438200"/>
          </a:xfrm>
          <a:prstGeom prst="rect">
            <a:avLst/>
          </a:prstGeom>
          <a:ln w="0">
            <a:noFill/>
          </a:ln>
        </p:spPr>
      </p:pic>
      <p:pic>
        <p:nvPicPr>
          <p:cNvPr id="476" name="Picture 6" descr="index.png"/>
          <p:cNvPicPr/>
          <p:nvPr/>
        </p:nvPicPr>
        <p:blipFill>
          <a:blip r:embed="rId3"/>
          <a:stretch/>
        </p:blipFill>
        <p:spPr>
          <a:xfrm>
            <a:off x="3048120" y="4038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A Note on Implementation Problems</a:t>
            </a:r>
            <a:endParaRPr b="0" lang="en-US" sz="3600" spc="-1" strike="noStrike">
              <a:solidFill>
                <a:srgbClr val="464653"/>
              </a:solidFill>
              <a:latin typeface="Bookman Old Style"/>
            </a:endParaRPr>
          </a:p>
        </p:txBody>
      </p:sp>
      <p:sp>
        <p:nvSpPr>
          <p:cNvPr id="47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Some of the adapters may not work properly when used in conjunction with a N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Some vendors may lock the ATA meaning that it would only work with their servic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A fee may have to be paid to unlock the ATA</a:t>
            </a:r>
            <a:endParaRPr b="0" lang="en-US" sz="2300" spc="-1" strike="noStrike">
              <a:solidFill>
                <a:srgbClr val="464653"/>
              </a:solidFill>
              <a:latin typeface="Gill Sans MT"/>
            </a:endParaRPr>
          </a:p>
        </p:txBody>
      </p:sp>
      <p:sp>
        <p:nvSpPr>
          <p:cNvPr id="4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FE15-F315-44AA-91CF-36B360B982FA}"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Soft Phones</a:t>
            </a:r>
            <a:endParaRPr b="0" lang="en-US" sz="3200" spc="-1" strike="noStrike">
              <a:solidFill>
                <a:srgbClr val="464653"/>
              </a:solidFill>
              <a:latin typeface="Bookman Old Style"/>
            </a:endParaRPr>
          </a:p>
        </p:txBody>
      </p:sp>
      <p:sp>
        <p:nvSpPr>
          <p:cNvPr id="48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Soft phones do not require an ATA for conne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They connect through the computer</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It can be used for example with a notebook computer to facilitate mobility </a:t>
            </a:r>
            <a:endParaRPr b="0" lang="en-US" sz="2300" spc="-1" strike="noStrike">
              <a:solidFill>
                <a:srgbClr val="464653"/>
              </a:solidFill>
              <a:latin typeface="Gill Sans MT"/>
            </a:endParaRPr>
          </a:p>
        </p:txBody>
      </p:sp>
      <p:sp>
        <p:nvSpPr>
          <p:cNvPr id="48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0CBD-D853-496C-96AF-7AC3F9A107B1}"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Residential Broadband Phone Companies</a:t>
            </a:r>
            <a:endParaRPr b="0" lang="en-US" sz="3600" spc="-1" strike="noStrike">
              <a:solidFill>
                <a:srgbClr val="464653"/>
              </a:solidFill>
              <a:latin typeface="Bookman Old Style"/>
            </a:endParaRPr>
          </a:p>
        </p:txBody>
      </p:sp>
      <p:sp>
        <p:nvSpPr>
          <p:cNvPr id="48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onag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T&amp;T CallVantag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oicePul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Packet8</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ocalTec</a:t>
            </a:r>
            <a:endParaRPr b="0" lang="en-US" sz="2600" spc="-1" strike="noStrike">
              <a:solidFill>
                <a:srgbClr val="000000"/>
              </a:solidFill>
              <a:latin typeface="Gill Sans MT"/>
            </a:endParaRPr>
          </a:p>
        </p:txBody>
      </p:sp>
      <p:sp>
        <p:nvSpPr>
          <p:cNvPr id="48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220F-430E-4EEB-A8DC-42932D27CE45}"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IP Telephony Standards and Protocols</a:t>
            </a:r>
            <a:endParaRPr b="0" lang="en-US" sz="3600" spc="-1" strike="noStrike">
              <a:solidFill>
                <a:srgbClr val="464653"/>
              </a:solidFill>
              <a:latin typeface="Bookman Old Style"/>
            </a:endParaRPr>
          </a:p>
        </p:txBody>
      </p:sp>
      <p:sp>
        <p:nvSpPr>
          <p:cNvPr id="487"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H.323 </a:t>
            </a:r>
            <a:endParaRPr b="0" lang="en-US" sz="2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ITU standard</a:t>
            </a:r>
            <a:endParaRPr b="0" lang="en-US" sz="24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SIP </a:t>
            </a:r>
            <a:endParaRPr b="0" lang="en-US" sz="2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IETF standard</a:t>
            </a:r>
            <a:endParaRPr b="0" lang="en-US" sz="24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MGCP</a:t>
            </a:r>
            <a:endParaRPr b="0" lang="en-US" sz="2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IETF standard</a:t>
            </a:r>
            <a:endParaRPr b="0" lang="en-US" sz="24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H.248</a:t>
            </a:r>
            <a:endParaRPr b="0" lang="en-US" sz="2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ITU standard</a:t>
            </a:r>
            <a:endParaRPr b="0" lang="en-US" sz="24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Megaco</a:t>
            </a:r>
            <a:endParaRPr b="0" lang="en-US" sz="2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ea typeface="Arial"/>
              </a:rPr>
              <a:t>IETF standard</a:t>
            </a:r>
            <a:endParaRPr b="0" lang="en-US" sz="2400" spc="-1" strike="noStrike">
              <a:solidFill>
                <a:srgbClr val="464653"/>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494F-BA39-48B6-AB34-3A0687C1FF67}"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H.323</a:t>
            </a:r>
            <a:endParaRPr b="0" lang="en-US" sz="3200" spc="-1" strike="noStrike">
              <a:solidFill>
                <a:srgbClr val="464653"/>
              </a:solidFill>
              <a:latin typeface="Bookman Old Style"/>
            </a:endParaRPr>
          </a:p>
        </p:txBody>
      </p:sp>
      <p:sp>
        <p:nvSpPr>
          <p:cNvPr id="4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n ITU recommendation applicable to  “Packet-based multimedia communications systems”. - CISCO</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H.323 defines a distributed architecture for creating multimedia applications, including VoIP – CISCO</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Older and more established protocol</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12A5-1C3A-46C5-983E-379BAD7A63DA}"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Related Issues</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oice over Frame Rela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Voice over ATM</a:t>
            </a:r>
            <a:endParaRPr b="0" lang="en-US" sz="2600" spc="-1" strike="noStrike">
              <a:solidFill>
                <a:srgbClr val="000000"/>
              </a:solidFill>
              <a:latin typeface="Gill Sans MT"/>
            </a:endParaRPr>
          </a:p>
        </p:txBody>
      </p:sp>
      <p:sp>
        <p:nvSpPr>
          <p:cNvPr id="37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4834-F715-4658-8605-24AE094C59B2}"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H.323 Components</a:t>
            </a:r>
            <a:endParaRPr b="0" lang="en-US" sz="3200" spc="-1" strike="noStrike">
              <a:solidFill>
                <a:srgbClr val="464653"/>
              </a:solidFill>
              <a:latin typeface="Bookman Old Style"/>
            </a:endParaRPr>
          </a:p>
        </p:txBody>
      </p:sp>
      <p:pic>
        <p:nvPicPr>
          <p:cNvPr id="493" name="Picture 4" descr=""/>
          <p:cNvPicPr/>
          <p:nvPr/>
        </p:nvPicPr>
        <p:blipFill>
          <a:blip r:embed="rId1"/>
          <a:stretch/>
        </p:blipFill>
        <p:spPr>
          <a:xfrm>
            <a:off x="990720" y="1676520"/>
            <a:ext cx="7391160" cy="4341600"/>
          </a:xfrm>
          <a:prstGeom prst="rect">
            <a:avLst/>
          </a:prstGeom>
          <a:ln w="0">
            <a:noFill/>
          </a:ln>
        </p:spPr>
      </p:pic>
      <p:sp>
        <p:nvSpPr>
          <p:cNvPr id="494" name="Oval 7"/>
          <p:cNvSpPr/>
          <p:nvPr/>
        </p:nvSpPr>
        <p:spPr>
          <a:xfrm>
            <a:off x="6781680" y="2286000"/>
            <a:ext cx="1295640" cy="8380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Text Box 8"/>
          <p:cNvSpPr/>
          <p:nvPr/>
        </p:nvSpPr>
        <p:spPr>
          <a:xfrm>
            <a:off x="3305160" y="6060960"/>
            <a:ext cx="2085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ource: CISCO</a:t>
            </a:r>
            <a:endParaRPr b="0" lang="en-US" sz="2400" spc="-1" strike="noStrike">
              <a:solidFill>
                <a:srgbClr val="000000"/>
              </a:solidFill>
              <a:latin typeface="Times New Roman"/>
            </a:endParaRPr>
          </a:p>
        </p:txBody>
      </p:sp>
      <p:sp>
        <p:nvSpPr>
          <p:cNvPr id="496"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7D2F-92BA-44B0-AFAB-B94A5764F748}"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Summary</a:t>
            </a:r>
            <a:endParaRPr b="0" lang="en-US" sz="3200" spc="-1" strike="noStrike">
              <a:solidFill>
                <a:srgbClr val="464653"/>
              </a:solidFill>
              <a:latin typeface="Bookman Old Style"/>
            </a:endParaRPr>
          </a:p>
        </p:txBody>
      </p:sp>
      <p:sp>
        <p:nvSpPr>
          <p:cNvPr id="4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Implementations based on the three different protocols will be in u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All three will be implemented with IP as the common cor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H.323 is an older implementation protocol for  VOI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Referenc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 N. Ganesan, Ph.d.  </a:t>
            </a:r>
            <a:endParaRPr b="0" lang="en-US" sz="2300" spc="-1" strike="noStrike">
              <a:solidFill>
                <a:srgbClr val="464653"/>
              </a:solidFill>
              <a:latin typeface="Gill Sans MT"/>
            </a:endParaRPr>
          </a:p>
        </p:txBody>
      </p:sp>
      <p:sp>
        <p:nvSpPr>
          <p:cNvPr id="49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3CF91-6B77-449A-AF59-14AE50446C6E}"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Further Evolution</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Media transmission over IP</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Audio</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Imag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Video </a:t>
            </a:r>
            <a:endParaRPr b="0" lang="en-US" sz="2300" spc="-1" strike="noStrike">
              <a:solidFill>
                <a:srgbClr val="464653"/>
              </a:solidFill>
              <a:latin typeface="Gill Sans MT"/>
            </a:endParaRPr>
          </a:p>
        </p:txBody>
      </p:sp>
      <p:sp>
        <p:nvSpPr>
          <p:cNvPr id="37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F1F0-3D6E-4ABC-BC4A-305878930A19}"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Bookman Old Style"/>
                <a:ea typeface="Times New Roman"/>
              </a:rPr>
              <a:t>VoIP Basic Functions</a:t>
            </a:r>
            <a:endParaRPr b="0" lang="en-US" sz="40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Signaling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Database services</a:t>
            </a:r>
            <a:endParaRPr b="0" lang="en-US" sz="26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Mapping addresses (IP to Phone numbers) etc. </a:t>
            </a:r>
            <a:endParaRPr b="0" lang="en-US" sz="23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Call connect and disconnect (bearer control)</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CODEC operations </a:t>
            </a:r>
            <a:endParaRPr b="0" lang="en-US" sz="26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For encapsulating voice into data packets</a:t>
            </a:r>
            <a:endParaRPr b="0" lang="en-US" sz="2300" spc="-1" strike="noStrike">
              <a:solidFill>
                <a:srgbClr val="464653"/>
              </a:solidFill>
              <a:latin typeface="Gill Sans MT"/>
            </a:endParaRPr>
          </a:p>
        </p:txBody>
      </p:sp>
      <p:sp>
        <p:nvSpPr>
          <p:cNvPr id="37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5810-29EC-44BB-80A9-02A2106A1680}"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VoIP Components</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Servers </a:t>
            </a:r>
            <a:endParaRPr b="0" lang="en-US" sz="2600" spc="-1" strike="noStrike">
              <a:solidFill>
                <a:srgbClr val="000000"/>
              </a:solidFill>
              <a:latin typeface="Gill Sans MT"/>
            </a:endParaRPr>
          </a:p>
          <a:p>
            <a:pPr lvl="1" marL="730080" indent="-45720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For processing IP calls and manage interaction with </a:t>
            </a:r>
            <a:r>
              <a:rPr b="1" lang="en-US" sz="2300" spc="-1" strike="noStrike">
                <a:solidFill>
                  <a:srgbClr val="000000"/>
                </a:solidFill>
                <a:latin typeface="Gill Sans MT"/>
                <a:ea typeface="Arial"/>
              </a:rPr>
              <a:t>private branch exchange (</a:t>
            </a:r>
            <a:r>
              <a:rPr b="0" lang="en-US" sz="2300" spc="-1" strike="noStrike">
                <a:solidFill>
                  <a:srgbClr val="464653"/>
                </a:solidFill>
                <a:latin typeface="Gill Sans MT"/>
                <a:ea typeface="Arial"/>
              </a:rPr>
              <a:t>PBX) etc.</a:t>
            </a:r>
            <a:endParaRPr b="0" lang="en-US" sz="2300" spc="-1" strike="noStrike">
              <a:solidFill>
                <a:srgbClr val="464653"/>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End-point devices such as phones </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Media and VoIP gateways</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IP network</a:t>
            </a:r>
            <a:endParaRPr b="0" lang="en-US" sz="2600" spc="-1" strike="noStrike">
              <a:solidFill>
                <a:srgbClr val="000000"/>
              </a:solidFill>
              <a:latin typeface="Gill Sans MT"/>
            </a:endParaRPr>
          </a:p>
        </p:txBody>
      </p:sp>
      <p:sp>
        <p:nvSpPr>
          <p:cNvPr id="379" name="Text Box 4"/>
          <p:cNvSpPr/>
          <p:nvPr/>
        </p:nvSpPr>
        <p:spPr>
          <a:xfrm>
            <a:off x="2437920" y="5867280"/>
            <a:ext cx="3350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ource: Juniper Networks</a:t>
            </a:r>
            <a:endParaRPr b="0" lang="en-US" sz="2400" spc="-1" strike="noStrike">
              <a:solidFill>
                <a:srgbClr val="000000"/>
              </a:solidFill>
              <a:latin typeface="Times New Roman"/>
            </a:endParaRPr>
          </a:p>
        </p:txBody>
      </p:sp>
      <p:sp>
        <p:nvSpPr>
          <p:cNvPr id="380"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E54C-EC33-4DBC-9940-09440DD96470}"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Overcoming the Challenges</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Latency</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Jitter</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Bandwidth</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Packet loss </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Reliability</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Scalability</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Security</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Features</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Interoperability</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Switch over cost</a:t>
            </a:r>
            <a:endParaRPr b="0" lang="en-US" sz="2400" spc="-1" strike="noStrike">
              <a:solidFill>
                <a:srgbClr val="000000"/>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2DAA-E8F2-46C3-B980-F86616F1C6FD}"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Latency</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Latency is the time taken for a packet to arrive at its destinatio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Packet switching overhea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ea typeface="Arial"/>
              </a:rPr>
              <a:t>Congestion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Arial"/>
              </a:rPr>
              <a:t>Latency may result in voice synchronization problems </a:t>
            </a:r>
            <a:endParaRPr b="0" lang="en-US" sz="2600" spc="-1" strike="noStrike">
              <a:solidFill>
                <a:srgbClr val="000000"/>
              </a:solidFill>
              <a:latin typeface="Gill Sans MT"/>
            </a:endParaRPr>
          </a:p>
        </p:txBody>
      </p:sp>
      <p:sp>
        <p:nvSpPr>
          <p:cNvPr id="38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71E7-F8BD-4BB1-BFBA-A5DDCAEDCCE7}" type="slidenum">
              <a:rPr b="0" lang="en-US" sz="1400" spc="-1" strike="noStrike">
                <a:solidFill>
                  <a:srgbClr val="464653"/>
                </a:solidFill>
                <a:latin typeface="Times New Roman"/>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18:42:56Z</dcterms:created>
  <dc:creator>Teacher Shuttle61G</dc:creator>
  <dc:description/>
  <dc:language>en-US</dc:language>
  <cp:lastModifiedBy>User</cp:lastModifiedBy>
  <dcterms:modified xsi:type="dcterms:W3CDTF">2016-03-28T17:50:02Z</dcterms:modified>
  <cp:revision>94</cp:revision>
  <dc:subject/>
  <dc:title>Voice Over IP (VoIP): Internet Telephony</dc:title>
</cp:coreProperties>
</file>