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662-CA1B-4853-BDD0-B4E3F147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264-CECF-4234-B61E-88229FFD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4C7-3BA2-49D7-81C1-BB496779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D48-E3C0-4F27-872A-6A61F4B9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9BEB-E815-4122-AA4A-0F4FDDB9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2D95-0155-42A7-A779-F374715B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9C21-414C-4DB6-8DF9-DDF895BE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A409-F4D5-495D-9683-31108799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7480-AB14-4724-A382-1142F541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AEAC-66DB-48F5-B53F-4FD697ED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A134-2AC0-4ABE-84BB-D7D8B534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3C9-D29A-4C32-A3B6-7E0A32A5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B521-5AEA-4D82-BAAD-A3676E87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D078-6E17-48C4-9FA0-948252E7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E39A-B00A-4D1C-B162-24040D8E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F551-9705-4224-A54A-1AD8D182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28A6-9CBA-49A7-B1CD-3E29929B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E1483-13BF-4E22-8264-8DBAEBF5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A1977-E5EE-4F5D-A375-CE3E4904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EF4A7-E5A5-4715-B8E5-42447718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E83AB-6D4A-4E1F-8261-A459A9BD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18F78-E3FD-445B-92F0-E1BE139E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B09-9C73-43E4-B66C-B2804590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9C5E5-8412-4B8C-9206-520E898E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043F5-5184-41A9-97BF-945D5025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AC4E0-CA0B-424E-AEE9-908A74A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FF335-FD26-4152-9347-3D932D5F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6E1BE-9FAC-4635-8A34-0F19A446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13DDB-43A4-48C0-A2F9-2C0D565D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B52E6-ED05-4082-AC55-D7C2F02E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07229-0841-4F2D-9E62-5D7D7DC6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D4A3-28A7-4EEB-8EBA-6270802C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B1D5-7813-47AB-A2BB-0AD25EDD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ECB-9639-4DAB-85A2-636F2236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CA48-EEAC-4016-9A1C-2C2F7DC3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E0366-BBB5-47EF-A00D-7B1864FC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3905F-44E8-4C19-9C22-3B60F96D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D2139-A4BE-471B-AFBC-7D89AAEE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273F3-92F7-485D-9E08-81036446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41051-73FF-4EA6-9D36-EACDDA7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D2430-4E9A-4CFB-8346-6EBBC5E0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C96D-176B-477B-8F93-0FE3E6D8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9D221-33C0-4944-B90B-95BAC937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70050-00DA-4CB9-8062-680DCC38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CC4-68B9-4147-B3C1-5A3170E4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5C1D4-3B99-4CC0-9F9F-93BBEDA7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57FC5-0337-4240-AF1E-B70BEC2F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FED80-B0A1-473A-8016-824F2D25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1DC3D-DDBD-44A8-BF9A-937DE72D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3FFD7-5441-4BE7-B589-1F69AA1A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5694A-E4D4-44C3-B122-C96A017B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D64CF-855D-4C8E-B6A9-6D632776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AA88D-FE6F-4E53-A215-03DECFFB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2A9A2-AEBE-4286-AB3B-7244ACE5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1F4F0-8B18-4B0D-B40F-D93302E2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03C-CF9C-4F50-BBCB-E59CA1A1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3C563-53BD-49D8-BB8C-6919C194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62BF26-C391-44C0-BB16-4B76F038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17EDA-312E-4BA2-8E3B-5BD67EA1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8C6C0-0741-4B69-8FE4-7EB07E69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033B3-77A8-472C-8DB3-5A32FEEC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9110A-407A-4A5D-9B8B-1FE03944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F73F4-F9EC-484C-AC39-7CE2F365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829438-0157-427F-805C-7CC37A64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F254C-2568-47C5-B6FA-B12D48D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B8D3E-B014-41A1-B335-7D97A426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52E-1965-4E31-BF85-814DA74D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7E527-D4E1-4A06-A279-34CF8740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1FF7E-FB5A-4AFC-87DC-8B792FFD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CAAC4-415B-4D04-81BF-4D2BC9F4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4866B1-B0A2-4B84-BBCD-C570AA03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EA6C2-6B10-423C-B744-DF555D08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D652B-349E-4A6B-8D38-6FA56ED0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CF3BD-2A83-44D7-B528-124BCA88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D97F9E-C308-4ABA-94AF-E9F161B2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F8587-461C-4D8F-932A-3E5A363C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31991-EF2F-4AEC-9E48-6D9CEB60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260-FB23-49DB-B8CE-A08E14E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38264-F2A9-4F17-99C8-01D46943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B6544-90FA-4B56-9832-26DF5431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60E5C3-D860-44AA-9A78-D077975C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57F54-F9FD-450F-A515-B18D2A38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8C509-02DC-42CF-92BE-180E3E9A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7C2-01EE-44EA-9019-6A9178EA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7172-2764-454D-BA09-94ECF0CA242F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EE80-161F-443A-AE6A-74475EA68627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179E-F5D2-46C8-96BD-67A992D18E61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5CFF-58E9-4004-9590-949746806347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F135-5B54-4938-9960-F497C7A37844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E525-DC7F-4721-9486-580FAB0A76EB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6857-B99D-4F29-8086-391BBDBFC4BF}" type="slidenum">
              <a:rPr b="1" lang="ar-S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GROWTH &amp; DEVELOPMENT IN ADULTHO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292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cture 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5" descr="شعار الكلية"/>
          <p:cNvPicPr/>
          <p:nvPr/>
        </p:nvPicPr>
        <p:blipFill>
          <a:blip r:embed="rId1"/>
          <a:stretch/>
        </p:blipFill>
        <p:spPr>
          <a:xfrm>
            <a:off x="3505320" y="304920"/>
            <a:ext cx="1904760" cy="16761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6"/>
          <p:cNvSpPr/>
          <p:nvPr/>
        </p:nvSpPr>
        <p:spPr>
          <a:xfrm>
            <a:off x="1747440" y="2286000"/>
            <a:ext cx="609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Human Growth and Development</a:t>
            </a:r>
            <a:br>
              <a:rPr sz="3200"/>
            </a:b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-NUR 311</a:t>
            </a: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75f6d"/>
                </a:solidFill>
                <a:latin typeface="Century Schoolbook"/>
              </a:rPr>
              <a:t>PHYSICAL CHANGES IN ADULTHOOD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oday most people live well into their seven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Physical development in adulthood is slower than childhood and adolescence, but changes do occ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TNESS CHANG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overall fitness deteriorates gradually from age 30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NSORY CHANG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arly adulthood, most sensory abilities remain stab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→</a:t>
            </a:r>
            <a:r>
              <a:rPr b="0" lang="en-CA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ually, adults must contend with almost inevitable sensory los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SEXUAL CHAN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Sexual desires are sometimes moderated by the stresses of raising a family and other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For women, menopause occurs around age 5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At about the same age, men’s testosterone levels decre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THEORIES OF AG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3716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One heredity theory of aging is based on the study of </a:t>
            </a: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apoptosis, 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process by which cells kill themsel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Lifestyle factors affect how long a person will l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It is reasonable to assume external factors such as disease, smoking, and obesity may affect a person’s lifesp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Physiological theories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rely on both hereditary and environmental fac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575f6d"/>
                </a:solidFill>
                <a:latin typeface="Century Schoolbook"/>
              </a:rPr>
              <a:t>SOCIAL AND PERSONALITY DEVELOPMENT IN ADULTHOOD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entury Schoolbook"/>
              </a:rPr>
              <a:t>Younger adults focus on identity, careers, intimate relationships and parentho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entury Schoolbook"/>
              </a:rPr>
              <a:t>Middle-age adults focus on caring for children and older parents, dealing with role changes and planning for retirem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entury Schoolbook"/>
              </a:rPr>
              <a:t>Older adults address changing roles, retirement, loss of friends or spouse, changing friendships, physical change and deat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entury Schoolbook"/>
              </a:rPr>
              <a:t>Personality remains stable over time but there are greater personal challenges and opportunities as one ag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75f6d"/>
                </a:solidFill>
                <a:latin typeface="Century Schoolbook"/>
              </a:rPr>
              <a:t>GENDER DIFFERENCES IN ADULT STAG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05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men follow life stages similar to those of m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men are taught different values, goals and approaches to lif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men must deal with multiple roles and responsibili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hips between women and men diff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men see age 40 as a time to reassess while some men view age 40 as a last chance at you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AGEIS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Ageism is prejudice against the elderly, and the discrimination it leads 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People seen through positive stereotypes are less likely to suffer discrimi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THE FINAL TRANSITION: DY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’s overall health deteriorates with ag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atology is the study of the psychological and medical aspects of death and dy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STAGE THEORIES OF ADULT DEVELOPME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Stage 5 of Erikson’s theory is </a:t>
            </a:r>
            <a:r>
              <a:rPr b="1" i="1" lang="en-CA" sz="2400" spc="-1" strike="noStrike">
                <a:solidFill>
                  <a:srgbClr val="000000"/>
                </a:solidFill>
                <a:latin typeface="Century Schoolbook"/>
              </a:rPr>
              <a:t>identity vs. role confusion (Adolescen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lescents are in search of an identity that will lead them to adulthoo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Who am I?"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hild over comes earlier conflicts they are prepared to search for identit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STAGE THEORIES OF ADULT DEVELOPME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Stage 6 is </a:t>
            </a:r>
            <a:r>
              <a:rPr b="1" i="1" lang="en-CA" sz="2400" spc="-1" strike="noStrike">
                <a:solidFill>
                  <a:srgbClr val="000000"/>
                </a:solidFill>
                <a:latin typeface="Century Schoolbook"/>
              </a:rPr>
              <a:t>intimacy vs. isolation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Young Adulthoo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events are love relationship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vidual who has not developed a sense of identity usually will fear a committed relationship and may retreat into isola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Young Adulthood Stages of Develop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s best physical condition: strong, sharp senses, and stamin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mory and thinking (cognitive) abilities are at their highest.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STAGE THEORIES OF ADULT DEVELOPME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The crisis in Stage 7 revolves around </a:t>
            </a:r>
            <a:r>
              <a:rPr b="1" i="1" lang="en-CA" sz="2400" spc="-1" strike="noStrike">
                <a:solidFill>
                  <a:srgbClr val="000000"/>
                </a:solidFill>
                <a:latin typeface="Century Schoolbook"/>
              </a:rPr>
              <a:t>generativity vs. stagnation (Middle Adulthoo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adult have the ability to care and guide the next generation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dult must have some way to satisfy and support the next genera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STAGE THEORIES OF ADULT DEVELOPME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In Stage 8, </a:t>
            </a:r>
            <a:r>
              <a:rPr b="1" i="1" lang="en-CA" sz="2400" spc="-1" strike="noStrike">
                <a:solidFill>
                  <a:srgbClr val="000000"/>
                </a:solidFill>
                <a:latin typeface="Century Schoolbook"/>
              </a:rPr>
              <a:t>ego integrity vs. despair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 (Late Adulthoo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event at this stage is coming to accept one's whole life and reflecting on that life in a positive mann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ing responsibility for your life and being able to undo the past and achieve satisfaction with self is essential. The inability to do this results in a feeling of despa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294920"/>
            <a:ext cx="74674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Physical, Cognitive, Social, and Personality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ire to be socially independ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cupation s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lecting a life-partn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rting a fami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cepting responsibili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iddle Adulthood Stages of Develop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oss of strength, vision sharpness, strength, and coordinatio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ognitive → shows an average memory loss and a reduced ability to perform tasks requiring speed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social and personality development → "mid-life crisis" which heralds the reevaluation of one's life goal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entury Schoolbook"/>
              </a:rPr>
              <a:t>By this point in life, career and family are well establish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entury Schoolbook"/>
              </a:rPr>
              <a:t>People feel satisfaction and self-worth, or sense much of life has been wast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ate Adulthood Stages of Developmen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d by menopause and osteoporosis, a reduction in bone density, less skin elasticity, and a loss of muscle mass resulting in an increase of body fa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ly→ memory and mobility tends to decreas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eople relax, enjoying the fruits of their labo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nd grandchildren become the focus of atten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769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Physical, Cognitive, Social, and Personality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pression that may go untreat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period of readjustment to changes in their bod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ancial status chan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ss of a spous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HEALTH IN LATE ADULTHO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elderly lead healthy l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aging adults face many possible health chang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entias are progressive impairment of mental function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dementias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caused by malnutrition, alcoholism, and toxi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infarct dementia,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caused by one or two small strokes, and Alzheimer’s disease are forms of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versible dement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HEALTH IN LATE ADULTHO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zheimer’s disease involves memory loss, language deterioration, poor visual/spatial skills, and an indifferent attitu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population grows older, the number of cases of Alzheimer’s disease increa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Alzheimer’s is a degenerative disease, its progression cannot be stopp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ate, there is no fully effective method of prevention, treatment or c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FIGURE 12.3 INCIDENCE OF DEMENTIA, BY AGE, CAUSED BY ALZHEIMER’S DISEASE OR STROKES, CANADA 1991-1992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2-</a:t>
            </a:r>
            <a:fld id="{6AC93503-7A7F-4641-A9BC-41F724DEA7C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slide12-53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User-PC</cp:lastModifiedBy>
  <dcterms:modified xsi:type="dcterms:W3CDTF">2017-03-12T06:21:20Z</dcterms:modified>
  <cp:revision>12</cp:revision>
  <dc:subject/>
  <dc:title>Slide 1</dc:title>
</cp:coreProperties>
</file>