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A545A-78D9-4903-AEEE-5249A796F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36A62-8113-4493-BEF9-39AC9B6C1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0C527-87C4-4A06-836B-EE2332423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AD264-E543-46FF-92C4-F458F9B8B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5D452-CAD2-43AA-BFD5-F9E3667A8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59DB4-9785-4D2F-9DAA-3BEBCDCD1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6C928-12AC-4D39-81D4-87F7334F4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2C3C3-E32A-40A4-9E9B-5BACD6E70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31C45-C61F-4D72-8363-A1494879B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98120-22A5-4760-9253-7EE3F10E2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B28D9-327A-4A3C-8360-54E84F851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EB9CF-0CBF-43DD-9206-D7793436F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89E2F-9BF7-4850-B30F-2FE239CF0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7B260-220F-4AB0-84C2-174E649F6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B57B5-40AC-4502-80EB-D708505ED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187AE-6065-438B-A708-976016951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4E626-D21E-4F5A-8DB0-7485499DA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08C1CCB-B0D9-491E-A1AE-2D713454E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EFA8C03-0943-461B-9D94-4C10B2431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6D07951-BCA0-459B-9373-AE6F4EFCF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4783E9A-8D50-4450-A75C-65E91FBC7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E623A3-3DB6-4250-AEE3-F1E9F796D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73C4A-6E2A-4358-8512-181C86F28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A5E17C9-5F83-4A9E-9556-6AC301719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AC67602-0CB3-41C9-9F15-DA398DB56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1D7664E-EBF5-4F2E-BEA4-4C4834CF9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F1553FD-BF43-4E9F-83F4-96D429A2C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1D74C73-ED4F-49CD-8DCB-2350E2BFE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A34298E-9F28-4440-893B-73E333FC1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EB84B97-D073-41FD-9C04-450C34F83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3D6BF6-5BCD-40D3-890D-085E7483E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98948B-6BC2-44BB-B7A6-6EEAF6E95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8F3EB4-F1C4-4CBC-B391-FB3544795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0F0B2-C5A7-4D84-BDB7-3808A9404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1592BC-D77B-421E-B89F-D455AEE34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6D6089-D132-47D7-ADA9-92670848D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3E37BD-DA6E-47D5-9599-9F60C5F89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F93D3E-856B-4FB9-8B87-0C044E9F2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BFDF33-3695-4DC7-A85B-46544E7F9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080F0A-3F08-4082-9136-86763478B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B82FEC-23B2-491D-85F7-FF73E34E3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8C0382-D944-4D70-8DDE-171748D9A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D0216C-B271-48B7-AD9C-05BF86FA9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007080C-FA7C-47AF-A975-777DB3425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A23A0-8F68-45FB-9961-D5790C602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507DCDE-DF35-458A-A07C-BD53ED6CF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B8B051D-0542-40CF-B1A6-60BDE5F71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755D633-3C25-4E72-850A-F129B6315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0D06F75-EC3B-4ADC-92BB-BD1C9186E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A12BFA8-9F97-4BE2-8576-D6AE7F3C7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9601301-7E04-444F-BF49-5D6EA2AC7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E28B96B-93A2-4D4E-A6F2-B3D581CC9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FA04B8F-0A10-4DF1-9D81-9410CA30A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0AECA8A-48BA-4017-A691-921C96FF3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05EB58B-2D55-4A29-9074-2A845FD53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0DF6E-4318-4066-BF17-1EFDAD5C4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03D79D6-0A40-4344-8909-18DCD8A5C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53B26FF-61A9-483C-9A45-CDFE4D9A8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C47A2C8-5D47-4091-91F1-36C60BDCE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6427E6F-A721-4E07-A028-D472DDA5E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5FF8899-7DB6-4F8A-AC2B-E65B0F886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1091453-7E23-41BC-AED1-A9B6D2492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EBD2FC8-B38A-43FA-8C15-0DFF41644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2F455F3-1E31-428D-87EF-B963B49BE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AD052DF-32BC-4D7E-9FCA-F44E205ED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EBCD2BF-41C2-4D2B-A98E-76A11F928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D3B5A-3AB1-41F5-8D08-107976380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F2C2AE4-476D-4C40-AE7E-CAC33D77B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3BB412E-2A25-48B5-AE49-17FE6FCA5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DD58D3B-11E0-4A8A-8AE2-1968DC07A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77148B8-90C2-463C-8113-F3DF302F5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1513324-5703-4704-9358-F3D3075D5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EFF2EA0-8B81-46D9-AA3F-4FFAA089A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AAB9C0D-18E9-4618-96D3-7C6319C9D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BDA8C89-AB0C-4F86-8E00-B4C3ABCD1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A019ED0-606B-4DE1-9CCE-816F2FCDD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ECB3CB9-F8F0-4AC6-BCE6-A53E6EAC9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B2D55-D286-46AF-A3D1-92AD56C18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937126C-FA22-4606-8A0B-88C13AC92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3451E58-FA23-4909-A64D-F4F9AF22A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28C5B90-A27B-4D8E-B318-D42AD625A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9685575-852E-4227-A996-F41D54F1E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9EFCE7B-2FFF-47E1-8621-371BBFD14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577C8-6CB1-4D9B-B1FC-5277CC048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33D68-F951-4790-867D-707ACF3F5653}" type="slidenum">
              <a:rPr b="1" lang="ar-SA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traight Connector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8C60F-A205-4566-9168-CF6175B7A174}" type="slidenum">
              <a:rPr b="1" lang="ar-SA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500E8-83C1-4811-9ECE-0E1138409030}" type="slidenum">
              <a:rPr b="1" lang="ar-SA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traight Connector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9FF63-93BA-49B0-9A35-6E7F5B532677}" type="slidenum">
              <a:rPr b="1" lang="ar-SA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0C810-3BAF-4726-9C63-597E2A0A37A9}" type="slidenum">
              <a:rPr b="1" lang="ar-SA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traight Connector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Straight Connector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87682-8745-4D2B-A905-26D349AE2560}" type="slidenum">
              <a:rPr b="1" lang="ar-SA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Oval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Straight Connector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Straight Connector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Straight Connector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traight Connector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7A607-54C7-4CD5-BD92-F9D2FB04A58D}" type="slidenum">
              <a:rPr b="1" lang="ar-SA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75f6d"/>
                </a:solidFill>
                <a:latin typeface="Century Schoolbook"/>
              </a:rPr>
              <a:t>GROWTH &amp; DEVELOPMENT IN ADULTHOOD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02920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Lecture 9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3" name="Picture 5" descr="شعار الكلية"/>
          <p:cNvPicPr/>
          <p:nvPr/>
        </p:nvPicPr>
        <p:blipFill>
          <a:blip r:embed="rId1"/>
          <a:stretch/>
        </p:blipFill>
        <p:spPr>
          <a:xfrm>
            <a:off x="3505320" y="304920"/>
            <a:ext cx="1904760" cy="1676160"/>
          </a:xfrm>
          <a:prstGeom prst="rect">
            <a:avLst/>
          </a:prstGeom>
          <a:ln w="0">
            <a:noFill/>
          </a:ln>
        </p:spPr>
      </p:pic>
      <p:sp>
        <p:nvSpPr>
          <p:cNvPr id="354" name="Rectangle 6"/>
          <p:cNvSpPr/>
          <p:nvPr/>
        </p:nvSpPr>
        <p:spPr>
          <a:xfrm>
            <a:off x="1747440" y="2286000"/>
            <a:ext cx="6095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5f6d"/>
                </a:solidFill>
                <a:latin typeface="Times New Roman"/>
                <a:ea typeface="Times New Roman"/>
              </a:rPr>
              <a:t>Human Growth and Development</a:t>
            </a:r>
            <a:br>
              <a:rPr sz="3200"/>
            </a:br>
            <a:r>
              <a:rPr b="1" lang="en-US" sz="3200" spc="-1" strike="noStrike">
                <a:solidFill>
                  <a:srgbClr val="575f6d"/>
                </a:solidFill>
                <a:latin typeface="Times New Roman"/>
                <a:ea typeface="Times New Roman"/>
              </a:rPr>
              <a:t>-NUR 311</a:t>
            </a:r>
            <a:r>
              <a:rPr b="1" lang="en-US" sz="3200" spc="-1" strike="noStrike">
                <a:solidFill>
                  <a:srgbClr val="575f6d"/>
                </a:solidFill>
                <a:latin typeface="Times New Roman"/>
                <a:ea typeface="Times New Roman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575f6d"/>
                </a:solidFill>
                <a:latin typeface="Century Schoolbook"/>
              </a:rPr>
              <a:t>PHYSICAL CHANGES IN ADULTHOOD 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5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5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entury Schoolbook"/>
              </a:rPr>
              <a:t>Today most people live well into their seventi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5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5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entury Schoolbook"/>
              </a:rPr>
              <a:t>Physical development in adulthood is slower than childhood and adolescence, but changes do occur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4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 txBox="1"/>
          <p:nvPr/>
        </p:nvSpPr>
        <p:spPr>
          <a:xfrm>
            <a:off x="456840" y="914040"/>
            <a:ext cx="7467480" cy="555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FITNESS CHANGE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general, overall fitness deteriorates gradually from age 30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5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ENSORY CHANGE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early adulthood, most sensory abilities remain stable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→</a:t>
            </a:r>
            <a:r>
              <a:rPr b="0" lang="en-CA" sz="1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ntually, adults must contend with almost inevitable sensory los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6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3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3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3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3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 u="sng">
                <a:solidFill>
                  <a:srgbClr val="000000"/>
                </a:solidFill>
                <a:uFillTx/>
                <a:latin typeface="Century Schoolbook"/>
              </a:rPr>
              <a:t>SEXUAL CHANGE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5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entury Schoolbook"/>
              </a:rPr>
              <a:t>Sexual desires are sometimes moderated by the stresses of raising a family and other work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5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5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entury Schoolbook"/>
              </a:rPr>
              <a:t>For women, menopause occurs around age 50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5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5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entury Schoolbook"/>
              </a:rPr>
              <a:t>At about the same age, men’s testosterone levels decreas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9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3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3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575f6d"/>
                </a:solidFill>
                <a:latin typeface="Century Schoolbook"/>
              </a:rPr>
              <a:t>THEORIES OF AGING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456840" y="13716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105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entury Schoolbook"/>
              </a:rPr>
              <a:t>One heredity theory of aging is based on the study of </a:t>
            </a:r>
            <a:r>
              <a:rPr b="0" i="1" lang="en-CA" sz="2400" spc="-1" strike="noStrike">
                <a:solidFill>
                  <a:srgbClr val="000000"/>
                </a:solidFill>
                <a:latin typeface="Century Schoolbook"/>
              </a:rPr>
              <a:t>apoptosis, </a:t>
            </a:r>
            <a:r>
              <a:rPr b="0" lang="en-CA" sz="2400" spc="-1" strike="noStrike">
                <a:solidFill>
                  <a:srgbClr val="000000"/>
                </a:solidFill>
                <a:latin typeface="Century Schoolbook"/>
              </a:rPr>
              <a:t>the process by which cells kill themselv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6320" indent="-256320">
              <a:lnSpc>
                <a:spcPct val="105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6320" indent="-256320">
              <a:lnSpc>
                <a:spcPct val="105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entury Schoolbook"/>
              </a:rPr>
              <a:t>Lifestyle factors affect how long a person will liv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6320" indent="-256320">
              <a:lnSpc>
                <a:spcPct val="105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6320" indent="-256320">
              <a:lnSpc>
                <a:spcPct val="105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entury Schoolbook"/>
              </a:rPr>
              <a:t>It is reasonable to assume external factors such as disease, smoking, and obesity may affect a person’s lifespa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6320" indent="-256320">
              <a:lnSpc>
                <a:spcPct val="105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6320" indent="-256320">
              <a:lnSpc>
                <a:spcPct val="105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400" spc="-1" strike="noStrike">
                <a:solidFill>
                  <a:srgbClr val="000000"/>
                </a:solidFill>
                <a:latin typeface="Century Schoolbook"/>
              </a:rPr>
              <a:t>Physiological theories</a:t>
            </a:r>
            <a:r>
              <a:rPr b="0" lang="en-CA" sz="2400" spc="-1" strike="noStrike">
                <a:solidFill>
                  <a:srgbClr val="000000"/>
                </a:solidFill>
                <a:latin typeface="Century Schoolbook"/>
              </a:rPr>
              <a:t> rely on both hereditary and environmental factor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2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3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3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3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3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900" spc="-1" strike="noStrike">
                <a:solidFill>
                  <a:srgbClr val="575f6d"/>
                </a:solidFill>
                <a:latin typeface="Century Schoolbook"/>
              </a:rPr>
              <a:t>SOCIAL AND PERSONALITY DEVELOPMENT IN ADULTHOOD</a:t>
            </a:r>
            <a:endParaRPr b="0" lang="en-US" sz="29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304920" y="167652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105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Century Schoolbook"/>
              </a:rPr>
              <a:t>Younger adults focus on identity, careers, intimate relationships and parenthood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105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105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Century Schoolbook"/>
              </a:rPr>
              <a:t>Middle-age adults focus on caring for children and older parents, dealing with role changes and planning for retirement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105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105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Century Schoolbook"/>
              </a:rPr>
              <a:t>Older adults address changing roles, retirement, loss of friends or spouse, changing friendships, physical change and death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105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105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Century Schoolbook"/>
              </a:rPr>
              <a:t>Personality remains stable over time but there are greater personal challenges and opportunities as one ages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5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575f6d"/>
                </a:solidFill>
                <a:latin typeface="Century Schoolbook"/>
              </a:rPr>
              <a:t>GENDER DIFFERENCES IN ADULT STAGES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7" name="Slide Number Placeholder 4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380520" y="1676520"/>
            <a:ext cx="807732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270000" indent="-270000">
              <a:lnSpc>
                <a:spcPct val="105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men follow life stages similar to those of me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105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105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men are taught different values, goals and approaches to lif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105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105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men must deal with multiple roles and responsibiliti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105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105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iendships between women and men differ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105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105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men see age 40 as a time to reassess while some men view age 40 as a last chance at youth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slow">
    <p:checker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575f6d"/>
                </a:solidFill>
                <a:latin typeface="Century Schoolbook"/>
              </a:rPr>
              <a:t>AGEISM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5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5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entury Schoolbook"/>
              </a:rPr>
              <a:t>Ageism is prejudice against the elderly, and the discrimination it leads to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5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5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entury Schoolbook"/>
              </a:rPr>
              <a:t>People seen through positive stereotypes are less likely to suffer discriminatio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3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3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575f6d"/>
                </a:solidFill>
                <a:latin typeface="Century Schoolbook"/>
              </a:rPr>
              <a:t>THE FINAL TRANSITION: DYING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5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5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ople’s overall health deteriorates with age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5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5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anatology is the study of the psychological and medical aspects of death and dying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3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3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4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3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3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575f6d"/>
                </a:solidFill>
                <a:latin typeface="Century Schoolbook"/>
              </a:rPr>
              <a:t>STAGE THEORIES OF ADULT DEVELOPMEN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Century Schoolbook"/>
              </a:rPr>
              <a:t>Stage 5 of Erikson’s theory is </a:t>
            </a:r>
            <a:r>
              <a:rPr b="1" i="1" lang="en-CA" sz="2400" spc="-1" strike="noStrike">
                <a:solidFill>
                  <a:srgbClr val="000000"/>
                </a:solidFill>
                <a:latin typeface="Century Schoolbook"/>
              </a:rPr>
              <a:t>identity vs. role confusion (Adolescence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olescents are in search of an identity that will lead them to adulthood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Who am I?"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the child over comes earlier conflicts they are prepared to search for identity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575f6d"/>
                </a:solidFill>
                <a:latin typeface="Century Schoolbook"/>
              </a:rPr>
              <a:t>STAGE THEORIES OF ADULT DEVELOPMEN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Century Schoolbook"/>
              </a:rPr>
              <a:t>Stage 6 is </a:t>
            </a:r>
            <a:r>
              <a:rPr b="1" i="1" lang="en-CA" sz="2400" spc="-1" strike="noStrike">
                <a:solidFill>
                  <a:srgbClr val="000000"/>
                </a:solidFill>
                <a:latin typeface="Century Schoolbook"/>
              </a:rPr>
              <a:t>intimacy vs. isolation (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Young Adulthood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most important events are love relationships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 individual who has not developed a sense of identity usually will fear a committed relationship and may retreat into isolation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.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457200" y="1523880"/>
            <a:ext cx="822960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Young Adulthood Stages of Developmen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Has best physical condition: strong, sharp senses, and stamina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Memory and thinking (cognitive) abilities are at their highest.</a:t>
            </a:r>
            <a:r>
              <a:rPr b="0" lang="ar-SA" sz="24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  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575f6d"/>
                </a:solidFill>
                <a:latin typeface="Century Schoolbook"/>
              </a:rPr>
              <a:t>STAGE THEORIES OF ADULT DEVELOPMEN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Century Schoolbook"/>
              </a:rPr>
              <a:t>The crisis in Stage 7 revolves around </a:t>
            </a:r>
            <a:r>
              <a:rPr b="1" i="1" lang="en-CA" sz="2400" spc="-1" strike="noStrike">
                <a:solidFill>
                  <a:srgbClr val="000000"/>
                </a:solidFill>
                <a:latin typeface="Century Schoolbook"/>
              </a:rPr>
              <a:t>generativity vs. stagnation (Middle Adulthood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es the adult have the ability to care and guide the next generation?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adult must have some way to satisfy and support the next generation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575f6d"/>
                </a:solidFill>
                <a:latin typeface="Century Schoolbook"/>
              </a:rPr>
              <a:t>STAGE THEORIES OF ADULT DEVELOPMEN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Century Schoolbook"/>
              </a:rPr>
              <a:t>In Stage 8, </a:t>
            </a:r>
            <a:r>
              <a:rPr b="1" i="1" lang="en-CA" sz="2400" spc="-1" strike="noStrike">
                <a:solidFill>
                  <a:srgbClr val="000000"/>
                </a:solidFill>
                <a:latin typeface="Century Schoolbook"/>
              </a:rPr>
              <a:t>ego integrity vs. despair</a:t>
            </a:r>
            <a:r>
              <a:rPr b="1" lang="en-CA" sz="2400" spc="-1" strike="noStrike">
                <a:solidFill>
                  <a:srgbClr val="000000"/>
                </a:solidFill>
                <a:latin typeface="Century Schoolbook"/>
              </a:rPr>
              <a:t> (Late Adulthood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most important event at this stage is coming to accept one's whole life and reflecting on that life in a positive manner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pting responsibility for your life and being able to undo the past and achieve satisfaction with self is essential. The inability to do this results in a feeling of despair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.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456840" y="1294920"/>
            <a:ext cx="7467480" cy="517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entury Schoolbook"/>
              </a:rPr>
              <a:t>Physical, Cognitive, Social, and Personality</a:t>
            </a:r>
            <a:r>
              <a:rPr b="1" i="1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Desire to be socially independen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Occupation selectio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lecting a life-partner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tarting a family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ccepting responsibiliti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3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.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457200" y="45720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Middle Adulthood Stages of Developmen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Loss of strength, vision sharpness, strength, and coordination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Cognitive → shows an average memory loss and a reduced ability to perform tasks requiring speed.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The social and personality development → "mid-life crisis" which heralds the reevaluation of one's life goals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Century Schoolbook"/>
              </a:rPr>
              <a:t>By this point in life, career and family are well established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Century Schoolbook"/>
              </a:rPr>
              <a:t>People feel satisfaction and self-worth, or sense much of life has been wasted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.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Late Adulthood Stages of Development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ked by menopause and osteoporosis, a reduction in bone density, less skin elasticity, and a loss of muscle mass resulting in an increase of body fat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gnitively→ memory and mobility tends to decrease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y people relax, enjoying the fruits of their labour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ildren and grandchildren become the focus of attentio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.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457200" y="1600200"/>
            <a:ext cx="76960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entury Schoolbook"/>
              </a:rPr>
              <a:t>Physical, Cognitive, Social, and Personality</a:t>
            </a:r>
            <a:r>
              <a:rPr b="1" i="1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depression that may go untreated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 period of readjustment to changes in their body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Retiremen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nancial status chang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loss of a spouse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575f6d"/>
                </a:solidFill>
                <a:latin typeface="Century Schoolbook"/>
              </a:rPr>
              <a:t>HEALTH IN LATE ADULTHOOD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5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y elderly lead healthy liv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5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ever, aging adults face many possible health chang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5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entias are progressive impairment of mental functioning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5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versible dementias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n be caused by malnutrition, alcoholism, and toxins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5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ple infarct dementia, 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ually caused by one or two small strokes, and Alzheimer’s disease are forms of </a:t>
            </a:r>
            <a:r>
              <a:rPr b="0" i="1" lang="en-C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rreversible dementi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575f6d"/>
                </a:solidFill>
                <a:latin typeface="Century Schoolbook"/>
              </a:rPr>
              <a:t>HEALTH IN LATE ADULTHOOD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84872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5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zheimer’s disease involves memory loss, language deterioration, poor visual/spatial skills, and an indifferent attitud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 the population grows older, the number of cases of Alzheimer’s disease increas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cause Alzheimer’s is a degenerative disease, its progression cannot be stopped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date, there is no fully effective method of prevention, treatment or cur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447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575f6d"/>
                </a:solidFill>
                <a:latin typeface="Times New Roman"/>
                <a:ea typeface="Times New Roman"/>
              </a:rPr>
              <a:t>FIGURE 12.3 INCIDENCE OF DEMENTIA, BY AGE, CAUSED BY ALZHEIMER’S DISEASE OR STROKES, CANADA 1991-1992</a:t>
            </a:r>
            <a:endParaRPr b="0" lang="en-US" sz="2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0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12-</a:t>
            </a:r>
            <a:fld id="{AA66106C-3587-4A1F-A0BF-62657C9F703F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Picture 5" descr="slide12-53"/>
          <p:cNvPicPr/>
          <p:nvPr/>
        </p:nvPicPr>
        <p:blipFill>
          <a:blip r:embed="rId1"/>
          <a:stretch/>
        </p:blipFill>
        <p:spPr>
          <a:xfrm>
            <a:off x="0" y="1752480"/>
            <a:ext cx="876312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User-PC</cp:lastModifiedBy>
  <dcterms:modified xsi:type="dcterms:W3CDTF">2017-03-12T06:21:20Z</dcterms:modified>
  <cp:revision>12</cp:revision>
  <dc:subject/>
  <dc:title>Slide 1</dc:title>
</cp:coreProperties>
</file>