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9974-B308-48AC-9A09-076C2613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DD26-9AF2-436C-A795-F08DA985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9F3F-CE7F-4617-9FD5-42C76902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2F8E-0073-4114-8A49-0E6CB3C3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0A08-5EBC-464D-B7C5-B9DFD4B1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7D6B-F508-4554-A4A9-11B7C322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71C1-321F-416D-BE42-854F0542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F178-0FCE-46A5-92E2-43409625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084C-DC8D-4154-8557-7A6E66BB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3386-B0F0-490D-8E8E-1735E667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C7C1-3727-4EA4-94AC-70239515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BEB8-187E-4108-A01C-ED0377AD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246E-D0FE-46B7-A1ED-2C050C48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6145-D35C-4C6B-A8A2-1A5D4062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6E2A-E3B2-471D-B78B-918F850B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8E81-0762-4B79-B56A-4332B0E2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66B2-04E3-4D69-AD1E-98A033C5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6CE46-033C-4490-B3EF-907752A3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3280D-1450-4A2A-BE45-6FF1B021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5FAB8-CB14-4CAF-9A46-42801702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4C028-B2A0-4960-A559-E3125988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CDE57-BEF3-41C6-BC98-8CF3F006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A8D6-3D43-4C44-B914-A6ACB853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9731F-180B-4A2C-96EA-5E0007A4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70B75-5A5D-4CC3-8D35-87670CCB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93551-703B-45FC-A8F4-EF590256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D6D7C-0C7E-4993-8E3B-8D778BCC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A5955-4DB6-4FFA-8C16-EBEE6864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852DA-A19D-4D96-BF03-AEBAFBE9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132AF-EA33-4203-9EE1-373DED16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FB08C-9464-45A2-A34D-7E1ECDE1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C34B1-BF76-483A-82CB-E45B244E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5BFF5-A0BF-487D-AC1B-5FF9230F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A419-3E43-47C1-99DD-84114683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E8287-75F8-4110-9AB9-88055DAD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BB4FA-25AE-4B53-A58D-0733F488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F4525-C901-4359-8E4B-128D57F0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7EDF5-4BF4-45A9-8C64-0E43F64A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215C2-1DA3-4288-9F56-BAA61037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A9CF1-19F5-457F-987A-F53F9037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D655C-7509-47C1-8BEC-E988D633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B58EF-1296-424F-BF18-6ACFFA60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B65B8-976D-4D71-8256-0C13407F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1EB2-186D-406C-9B54-8273BF48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2000-C925-408F-B1FA-007B430B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88C9-5C54-4338-9212-79624342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24A0-C7EC-4883-8B57-642AD206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37FC-CE7C-4A5F-8FA1-163D36C9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4-</a:t>
            </a:r>
            <a:fld id="{D9AEC87F-9023-4ACA-8929-B4D9D131E4BF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4-</a:t>
            </a:r>
            <a:fld id="{A81C0A95-AFAA-43C1-977C-57008EA4FF02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4-</a:t>
            </a:r>
            <a:fld id="{5524B381-51B5-455E-AF45-49DD24AC3840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4-</a:t>
            </a:r>
            <a:fld id="{9235AF6A-1A94-46D9-AB2A-555C4CAF4FA3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844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Drugs Affecting the Gastrointestinal System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29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diarrheals and Laxatives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diarrheal Agents: 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4632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ticholinergic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rinary retention, hesitancy, impotenc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eadache, dizziness, confusion, anxiety, drowsines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y skin, rash, flush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lurred vision, photophobia, increased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traocular pressur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diarrheal Agents: 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064960"/>
            <a:ext cx="6348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piates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owsiness, sedation, dizziness, letharg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ausea, vomiting, anorexia, constip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spiratory depress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radycardia, palpitations, hypotens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rinary reten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lushing, rash, urtica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diarrheal Agents:  Interac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dsorbents decrease the absorption of many agents, including digoxin, clindamycin, quinidine, and hypoglycemic agen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dsorbents cause increased bleeding times when given with anticoagulan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tacids can decrease effects of anticholinergic antidiarrheal agen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diarrheal Agents:  </a:t>
            </a:r>
            <a:br>
              <a:rPr sz="3600"/>
            </a:b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e adsorbents carefully in elderly patients or those with decreased bleeding time, clotting disorders, recent bowel surgery,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r confusi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ticholinergics should not be administered to patients with a history of glaucoma, BPH, urinary retention, recent bladder surgery, cardiac problems, or myasthenia gravi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diarrheal Agents:  </a:t>
            </a:r>
            <a:br>
              <a:rPr sz="3600"/>
            </a:b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each patients to take medications exactly as prescribed and to be aware of their fluid intake and dietary change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sess fluid volume status; intake and output; and mucous membranes before, during, and after initiation of treatmen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diarrheal Agents:  </a:t>
            </a:r>
            <a:br>
              <a:rPr sz="3600"/>
            </a:b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each patients to notify their physician immediately if symptoms persis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nitor for therapeutic effec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52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XATIVE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onstipa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1833480"/>
            <a:ext cx="634860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bnormally infrequent and difficult passage of feces through the lower GI trac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ymptom, not a disea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sorder of movement through the colon and/or rectu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an be caused by a variety of diseases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r drug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auses of Constipa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762120" y="1722240"/>
            <a:ext cx="7635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etabolic and endocrine disorde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betes, hypothyroidism, pregnancy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eurogenic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utonomic neuropathy, multiple sclerosis, spinal cord lesions, Parkinson’s disease, CVA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dverse drug effec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algesics, anticholinergics, iron supplements, opiates, aluminum antacids, calcium antacid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auses of Constipa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04280" y="1804680"/>
            <a:ext cx="634860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ifestyle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oor bowel movement habits:  voluntary refusal to defecate resulting in constip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et:  poor fluid intake and/or low-residue (roughage) diet, or excessive consumption of dairy produc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hysical inactiv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sychological factors:  stress and anxie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iarrhe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1669680"/>
            <a:ext cx="6348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bnormal frequent passage of loose stool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r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bnormal passage of stools with increased frequency, fluidity, and weight, or with increased stool water excretio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axatives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9120" y="1723680"/>
            <a:ext cx="6348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echanisms of Actio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ulk-forming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mollien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yperosmotic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alin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timulan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axatives: 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921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 Bulk-Forming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921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igh fib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921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bsorbs water to increase bulk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921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stends bowel to initiate reflex bowel activity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921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amples: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syllium (Metamucil), methylcellulose (Citrucel),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olycarbophi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axatives: 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9447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Emollien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9447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tool softeners and lubrican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9447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omote more water and fat in the stool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9447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ubricate the fecal material and intestinal walls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9447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amples: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tool softeners:  docusate salts (Colace, Surfak)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ubricants:  mineral oi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axatives: 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9447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Hyperosmotic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9447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crease fecal water conten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9447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sult:  bowel distention, increased peristalsis,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d evacuation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9447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amples: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olyethylene glycol (GoLYTELY), sorbitol,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lycerin, lactulose (Chronulac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4456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axatives: 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120" y="19144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9447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 Saline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9447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crease osmotic pressure within the intestinal tract, causing more water to enter the intestin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9447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sult:  bowel distention, increased peristalsis, and evacuation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76080" indent="-259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9447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amples: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gnesium sulfate (Epsom salts)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gnesium hydroxide (MOM)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gnesium citrate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odium phosphate (Fleet Phospho-Soda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axatives: 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736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. Stimulan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736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creases peristalsis via intestinal nerve stimulation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736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amples: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astor oil, senna, cascara, bisacodyl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axatives: 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62120" y="1706040"/>
            <a:ext cx="7635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34322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Laxative Group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U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34322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ulk-forming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cute and chronic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stipation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rritable bowel syndrom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34322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verticulos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34322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mollient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cute and chronic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stip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34322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oftening of fecal impac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34322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acilitation of BMs in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orectal condi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axatives: 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480" y="2157120"/>
            <a:ext cx="75837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Laxative Group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U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yperosmotic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hronic constip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gnostic and surgical prep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aline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stip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gnostic and surgical prep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moval of helminths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d parasit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axatives: 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61760" y="1706040"/>
            <a:ext cx="7583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Laxative Group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U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timulant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cute constip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gnostic and surgical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owel prep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axatives: 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61760" y="1706040"/>
            <a:ext cx="7583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spcAft>
                <a:spcPts val="1349"/>
              </a:spcAft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Laxative Group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U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spcAft>
                <a:spcPts val="1349"/>
              </a:spcAft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ulk-forming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mpaction and fluid overloa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spcAft>
                <a:spcPts val="1349"/>
              </a:spcAft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mollient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kin rash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spcAft>
                <a:spcPts val="1349"/>
              </a:spcAft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creased absorption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f vitami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spcAft>
                <a:spcPts val="1349"/>
              </a:spcAft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yperosmotic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bdominal bloating,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ctal irrit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iarrhe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168264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cute Diarrhea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dden onset in a previously healthy pers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asts from 3 days to 2 week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elf-limit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solves without sequela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axatives: 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61760" y="1706040"/>
            <a:ext cx="7583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spcAft>
                <a:spcPts val="1349"/>
              </a:spcAft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Laxative Group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U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spcAft>
                <a:spcPts val="1349"/>
              </a:spcAft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aline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gnesium toxicity (with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nal insufficiency),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ramping, diarrhea,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creased thirs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spcAft>
                <a:spcPts val="1349"/>
              </a:spcAft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timulant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trient malabsorption, skin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ashes, gastric irritation,         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ctal irrit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axatives: 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l laxatives can cause electrolyte imbalances!!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axatives:  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134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btain a thorough history of presenting symptoms, elimination patterns, and allergie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134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sess fluid and electrolytes before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itiating therap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134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ients should not take a laxative or cathartic if they are experiencing nausea, vomiting, and/or abdominal pai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axatives:  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49"/>
              </a:spcBef>
              <a:spcAft>
                <a:spcPts val="119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 healthy, high-fiber diet and increased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luid intake should be encouraged as an alternative to laxative us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49"/>
              </a:spcBef>
              <a:spcAft>
                <a:spcPts val="119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ong-term use of laxatives often results in decreased bowel tone and may lead to dependenc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49"/>
              </a:spcBef>
              <a:spcAft>
                <a:spcPts val="119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l laxative tablets should be swallowed whole, not crushed or chewed, especially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f enteric-coat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axatives:  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134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ients should take all laxative tablets with 6 to 8 ounces of water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134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ients should take bulk-forming laxatives as directed by the manufacturer with at least 240 mL (8 ounces) of water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axatives:  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90160" y="2284560"/>
            <a:ext cx="763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134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isacodyl and cascara sagrada should be given with water due to interactions with milk, antacids, and H2 blocker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134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ients should contact their physician if they experience severe abdominal pain, muscle weakness, cramps, and/or dizziness, which may indicate possible fluid or electrolyte los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134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nitor for therapeutic effec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77920" y="276516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estio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iarrhe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99680" y="164124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hronic Diarrhea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asts for over 3 to 4 week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sociated with recurring passage of diarrheal stools, fever, loss of appetite, nausea, vomiting, weight loss, and chronic weaknes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auses of Diarrhe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72680" y="1477800"/>
            <a:ext cx="6348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292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Acute Diarrhea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Chronic Diarrhe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292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acteria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umo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292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Viral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bete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292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-induced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ddison’s disease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yperthyroidis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292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tritional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rritable bowel syndrom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292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otozo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diarrheals: 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87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 Adsorbents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at the walls of the GI trac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ind to the causative bacteria or toxin, which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re then eliminated through the stoo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amples: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ismuth subsalicylate (Pepto-Bismol),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kaolin-pectin, activated charcoal,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ttapulgite (Kaopectat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4456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diarrheals: 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037960"/>
            <a:ext cx="6348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Anticholinergic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crease intestinal muscle tone and peristalsis of GI trac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sult: slowing the movement of fecal matter through the GI trac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amples: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elladonna alkaloids (Donnatal),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tropine, hyoscyam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4456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diarrheals: 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193032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1654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Intestinal Flora Modifiers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654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acterial cultures of Lactobacillus organisms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ork by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654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pplying missing bacteria to the GI trac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654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ppressing the growth of diarrhea-causing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1654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amples: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actobacillus acidophilus (Lactinex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4870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diarrheals: 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193032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 Opiates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crease bowel motility and relieve rectal spasm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crease transit time through the bowel, allowing more time for water and electrolytes to be absorbed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amples: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regoric, opium tincture, codeine,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operamide, diphenoxylat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1:00:27Z</dcterms:created>
  <dc:creator>Jonathan &amp; Julie Snyder</dc:creator>
  <dc:description/>
  <dc:language>en-US</dc:language>
  <cp:lastModifiedBy>homoud alharbi</cp:lastModifiedBy>
  <dcterms:modified xsi:type="dcterms:W3CDTF">2016-03-25T16:26:12Z</dcterms:modified>
  <cp:revision>66</cp:revision>
  <dc:subject/>
  <dc:title>PowerPoint Presentation</dc:title>
</cp:coreProperties>
</file>