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AE4-0193-4A53-810A-EECA3196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CE2-7D36-479A-BBD4-5016E5C2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3DA-B926-43AE-9393-6F4A1A10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1E0-8C2B-4F9C-B975-6EA6885B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73CE-047F-41DE-B0B1-B39C59FE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5388-68F7-461A-9470-DD86F167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2E74-BCC3-446C-A581-333C39FB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802D-8715-4FF0-B2D2-1623CB2B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8787-889E-4E18-944D-38894CA6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0AB7-F1A1-48FD-8080-7FA40FB8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2189-0157-43FA-86FD-18C342F0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D88-3E5C-405F-800C-BC99642C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92E9-369E-4DB9-8575-BA48DD3B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8C5F-E9FD-4EF5-8C1E-B94A56B0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07FF-4CB9-485B-BD1D-D54B1525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3CC5-C120-43C1-AF36-CD12211C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2AF0-2068-4E15-9E57-A86199C1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E2E3-6A55-4940-A045-26C94CDD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433F-F453-4515-A65B-156E8731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18BA-A679-4E60-8AC9-E41363B0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0820-9E47-43E6-BF76-9E3C341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F7049-6A60-4C84-8687-72F6F99E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722-B151-435E-BF99-5F0B554B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5490C-B34B-4720-B16C-5A8C0E4F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13CA-1411-454C-8FB6-7D718D6A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257A-DC34-4CC9-9622-9298B9CF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D21A-1FF4-43EF-AB2A-E1A8AC24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6B8A2-0193-45FB-A375-6889A399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B254-31F4-4042-A36D-54A85919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A6E5-64B7-4C8F-9498-7D437AEA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5162-F5AA-4898-BBE2-6D08700A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FA4BD-5A20-414E-8D45-496285A0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6E16C-3C19-4F91-8DE5-CD7D42A5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43F-161A-4811-B634-FD5101A6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1EAF-5BA1-4248-A789-9FD6FD98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6659-49DB-4475-88C0-7DB9B44D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07371-9F24-4329-9490-86E03EB9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B248-1DE2-426C-B12A-762E0731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5CA12-DC02-424A-8781-1BC2DCA2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6E2E-78D1-4A10-91F1-C771515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CEF5E-B146-42E8-BFAB-BD1CD932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286E-EADA-4BB7-97C3-02816B3B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5FD4D-A57F-4DF6-93C4-A7EC8A89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57A-C75B-4B98-9688-F3426AD6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0FC-F819-4E33-A603-97ED9292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483-7FA1-4DB5-905A-961E39B9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E2A-694F-43D9-AC47-5E434B4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028-ECF4-4631-8C0A-95018E54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4-</a:t>
            </a:r>
            <a:fld id="{4781E72A-6091-4CFB-BEDB-ACD22823D50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4-</a:t>
            </a:r>
            <a:fld id="{F40E8298-79C2-4BD1-8CFC-5000DDA7AB4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4-</a:t>
            </a:r>
            <a:fld id="{506BAEAE-0394-42BA-879B-5CFCEBDA195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4-</a:t>
            </a:r>
            <a:fld id="{B51F71A7-0EAA-44C2-9B64-675B99AAA10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rugs Affecting the Gastrointestinal System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9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diarrheals and Laxative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4632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choli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rinary retention, hesitancy, impote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eadache, dizziness, confusion, anxiety, drowsin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y skin, rash, flush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lurred vision, photophobia, increased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raocular pressu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06496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iate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owsiness, sedation, dizziness, letharg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usea, vomiting, anorexia,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piratory depress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radycardia, palpitations, hypotens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rinary reten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lushing, rash, urtica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Intera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sorbents decrease the absorption of many agents, including digoxin, clindamycin, quinidine, and hypoglycemic ag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sorbents cause increased bleeding times when given with anticoagula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acids can decrease effects of anticholinergic antidiarrheal age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Use adsorbents carefully in elderly patients or those with decreased bleeding time, clotting disorders, recent bowel surgery,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 confus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ticholinergics should not be administered to patients with a history of glaucoma, BPH, urinary retention, recent bladder surgery, cardiac problems, or myasthenia gravi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ach patients to take medications exactly as prescribed and to be aware of their fluid intake and dietary chang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fluid volume status; intake and output; and mucous membranes before, during, and after initiation of treatmen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 Agents:  </a:t>
            </a:r>
            <a:br>
              <a:rPr sz="3600"/>
            </a:b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each patients to notify their physician immediately if symptoms persis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for therapeutic effe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52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XATIVE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nstip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183348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normally infrequent and difficult passage of feces through the lower GI trac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ymptom, not a disea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order of movement through the colon and/or rectu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n be caused by a variety of disease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 drug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auses of Constip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62120" y="1722240"/>
            <a:ext cx="7635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tabolic and endocrine disord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betes, hypothyroidism, pregnancy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urogenic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utonomic neuropathy, multiple sclerosis, spinal cord lesions, Parkinson’s disease, CVA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verse drug effe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algesics, anticholinergics, iron supplements, opiates, aluminum antacids, calcium antacid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auses of Constip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04280" y="1804680"/>
            <a:ext cx="6348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festyl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or bowel movement habits:  voluntary refusal to defecate resulting in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et:  poor fluid intake and/or low-residue (roughage) diet, or excessive consumption of dairy produc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hysical inactiv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sychological factors:  stress and anxie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rrhe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166968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normal frequent passage of loose stool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normal passage of stools with increased frequency, fluidity, and weight, or with increased stool water excre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172368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echanisms of Ac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ulk-formin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mollie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erosmo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lin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imula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Bulk-Forming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igh fib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sorbs water to increase bul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stends bowel to initiate reflex bowel activity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9216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syllium (Metamucil), methylcellulose (Citrucel)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lycarbophi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Emollien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ool softeners and lubricant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mote more water and fat in the stool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ubricate the fecal material and intestinal walls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ool softeners:  docusate salts (Colace, Surfak)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ubricants:  mineral oi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Hyperosmotic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 fecal water conte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ult:  bowel distention, increased peristalsis,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d evacu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olyethylene glycol (GoLYTELY), sorbitol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lycerin, lactulose (Chronulac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4456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19144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Salin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 osmotic pressure within the intestinal tract, causing more water to enter the intestin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ult:  bowel distention, increased peristalsis, and evacu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76080" indent="-259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94472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gnesium sulfate (Epsom salts)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gnesium hydroxide (MOM)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gnesium citrate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dium phosphate (Fleet Phospho-Soda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73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Stimulan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73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s peristalsis via intestinal nerve stimul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73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stor oil, senna, cascara, bisacodyl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1706040"/>
            <a:ext cx="7635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Laxative Group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U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ulk-forming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and chronic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stipatio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rritable bowel syndro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verticulo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mollien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and chronic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oftening of fecal impac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34322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acilitation of BMs in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orectal condi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2157120"/>
            <a:ext cx="75837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Laxative Group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U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erosmotic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ronic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tic and surgical prep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lin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tic and surgical prep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moval of helminths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d parasit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1760" y="1706040"/>
            <a:ext cx="758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Laxative Group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U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imulan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constip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gnostic and surgical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owel prep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1760" y="1706040"/>
            <a:ext cx="758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Laxative Group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U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ulk-forming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mpaction and fluid overloa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mollien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kin rash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d absorption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f vitami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erosmotic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bdominal bloating,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ctal irrit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rrhe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1682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cute Diarrhe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dden onset in a previously healthy pers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sts from 3 days to 2 week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elf-limit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olves without sequela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1760" y="1706040"/>
            <a:ext cx="758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Laxative Group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U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aline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agnesium toxicity (with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nal insufficiency),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ramping, diarrhea,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creased thir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331488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timulant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trient malabsorption, skin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ashes, gastric irritation,         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ctal irrit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laxatives can cause electrolyte imbalances!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btain a thorough history of presenting symptoms, elimination patterns, and allergi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ess fluid and electrolytes before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itiating therap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should not take a laxative or cathartic if they are experiencing nausea, vomiting, and/or abdominal pa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4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 healthy, high-fiber diet and increased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luid intake should be encouraged as an alternative to laxative u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ng-term use of laxatives often results in decreased bowel tone and may lead to dependenc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spcAft>
                <a:spcPts val="119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laxative tablets should be swallowed whole, not crushed or chewed, especially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f enteric-co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should take all laxative tablets with 6 to 8 ounces of wat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should take bulk-forming laxatives as directed by the manufacturer with at least 240 mL (8 ounces) of wat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Laxatives: 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90160" y="2284560"/>
            <a:ext cx="763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isacodyl and cascara sagrada should be given with water due to interactions with milk, antacids, and H2 blocke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tients should contact their physician if they experience severe abdominal pain, muscle weakness, cramps, and/or dizziness, which may indicate possible fluid or electrolyte los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349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onitor for therapeutic effe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77920" y="276516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rrhe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99680" y="16412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ronic Diarrhe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sts for over 3 to 4 week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ssociated with recurring passage of diarrheal stools, fever, loss of appetite, nausea, vomiting, weight loss, and chronic weakn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auses of Diarrhe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72680" y="1477800"/>
            <a:ext cx="6348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Acute Diarrhea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Chronic 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umo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iral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abete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rug-induced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ddison’s disease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yperthyroid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utritional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rritable bowel syndro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292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rotozo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87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Adsorbent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at the walls of the GI tr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ind to the causative bacteria or toxin, which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re then eliminated through the stoo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ismuth subsalicylate (Pepto-Bismol)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kaolin-pectin, activated charcoal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ttapulgite (Kaopectat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4456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03796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Anticholi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 intestinal muscle tone and peristalsis of GI tr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esult: slowing the movement of fecal matter through the GI tr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elladonna alkaloids (Donnatal)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tropine, hyoscyam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4456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193032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Intestinal Flora Modifier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Bacterial cultures of Lactobacillus organism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k by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pplying missing bacteria to the GI tr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uppressing the growth of diarrhea-causing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actobacillus acidophilus (Lactinex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4870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ntidiarrheals: 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193032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Opiate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 bowel motility and relieve rectal spasm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ecrease transit time through the bowel, allowing more time for water and electrolytes to be absorbed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114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aregoric, opium tincture, codeine,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operamide, diphenoxyla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homoud alharbi</cp:lastModifiedBy>
  <dcterms:modified xsi:type="dcterms:W3CDTF">2016-03-25T16:26:12Z</dcterms:modified>
  <cp:revision>66</cp:revision>
  <dc:subject/>
  <dc:title>PowerPoint Presentation</dc:title>
</cp:coreProperties>
</file>