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7D1-8EBF-4425-98A7-6F891BDD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DFA-5A73-488D-9D65-F4787E5A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136-B7D6-4BEA-BA51-CE463A76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D09-E5D0-4FB6-87CF-4189CF0B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0DEB-BA11-4F1A-96E6-247F18E5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8F08-A2CD-4368-9893-AB063771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F2B2-8F64-4AE9-95E5-4B2E273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9DDD-2DE5-492F-B6B5-63AAA9E4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8E66-2024-4C7A-ADDC-537F83AA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5BDB-EC7F-4E72-93EF-DF433817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844D-91E8-415D-8337-3ED437C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C17-7ABF-448A-8B14-D3094945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411D-107A-4F53-B7D9-E7B1879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1121-5B47-4CF7-809A-54E464AB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93C7-84A9-4E4B-B515-DE909A15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F5D3-2435-47FC-86B4-60B2113E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A597-84DA-4575-9208-5AB8AEB7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BEEC-0DE3-4037-990B-7E3589CC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60E1-988D-4917-A83D-EC9FA5C1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2165-4292-40C7-80DD-1B466CDE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5E6E-F8CB-4044-B6BE-51388CC5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F603-EDA6-4F2A-B4A3-517F6DD0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E66-0F8F-410D-B7CC-0DCB409F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7084-B197-4353-8A88-B6A50C34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2AD4-2D39-4D4D-A7E1-71E3200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580E-98A4-4D19-8EBA-FFB4E69B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C359-1B82-450E-A88C-7D578E50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690E-2E4E-48A3-A425-3EED4849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8381-77A0-4F51-8B51-C7A88F3E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A8AC-6E2B-41AB-A709-1C13C682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54C8-C821-4A76-84BC-23DCA064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F2B5-5D12-48AE-B297-4B32FF3A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021C-6E54-49DD-A514-27D852D3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B30-1478-485D-BFD9-EE090C59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E2F9B-E7C7-4AFB-B039-03B81911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BC2D-603C-49B9-B0F0-29ABD609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1EBD4-D6D6-496E-9565-3F2980DF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8FE4-896A-47E7-877E-D910561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D418-15F6-4FBB-B0CD-1EE4E23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8A38-BE93-464E-8ACF-7701401E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2AC8-88CE-4A3E-B5E3-D5869985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AB59-6FF6-441B-914A-689D9BFF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5DA6-066C-4603-A058-C818FD44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405-EF8F-4B10-A9D3-AE3686B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6C1-5717-49C2-A9DA-748762EC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808-EF3D-4688-844C-092C218F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CD1-1912-4683-90E8-E2DF3DE3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33C-C703-45F6-AC5F-E13836E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FB6F-1874-47CD-9F13-9635D3A07F27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6D9D-29AC-4319-BB67-BF20D719EE75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4A4E-34DA-4BBA-8E98-9FDE7D4E5222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0F91-1E3D-4743-8A34-96CDC31FC0B4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81080" y="2519280"/>
            <a:ext cx="533412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2531880" y="380880"/>
            <a:ext cx="406404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9: Gen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4267080" y="3432240"/>
            <a:ext cx="422928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6"/>
          <p:cNvSpPr/>
          <p:nvPr/>
        </p:nvSpPr>
        <p:spPr>
          <a:xfrm>
            <a:off x="457200" y="609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Huntington’s dis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bout 35 to 45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04920" y="2819520"/>
            <a:ext cx="44956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terioration of the nervous system is irreversible and inevitably fatal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ُمي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tington's disease results in an eventual loss of both mental and physical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ease is also known as Huntington's chorea (means "dance-like movements“) refers to the uncontrolled 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4643280" y="2971800"/>
            <a:ext cx="4500720" cy="3508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960" y="491760"/>
            <a:ext cx="891540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any other disorders have a multifactorial basis.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عوام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have a genetic component plus a significant environmental influen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ltifactorial disorders include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eart disease, diabetes, cancer, alcoholism, and certain mental illnesses, such a schizophrenia and manic-depressive disord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tic component is typicall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olygenic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جين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t present, little is understood about the genetic contribution to most multifactorial disea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51000"/>
            <a:ext cx="762012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ummary of the Human Genetic Disorder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some - Any chromosome other than a sex chromos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domin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, but is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have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- The law of Independent Assortment: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توزيع الحر للـﭽـينات</a:t>
            </a:r>
            <a:br>
              <a:rPr sz="1600"/>
            </a:br>
            <a:br>
              <a:rPr sz="9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ach pair of alleles segregates into gametes independently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320" y="1295280"/>
            <a:ext cx="8991360" cy="56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onduct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ثنائ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52280" y="228240"/>
            <a:ext cx="8382240" cy="130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6320" y="1631880"/>
            <a:ext cx="43434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rm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 each with four classes of alleles combine, there would be 16 equally probable ways in which the alleles can combi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ombinations produce four distinct phenotypes in 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3:3: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as consistent with Mendel’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appeared to be inherited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419720" y="1289160"/>
            <a:ext cx="4657680" cy="556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-103320" y="79200"/>
            <a:ext cx="9247320" cy="920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mating between two parent plan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212" name="Oval 6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218" name="Text Box 12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224" name="Text Box 18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228" name="Text Box 22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5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232" name="Oval 26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8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1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238" name="Line 32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4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5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242" name="Group 36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243" name="Oval 37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Group 38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245" name="Text Box 39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40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41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248" name="Text Box 42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43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Group 44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251" name="Freeform 45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85d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Group 46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253" name="Text Box 47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48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Text Box 49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50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258" name="Group 3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259" name="Oval 4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7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8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 Box 9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0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266" name="Oval 11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2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3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4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16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272" name="Rectangle 17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5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6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7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9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0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1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2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4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5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6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8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9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0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1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53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4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55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6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312" name="Group 59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313" name="Oval 57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8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5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316" name="Oval 60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63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4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any human disorders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راض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follow Mendelian patterns of inheritan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28600" y="1219320"/>
            <a:ext cx="86868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راض وراث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عاق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deadly hereditary disea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وراثية المُميت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ra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 وراثية مُ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range from the relatively mild                                                (albin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بينو، البُهاق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to life-threatening                                                   (cystic fibrosi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because                                                           one “normal” allele produces enough of the                                                               required factors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normal trait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 recessively inherited disorder shows up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ظهر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nl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n the individuals who inheri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omozygou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essive allele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from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omozgyous dominant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ost people with recessive disorders are born from carrier parents with normal phenotyp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wo carriers have a 1/4 chance of having a child with the disorder, 1/2 chance of a carrier, and 1/4 fre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6151680" y="1785960"/>
            <a:ext cx="299232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6858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ystic fibr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ليف الكيسي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lethal recessive disord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One in 25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peopl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is a carri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normal allele codes for a membrane protein that transports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Cl</a:t>
            </a:r>
            <a:r>
              <a:rPr b="1" lang="en-US" sz="1600" spc="-1" strike="noStrike" baseline="30000">
                <a:solidFill>
                  <a:srgbClr val="0000ff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etween cells and the environ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f these channels are absent, there are abnormally high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extracellular levels of chlorid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that causes the mucus coats of certain cells to become thick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سميك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and sticki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زج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an norm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is mucus build-up in the pancreas, lungs, digestive tract, and elsewher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favoring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acterial infect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Without treatment, affected children die before five, but with treatment can live past their late 20’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متنح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200px-Autorecessive_svg"/>
          <p:cNvPicPr/>
          <p:nvPr/>
        </p:nvPicPr>
        <p:blipFill>
          <a:blip r:embed="rId1"/>
          <a:stretch/>
        </p:blipFill>
        <p:spPr>
          <a:xfrm>
            <a:off x="76320" y="3500280"/>
            <a:ext cx="3352680" cy="330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6" name="Rectangle 4"/>
          <p:cNvSpPr/>
          <p:nvPr/>
        </p:nvSpPr>
        <p:spPr>
          <a:xfrm>
            <a:off x="3657600" y="3809880"/>
            <a:ext cx="52578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بله المميت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s caused by a dysfunctional enzym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إنزيم غير عام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at fails to break down specific brain lip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ymptoms begin with seizur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ح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blindness, and degeneration of motor and mental performance a few months after birt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evitably, the child dies after a few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960" y="151920"/>
            <a:ext cx="8839080" cy="565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Sickle-cell diseas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ض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ال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جل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caused by the substitution of a single amino acid in hemoglob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oxygen levels in                                                                            the blood of an affected                                                                  individual are low,                                                                                 sickle-cell hemoglobin                                                                     crystallizes into long                                                                             ro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s deforms red blood                                                                        cells into a sickle sha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ctors can use regular                                                                      blood transfusion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event brain damage                                                                            and new drugs to                                                                                         prevent or treat other                                                                      probl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114800" y="990720"/>
            <a:ext cx="4889520" cy="51051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228600" y="60800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wo alle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s both normal and abnormal hemoglobins are synthes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51920" y="1128240"/>
            <a:ext cx="86108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chondroplasia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ِ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م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ose who are not achodroplastic dwarfs are                                              homozygous recessive for this trai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ethal dominant alleles are much less common                                           than lethal recessives because if a lethal                                                dominant kills an offspring before it can mature                                           and reproduce, the allele will not be passed on                                          future genera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049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ضية السائ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658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User</cp:lastModifiedBy>
  <dcterms:modified xsi:type="dcterms:W3CDTF">2015-03-11T03:45:14Z</dcterms:modified>
  <cp:revision>148</cp:revision>
  <dc:subject/>
  <dc:title>Slide 1</dc:title>
</cp:coreProperties>
</file>